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B9A-7D17-4E5B-91E4-328EE3E3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244-D9EA-4B0A-B786-06C973B1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5D9-B1B0-4AAF-BE89-065D22CC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A4F-C070-4090-87D1-7D2274B1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386-ED15-4082-8680-4C66328C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C77-9889-428E-B30B-ADDC4152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E78-3D4A-456C-B2CF-6DBB331D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FBA-A51A-49D2-9D59-3201460B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439-66A3-47B3-BA34-E85CBCE3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D9C-AD2C-460E-8EE4-7FF401FC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3DE-C687-41BB-84DC-0CF4C07F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4DC-74C7-45CC-91A5-210E42F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C7FD-D638-4324-B917-069F7E69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i.com/university" TargetMode="External"/><Relationship Id="rId2" Type="http://schemas.openxmlformats.org/officeDocument/2006/relationships/hyperlink" Target="http://www.ti.com/europe/university" TargetMode="External"/><Relationship Id="rId3" Type="http://schemas.openxmlformats.org/officeDocument/2006/relationships/hyperlink" Target="http://www.ti.com/ww/ru//universities.htm" TargetMode="External"/><Relationship Id="rId4" Type="http://schemas.openxmlformats.org/officeDocument/2006/relationships/hyperlink" Target="http://www.ti.com/ww/mx/" TargetMode="External"/><Relationship Id="rId5" Type="http://schemas.openxmlformats.org/officeDocument/2006/relationships/hyperlink" Target="http://www.ti.com/ww/br/" TargetMode="External"/><Relationship Id="rId6" Type="http://schemas.openxmlformats.org/officeDocument/2006/relationships/hyperlink" Target="http://focus.ti.com.cn/cn/tihome/docs/homepage.tsp" TargetMode="External"/><Relationship Id="rId7" Type="http://schemas.openxmlformats.org/officeDocument/2006/relationships/hyperlink" Target="http://web.tik.co.jp/jsc/docs/univ/univ/html" TargetMode="External"/><Relationship Id="rId8" Type="http://schemas.openxmlformats.org/officeDocument/2006/relationships/hyperlink" Target="http://www.ti.com/in/university_prog.htm" TargetMode="External"/><Relationship Id="rId9" Type="http://schemas.openxmlformats.org/officeDocument/2006/relationships/hyperlink" Target="http://www.tikorea.co.kr/about_tikorea/" TargetMode="External"/><Relationship Id="rId10" Type="http://schemas.openxmlformats.org/officeDocument/2006/relationships/hyperlink" Target="http://www.ti.com.tw/html/dsp.htm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-k.ext.ti.com/sc/technical-support/pic/americas.htm" TargetMode="External"/><Relationship Id="rId2" Type="http://schemas.openxmlformats.org/officeDocument/2006/relationships/hyperlink" Target="http://www-k.ext.ti.com/sc/technical-support/pic/euro.htm" TargetMode="External"/><Relationship Id="rId3" Type="http://schemas.openxmlformats.org/officeDocument/2006/relationships/hyperlink" Target="http://www-k.ext.ti.com/sc/technical-support/pic/japan.htm" TargetMode="External"/><Relationship Id="rId4" Type="http://schemas.openxmlformats.org/officeDocument/2006/relationships/hyperlink" Target="http://www-k.ext.ti.com/sc/technical-support/pic/asia.htm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ocus.ti.com/docs/toolsw/folders/print/tmdsdock28335.html" TargetMode="External"/><Relationship Id="rId2" Type="http://schemas.openxmlformats.org/officeDocument/2006/relationships/hyperlink" Target="http://focus.ti.com/docs/toolsw/folders/print/tmdsdsk6416.html" TargetMode="External"/><Relationship Id="rId3" Type="http://schemas.openxmlformats.org/officeDocument/2006/relationships/hyperlink" Target="http://focus.ti.com/docs/toolsw/folders/print/tmdsdsk6416.html" TargetMode="External"/><Relationship Id="rId4" Type="http://schemas.openxmlformats.org/officeDocument/2006/relationships/hyperlink" Target="http://focus.ti.com/docs/toolsw/folders/print/tmdsdsk6713.html" TargetMode="External"/><Relationship Id="rId5" Type="http://schemas.openxmlformats.org/officeDocument/2006/relationships/hyperlink" Target="http://focus.ti.com/docs/toolsw/folders/print/tmdsezd2812.html" TargetMode="External"/><Relationship Id="rId6" Type="http://schemas.openxmlformats.org/officeDocument/2006/relationships/hyperlink" Target="http://focus.ti.com/docs/toolsw/folders/print/tmdsezd2812.html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-a.ti.com/apps/dspuniv/teaching_rom_request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-a.ti.com/apps/dspuniv/teaching_rom_request.a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niver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’s University Program is represented in the US, Europe, Russia, South and Latin America, China, Korea, Japan, India and Taiw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 is dedicated to supporting educators, researches and post-graduate students across the signal chain by including world-class, real-time, DSP and Analog tools into electronic and engineering research and course curric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n We Do For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offer you and your institution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University Pr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stricted access to TI 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 discount on all TI 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ly News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vers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gram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ound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–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ti.com/universi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–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i.com/europe/universi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 –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ti.com/ww/ru//universities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in America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i.com/ww/mx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America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ti.com/ww/b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1.ti.com.cn/u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 –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eb.tik.co.jp/jsc/docs/univ/univ/htm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ti.com/in/university_prog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ea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tikorea.co.kr/about_tikore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wan –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ti.com.tw/html/dsp.ht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o We Sup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ppor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edded Processors: C2000, C5000 and C6000 DSPs tools are included, as are the MSP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controller Too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og: Data Conversion, Power Managemrent and Low-Power RF (“ChipCon”/”ZigBee”) tool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ist system-on-chip tools that have been developed for narrow markets, such as SDR, RFI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SM/3G Chipsets, Image Sensors, TMS470 Automotve Microcontrollers, and several oth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rt-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such as the DaVinci video boards are less clear-cut: the DSP-only parts like 6437 are included, b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are cautious about the dual-core or ARM-only parts where TI is not able to fully support the 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Linux environments that these are optimised f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AP3 (OMAP3530 and BeagleBoard) are being promoted to Universities, but there are limitations on 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. We may have to refer you to the open-source forums and other sources of suppo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ppo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 -  (972) 644-5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 – 00800 275 83927, +7 495 981 0701 (Russian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e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 - +81-3-3344-53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e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du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controll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SP430F5338 Experimenter K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l for OEMs to use for initial device exploration and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6416 DS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6713 DS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asiest DSKs to get start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2812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Zd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es the essential key features to allow users to understand the TMS320F812 characterist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Lab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ome of analog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A-TI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to use, but powerful circuit simulation program based on a SPICE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CPro(TM) ADC Evaluation Software 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ar software system for evaulating ADCs without the need for expensive analyzers or complex anaysis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Filter Design Application SwitcherPro(TM)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ine Design Creator and Management Software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aterials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ques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SP43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eaching 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provide supplementary material to help educators and academics in the teaching of microcontrollers (MCUs), using devices from the Texas Instruments MSP430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TLA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ULI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Real-Time with T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s on work-flow and application-based teaching rather than individual DSP algorithms implementation. The ROM contains a suite of example applications in various fields such as Audio, Video, Imaging, Communications and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aterials #2</a:t>
            </a:r>
            <a:br>
              <a:rPr sz="44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ques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2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aching 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D-ROM is designed to support teachers and professors teaching DSP-based control using the TI TMS320C2000 DSP plat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5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aching 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OM covers both the hardware part of the ‘C5000 platform (Architecture, description of each peripheral) and the implementation (FIR and IIR filters, image compression, and m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6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aching RO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OM covers TMS320C6416, TMS320C6713 and TMS320C6711 DSK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4:15:23Z</dcterms:created>
  <dc:creator>X0098012</dc:creator>
  <dc:description/>
  <dc:language>en-US</dc:language>
  <cp:lastModifiedBy>X0098012</cp:lastModifiedBy>
  <dcterms:modified xsi:type="dcterms:W3CDTF">2009-02-20T11:37:36Z</dcterms:modified>
  <cp:revision>14</cp:revision>
  <dc:subject/>
  <dc:title>The University Program</dc:title>
</cp:coreProperties>
</file>