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006-40C8-4D4A-8FA3-77AA7BEE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587-1C46-4936-AC60-20432F50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6C3-8683-4D9F-AE44-075046A6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C9A-8FFB-4EA7-AB89-B159FD34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220-96FB-4AA5-98FC-8D4A34F6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E8B-38A7-4737-8D9B-4894EAE9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183-FC34-4ADD-BEFD-2BF4353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016-5D1C-4099-8D44-839CEED2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C60-F6A0-4FEE-A110-C5931F08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EEE-F289-4BAD-908B-BB196CC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501-345C-4B70-AF85-DD3F71C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383-06E0-4C4C-9129-9D13E25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56C-B7F4-4D04-9055-7984410ED7F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5.xml"/><Relationship Id="rId6" Type="http://schemas.openxmlformats.org/officeDocument/2006/relationships/slide" Target="slide59.xml"/><Relationship Id="rId7" Type="http://schemas.openxmlformats.org/officeDocument/2006/relationships/slide" Target="slide68.xml"/><Relationship Id="rId8" Type="http://schemas.openxmlformats.org/officeDocument/2006/relationships/slide" Target="slide70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Introductory Overview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3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nary Number Base Syste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uters can only take two states, so they use the base binary (base 2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tates allowed are “open” or “closed”, “high” or “low”, “1” or “0 ”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0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= 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2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078520"/>
            <a:ext cx="9144000" cy="15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25A-CEAA-4A7B-9E6E-C6F77ACEF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4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exadecimal Number Base Syste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difficulty that arises from the binary system is that it is verbo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represent the value 202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base 2 (binary) requires eight binary dig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ecimal version requires only three decimal digits and so represents numbers much more compactly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hexadecimal (base 16) numbering system solves these problems. Hexadecimal numbers offer two useful featu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adecimal numbers are very compac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easy to convert from hexadecimal to binary and binary to hexadecim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356-4262-4434-A030-6CA0E1CF9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5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exadecimal Number Base Syste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: {0, 1, 2, 3, 4, 5, 6, 7, 8, 9, A, B, C, D, E, F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ation comes directly from the binary re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0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lit the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0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groups of 4 bits from right to le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d out the short group with zeros at the front of the second group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001 010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1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0ABC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rt each hexadecimal digit to its binary counterpar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= 0000 1010 1011 1100 1101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0C3-775F-4F48-AC75-197CAD9FE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6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imal to Binary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Decimal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72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binary conver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72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700 + 20 + 1 = 7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+  2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+  1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024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(Higher than 3rd power decimal value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512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MSB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721 - 512 = 20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256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gher tha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0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he 2nd bi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2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3rd bit is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09 - 128 = 8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64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4th bit is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81 - 64  =  1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32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gher tha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he 5th bit is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6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6th bit is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7 - 16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gher than 1, the 7th bi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gher than 1, the 8th bi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2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gher than 1, the 9th bi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th bit - LSB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x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72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01101000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811-C9B1-444B-A691-4937934038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7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conversion method consists of continuously subtracting the highest power of 2 not higher than the remainder. If it can be subtracted, mark the corresponding position with '1', else with '0'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imal to Binary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method: Continuously divide by 2. The division remainder value is the corresponding position binary dig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00 + 3 = 1x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+  0x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+  3x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3/2 = 5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1 (LS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51/2 = 2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5/2 = 1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/2 = 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6/2 = 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3/2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/2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: 1 (MS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1001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ED0-9727-412B-8C00-D3A182331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8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nary to Decimal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Convert the binary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1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decimal n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method is the inversion of method presented 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nary number was 7 b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th bit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th bit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th bit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rd bit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nd bit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SB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 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87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1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87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166-83D8-46B7-A776-259E5D7D15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9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nary to Hexadecimal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version from an integer binary number to hexadecimal is accomplished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eaking the binary number into 4-bit sections from the LSB to MS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rting the 4-bit binary number to its hexadecimal equival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Convert the binary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1111101100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hexadecimal n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11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1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1111101100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0xAFB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5C5-26AA-41BA-8133-6963E017F1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0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exadecimal to Binary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version from an integer hexadecimal number to binary is accomplished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rting the hexadecimal number to its 4-bit binary equival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bining the 4-bit sections by removing the spa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Convert the hexadecimal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0AFB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binary n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adecimal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nary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11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1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01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AFB2 = 10101111101100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1B0-969F-453D-9200-E6C6D7B32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1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exadecimal to Decimal Convers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convert from Hexadecimal to Decimal, multiply the value in each position by its hexadecimal weight and add each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Convert the hexadecimal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0AFB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decimal n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*1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*1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*1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*1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*409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5*25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*1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*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40960    +  3840    +   176     +   2   =  4497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0AFB2 = 4497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465-FAB7-406D-B06B-8B3B913D5D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2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imal to Hexadecimal Conversion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eated Division by 16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Convert the decimal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4497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hexadecimal n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s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otien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ainde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adecimal n.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44978/1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811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2811/1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75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75/1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B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/16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AFB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4497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0x0AFB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E8D-94E4-402F-9A3F-D4D6933C56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Analogue and digital signals and system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Mathematical nota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Floating and fixed-point arithmet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How to read technical datashe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Programming issu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Operators and expres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Good software practices for low power consump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C1B-AD99-43AD-9F8B-B2F13F54E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3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m of two binary numb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110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+  000101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1100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plication of two binary numb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110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x   01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110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110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+ 00000000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001011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9FB-A85D-4531-9508-68E3863D6F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4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egative numbers represent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’s complement no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’s complement n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ne’s complemen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lement each bit of the number represen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001 010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’s compleme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10 10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 = 1, means that the representation corresponds to a negative numb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ever, this representation cannot be used directly to carry out mathematical operations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– it gives wrong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BC4-129E-45B4-ACD0-B41B9DF41C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5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o’s complemen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form one’s complement and then add 1 to the resu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ask "subtract two numbers" has been transformed into "add the complement" - so a total different operation 'ADD' instead of 'SUB'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001 0100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’s compleme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10 1011 + 1 = 1110 1100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Subtraction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 1101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 0001 0100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1 1101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+ 1110 1100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&lt;- Two’s complement re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100 1001</a:t>
            </a:r>
            <a:r>
              <a:rPr b="0" lang="en-GB" sz="18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Positive result: MSB =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BB7-9EE5-4FDD-BB15-C973691F41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6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o’s complemen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iminates the double representation of the zero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s addition and subtraction operations to be carried out without need to take the sign of the operands into accou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Subtraction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 00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- 0001 01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10 00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1110 10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&lt;- Two’s comp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00 110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(Negative result: MSB =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D7E-8783-4E11-AE2A-AA2FD2E671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o different way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xed-poi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oating-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xed-point represent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s us to represent the fractional pa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s less processing resources than floating-poi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4C3-4791-4026-A0FC-19E36F080B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2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0720" y="1197000"/>
            <a:ext cx="878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nary base signed numbers repres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e sign and absolute value no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 is reserved to the sign (0: positive; 1: negativ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nitude of the value is represented by the others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ue of zero has two representations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xed point representation notation: signed numb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065560"/>
            <a:ext cx="914400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22C-7603-49D9-9352-09EABBA449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3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0720" y="1197000"/>
            <a:ext cx="878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xed-point numerical repres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sily implemented within a short memory spa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pid to impl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ited to real-time applications that do not have a floating point coprocess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fixed point integer value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ith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its, is given by the notation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Qp.q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unsigned (no sign b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 + q = 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dentifies an unsigned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its: integer compon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its: fractional compon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m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oluti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485120" y="4133880"/>
                <a:ext cx="11905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84360" y="523728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27240" y="5931000"/>
                <a:ext cx="1113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1FD-35CE-4CB7-BF22-EBC5D95937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4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1080" y="1195200"/>
            <a:ext cx="8712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xed point numerical repres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421000"/>
          <a:ext cx="9144000" cy="3725640"/>
        </p:xfrm>
        <a:graphic>
          <a:graphicData uri="http://schemas.openxmlformats.org/drawingml/2006/table">
            <a:tbl>
              <a:tblPr/>
              <a:tblGrid>
                <a:gridCol w="1422360"/>
                <a:gridCol w="1287360"/>
                <a:gridCol w="1285920"/>
                <a:gridCol w="1287720"/>
                <a:gridCol w="1285560"/>
                <a:gridCol w="1287720"/>
                <a:gridCol w="1287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UQ16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UQ.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Q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Q.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UQ16.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Q15.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9E3-F7FB-4AC6-AC0D-9440E44390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5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0720" y="1195560"/>
            <a:ext cx="8783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ixed-po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rt the decimal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3.04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to hexadecim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mal representation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3.04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er componen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7B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actional componen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.04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0.0B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3.04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7B.0B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14D-3585-451C-8210-4265988CEF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6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95560"/>
            <a:ext cx="896472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ixed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rt the decimal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8751.13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to a hexadecimal re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er componen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875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222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actional componen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.13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0.22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8751.135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222F.228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AB5-02D3-4949-9B8F-25DA2A51D4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nalogue and Digital Signals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nature, any measurable quantity in time or in space can be considered a signa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The velocity of a body, as function of time or as function of position, can be represented by a signal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alogue signal ca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 every value possi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wing through a “continuum” of valu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 information at every instant of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digital signal assumes only a finite number of values at only specific points in tim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E34-C0EA-4FDA-8822-739DB83C4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7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195560"/>
            <a:ext cx="87836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floating-point number representation, the radix point position can float relatively to the significant digits of the numb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detail allows the support of a much wider range of values when compared with the fixed point number represen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fore 1958 IEEE 754 standard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loating-point representation of numerical values was made through different formats and word width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wadays, the IEEE 754 standard is accepted almost by all kind of computers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B79-9EE2-4F44-ADBA-ECC93A3076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BB1E-AB32-4867-AE55-064515B8BD0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8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195200"/>
            <a:ext cx="87836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m the set of formats supported by IEEE 754 standard, the most widely used are the single-precision (32-bit) and double-precision (64-bi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over, the standard also establishes others kinds of formats: "quad" binary and decimal floating-point (128-bit); and double decimal floating-point (64-bi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ss used are the extended precision (80-bit) and half-precision (16-bit) formats. The last one appears in the IEEE 754r proposed revi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 current version is IEEE 754-2008, which was published in August 2008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07D-B0E0-4F30-A2C1-FBB13A7FCC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0ECD-3E61-4F2D-B305-907F415AA1B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9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0720" y="1195200"/>
            <a:ext cx="87836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e data structure of floating-point numbers, the most significant bit is the sign bit (S), followed by the exponent that is bi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antissa without the most significant bit is stored after the exponent in the fraction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xponent is biased by the (2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 −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− 1, wher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exponent number of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solution was adopted because exponents must be signed, and the two's complement representation will require extra computational work if it wa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8353440" cy="5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86D-AAE7-42A6-BB7C-A1066ED4D1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0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of the biased exponent and mantissa determines the data mean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is said to b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normaliz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most significant bit of the mantissa is 1), if exponent ranges between 0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−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is said to b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de-normaliz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most significant bit of the mantissa is 0), if the exponent is 0 and fraction is not 0.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ost important de-normalized numbers: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+0.0: 0x00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-0.0: 0x8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1DE-06BA-4DC0-BB48-91694388AE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1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195560"/>
            <a:ext cx="87854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of the biased exponent and the mantissa determines the data mean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is ±0 (depending on the sign bit), if exponent is 0 and fraction is 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is ±infinity (depending on the sign bit), if exponent = 2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− 1 and fraction is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being represented is not a number (NaN), if exponent = 2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− 1 and fraction is not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889-BFF6-438C-ABC3-ADC351F291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2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0720" y="1195200"/>
            <a:ext cx="87836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EEE 754 binary formats have the following organiz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number X has the val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2997360"/>
          <a:ext cx="9144000" cy="1674720"/>
        </p:xfrm>
        <a:graphic>
          <a:graphicData uri="http://schemas.openxmlformats.org/drawingml/2006/table">
            <a:tbl>
              <a:tblPr/>
              <a:tblGrid>
                <a:gridCol w="1071720"/>
                <a:gridCol w="718920"/>
                <a:gridCol w="1359000"/>
                <a:gridCol w="1958760"/>
                <a:gridCol w="1289160"/>
                <a:gridCol w="2746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onent b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ntis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number of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27200" y="5535720"/>
                <a:ext cx="432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ponen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on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ntiss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B3C-6560-49B1-9D5D-36D8AF34CC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3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0720" y="1195200"/>
            <a:ext cx="87836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xample 3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der the decimal numbe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4.2352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integer part can be converted to the binary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ile the fractional number part is converted to the binary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.001111000010100011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can be represented in the binary base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.001111000010100011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70B-4B16-4C82-AEAB-3AE4E649DD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4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0720" y="1195200"/>
            <a:ext cx="87836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normalization requires that the radix is moved to the lef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11000111100001010001111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can now code the floating-point representation in the single format (32-bit)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gn (1-bit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the number is positiv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onent (8-bit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7 + 3 = 130 = 100000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action (23-bit)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100011110000101000111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fractional part of the mantiss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FCE-F0EB-4ECE-B060-BAF4A49076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oating and Fixed-point Arithmetic (15/1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80720" y="1195200"/>
            <a:ext cx="87836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presentation of fractional numbers: Floating-point (cont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ly, the floating-point c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loating-point code in hexadecimal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x4163C28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2852640"/>
          <a:ext cx="9144000" cy="669960"/>
        </p:xfrm>
        <a:graphic>
          <a:graphicData uri="http://schemas.openxmlformats.org/drawingml/2006/table">
            <a:tbl>
              <a:tblPr/>
              <a:tblGrid>
                <a:gridCol w="2395440"/>
                <a:gridCol w="3583080"/>
                <a:gridCol w="316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0001111000010100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84B-4B5D-4BC3-8D80-3497B7AFEE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How to Read Datasheets (1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nufacturers of electronic components provide datasheets containing the specifications detailing the part/device characteristic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sheets give the electrical characteristics of the device and the pin-out functions, but without detailing the internal opera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re complex devices are provided with documents that aid the development of applications, such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ication not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r's guid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igner's guid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ckage drawing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7C4-7DD3-413D-BB68-DC10B58859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ogue and Digital Signals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: analogue signa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30520" y="2122560"/>
            <a:ext cx="5663880" cy="42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845-CC1E-436C-92BA-844F523D7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How to Read Datasheets (2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sheets include inform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cerning the part number of the device or device seri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ectrical 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ximum and minimum operating voltag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rating temperature range e.g. 0 to 70 degrees 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 drive capacity for each output pin, as well as an overall limit for the entire chi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frequenci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n out electrical characteristics (capacitance, inductance, resistanc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ise tolerance or the noise generated by the device itsel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hysical tolerance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E1A-3C2B-4241-9F98-6938B9912F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91240" y="2708280"/>
            <a:ext cx="3452760" cy="3529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How to Read Datasheets (3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 device datashe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evice has a large number of periphera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ach input/output pin usually has more than one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t has a table with the description of each pin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ample, Pin number 2 = P6.3/A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igital Input/Output Port 6 bit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3rd analogu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C7D-2911-4E37-8329-F13A9A21308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How to Read Datasheets (4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 User’s Gui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ost peripherals are represented by Block Diagra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Part of the MSP430F44x clock module block diagram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38494"/>
          <a:stretch/>
        </p:blipFill>
        <p:spPr>
          <a:xfrm>
            <a:off x="3564000" y="2637000"/>
            <a:ext cx="5545080" cy="36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9D1-BC8F-4008-B028-A5C8B8FEC8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How to Read Datasheets (5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 User’s Gui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Part of the MSP430F44x clock module block diagram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Detail SELM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plexed block: (4 inputs and 1 output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Mx = 00: Output routed to the 1st multiplexer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Mx = 01: Output routed to the second one and so on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Mx is a 2-bit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nemon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LM1 (MSB), SELM0 (LS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use the peripheral, it is necessary to find out how the register(s) need to be configu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Mx is in the FLL_CTL1 regist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956720" y="1916280"/>
            <a:ext cx="6062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0AF-E2C2-4946-B91C-B04F2ACC3C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How to Read Datasheets (6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9920" y="1196640"/>
            <a:ext cx="8866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 User’s Gui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Mx are the 3rd and 4th bits of FLL_CTL1 control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2774880"/>
          <a:ext cx="9144000" cy="3591000"/>
        </p:xfrm>
        <a:graphic>
          <a:graphicData uri="http://schemas.openxmlformats.org/drawingml/2006/table">
            <a:tbl>
              <a:tblPr/>
              <a:tblGrid>
                <a:gridCol w="816120"/>
                <a:gridCol w="1296720"/>
                <a:gridCol w="70311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able the submain clock signal (SMCLK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in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able the second crystal oscillator (XT2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in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master clock (MCLK) sourc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0 0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0 1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submain clock (SMCLK) sourc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auxiliary clock (ACLK) signal divide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ider factor: 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1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ider factor: 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2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ider factor: 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3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ider factor: 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0D1-AE2D-4433-A1F2-65C1E6E8DF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1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programming langua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is an algorithmic langu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was developed for operating system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based on express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expression can be the result of an operation or a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 flow control is achieved using a set of appropriate structures that enable the choice, based on a logic operation, of the sequence of operations to be performed by the CP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se structures allow cyclic execution of expressions that compose a block of program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CA0-76C7-40D2-ADFF-0AEC91AE84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2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ing sty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tyle used in writing the code constrains the ease with which the program can be read, interpreted or redeploy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aintenance of the written source code, when adhering to a coding standard is easy to interpret, maintain and ch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ers can develop their own programming style. However, for team work, they must meet a set of rules that provide uniformity to allow  easy interpretation of the code by all team memb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et of typical rules for a programming “house style” are now giv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9E6-EDF0-4435-90FC-E2DC442648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3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ing style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ariables definitions conven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types names: Start with a capital let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verageVelocity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riable names: Start with a letter and should avoid abbreviated names or the use of ambiguous na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verageVelocity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riables should be initialized when they are declar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se of global variables should be avoided (permanently use memory, but can make execution faster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local variables whenever possible (used memory freed up after use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50C-DCF0-4D42-9521-A0A58951F9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4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ing styles: Variables definitions conven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erative control operation variables are identified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tants: All in capital let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s: use verbs and always start with a small let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calculateVelocity( 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ctivateOutput( 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ocks  of code must be grouped and separated from each other by one or more blank spa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80D-E74E-4ABC-8D93-B3454DA261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5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ing styles: Indent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 blocks should be aligned using indentation to highlight the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de with ind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3OUT |= 0x0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(1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(!CMBufIsEmpty()){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polling the command receiver buf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md = CMGetComand()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get the new com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CStop()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stops be action being exec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witch (cmd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se DEMO1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demo1 proced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D70-D4FC-4EBD-BD96-1889B450A35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ogue and Digital Signals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: discrete analogue signa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analogue signal can be discretized in time, using a sampling period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4560" y="2109960"/>
            <a:ext cx="566100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4D8-619D-4E55-AEC2-321765139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6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ing styles: Operato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parated by blank spaces in order to significantly improve their readabi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ds reserved from C programming language must be followed by a blank spa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blank space should be used whenever commas, semi-colon, or colons are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= (4 + c) * 2;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// NOT: a=(4+c)*2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E3E-68C3-4700-963C-C68B39FDDE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7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ing styles: Commen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e code should have additional information provided in the form of comments so it can be clearly interpre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 in a code line: Double diagonal (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ock of comments: Starts with (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) and ends with (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The source code should be written in such a wa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 enough information is provided for the r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 fully understand the function of the code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4A0-51DC-4579-ADFC-757D421DE3B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8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decla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riables can b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ll type (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s reserved to indicate that a function does not return any parame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er data type can represent integer numbers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ign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ues are represented in two’s complement (except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nsign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yp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possible to define a fixed-point format for the integer variables, allowing the representation of fractional compon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DD6-D322-4744-8985-BC6BE85EC5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9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decla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l type numbers are represented by a format (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which allows any fractional number to be represen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s the use of modifiers to change the types of represented d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reduce the range of representation of the variable type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increase the range of representation of the variable ty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ign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specify the signed representation of the variable ty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specify the representation of positive numbers on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B9B-8D72-4E14-8212-EFBD37FA0D4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10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9920" y="1196640"/>
            <a:ext cx="8794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data types (data structure depends on the C compiler's implementation: CCE and IAR for MSP430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916280"/>
          <a:ext cx="9144000" cy="4321080"/>
        </p:xfrm>
        <a:graphic>
          <a:graphicData uri="http://schemas.openxmlformats.org/drawingml/2006/table">
            <a:tbl>
              <a:tblPr/>
              <a:tblGrid>
                <a:gridCol w="2567160"/>
                <a:gridCol w="876240"/>
                <a:gridCol w="1939680"/>
                <a:gridCol w="1819440"/>
                <a:gridCol w="1941480"/>
              </a:tblGrid>
              <a:tr h="31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[bit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ge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ed c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, unsigned c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ort, signed 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’s 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2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signed 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5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, signed 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’s 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2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signed 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5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, signed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’s 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147483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47483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signed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94967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o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EEE 32-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75495e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0282346e+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EEE 32-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75495e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0282346e+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 dou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EEE 32-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75495e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0282346e+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625-AEDC-4BBA-8FC6-22D20F0CB07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11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laration of variab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st always be made at the beginning of a prog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variables: Accessible throughout the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al variables: declared within one function and are only accessible during the execution of this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variable is declared within a program block, it is only accessible while the flow of the program is underway within the bl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343-55FA-4BFF-A002-1ADBCEA806E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12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dentifiers nam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ximum number of characters is 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ly use letters, numbers, or the character '_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character must be a letter or character '_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e sensi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riable name cannot be the same as a reserved keyword in the programming language or to a routine n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nsigned int weight;  // unsigned integer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t temperature;      // signed integer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loat speed,          // real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0CF-92AF-4BA4-AA5D-7130634F0A2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13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dentifiers nam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to declare a constant (content is not changed in the course of code implementati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ored in program section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to make reference to variables declared elsewhere, for example in another modu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to store a variable in a processor’s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motes faster access to the contents of the vari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ly used locally and depends on the register’s availabi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B98-9AA5-4207-B1B8-A090BE4C833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gramming Issues (14/1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dentifiers nam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declared within a function or a program block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ources occupied are released, and with them their cont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serves the variable even after a function or block has been execu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if an event outside the program can change the content of a variable, for example an AD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tatement using this descriptor informs the compiler that this variable should not be optim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720-D373-4624-A0B0-819B984493B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1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ithmetic operators: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611280" y="1639800"/>
            <a:ext cx="10368000" cy="524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5AF-8EAD-4031-A85E-B7924AADFDE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ogue and Digital Signals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formation contained in the signal only can be used by a computer if an amplitude conversion from the analogue domain to the digital domains is perform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signa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s off all values to a certain precision or a certain number of dig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signal advanta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iness of data storage and manipu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41C-D867-448E-9014-3017D2E0E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2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lational operators: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684360" y="1700280"/>
            <a:ext cx="10441080" cy="33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C6E-27E7-4CED-8E08-4D8034C5DE0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3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ther operators: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12760" y="1484280"/>
            <a:ext cx="8713800" cy="531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6DF-D448-416B-8F59-19DE3774497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4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act forms: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628640"/>
          <a:ext cx="9144000" cy="4016520"/>
        </p:xfrm>
        <a:graphic>
          <a:graphicData uri="http://schemas.openxmlformats.org/drawingml/2006/table">
            <a:tbl>
              <a:tblPr/>
              <a:tblGrid>
                <a:gridCol w="4635360"/>
                <a:gridCol w="4508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act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igin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+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+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-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-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*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*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/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/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%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%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&amp;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&amp;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|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|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^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^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&lt;&l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&lt;&lt;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&gt;&g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= x &gt;&gt;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14A-F6A1-43D5-A160-07BAFD3695F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5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iority of operato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584360"/>
          <a:ext cx="9144000" cy="4724280"/>
        </p:xfrm>
        <a:graphic>
          <a:graphicData uri="http://schemas.openxmlformats.org/drawingml/2006/table">
            <a:tbl>
              <a:tblPr/>
              <a:tblGrid>
                <a:gridCol w="1084320"/>
                <a:gridCol w="3906720"/>
                <a:gridCol w="4152960"/>
              </a:tblGrid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)  []  -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ping, scope, array/member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!  ~  +  - 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of type cast (most) unary operations,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  / 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ication, division, mod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 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ion, sub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&lt;  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wise shift left and 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 &lt;=  &gt;  &g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isons: less-than, 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=  !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isons: equal and not eq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wise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wise exclusive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wise inclusive (normal)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amp;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cal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ical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9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al expression (ternary operat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+=  -=  *=  /=  %=  &amp;=  |=  ^=  &lt;&lt;=  &gt;&g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 oper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atenation ("comma“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872-06BC-4632-86C5-087DC475E30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6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20816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wise operato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-468360" y="1700280"/>
            <a:ext cx="10080720" cy="37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836-594F-4D11-A065-0A3C5E57083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7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856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shif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s shifted out of either end are discarded (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not in assembler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it would placed in Carry bit)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ft-shift (with carr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left arithmetic shift, zeros are shifted in on the righ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777744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EE7-11E7-4CDC-BA55-B33188F227D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8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9920" y="118260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shifts: Left-shif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ft shift operator: (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of places to shift is given as the second argument to the shift operato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 = y &lt;&lt; 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igns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result of shifting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the left by two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shift only one bit should be used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 = y &lt;&lt;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3C4-E959-44AE-A5A6-3C2E1CFDBA2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perators and Expressions (9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4880" y="1182240"/>
            <a:ext cx="879948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shifts: Right-shift (with carry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ign bit is shifted in on the left, thus preserving the sign of the operand;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ght shift operator: (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 = y &gt;&gt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ft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value to the right at attributes the value to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19928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97F-4C0B-4A59-867C-70417A955C9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Good software practices for low power consump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coding tip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local variable as much as possible (Local variables use CPU registers whereas global variables use RA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unsigned data types where possi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pointers to access structures and un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“static const” class to avoid run-time copying of structures, unions, and array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oid modul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nt down “for” loo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8C3-F44D-4036-B883-EDEF48A55EB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Good software practices for low power consump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2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inciples for low power appl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ximize the time in standb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interrupts to control program flo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lace software functions with peripheral hard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 the power of internal periphera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 the power of external devi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ice choice can make a differen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ffective code is a must. Every unnecessary instruction executed is a portion of the battery wasted that will never return.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DAB-07FB-4A93-BABA-96B7DC0C458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ogue and Digital Signals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: quantized digital signa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 of the analogue signal conversion, performed by a 12-bit Analogue-to-Digital Converter (ADC) with 2.5 V full-sca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20720" y="2124000"/>
            <a:ext cx="5688000" cy="424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C75-0E6A-495E-B7E1-8C9732F36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1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An analogue signa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Varies with discontinuiti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Consists of a sequence of high-level and low-level signa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Varies smoothly and continuous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Digital quantiti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Can be maintained with high accuracy and at high speed rat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Can not be compu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Either have slow response or very high accura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402-911A-4C24-A106-9E1B483A981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2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The highest number that can be represented by an unsigned binary 8-bit value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25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25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1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12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he computer performs signed arithmetic us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Unsigned bina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wo’s compl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9FD-801E-4131-9D87-443D18ED39F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3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The representation of the signed binary string: 0111 0101 1011 in hexadecimal and decimal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0x75B , -188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0x8A4 , -188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0x8A4 , 188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0x75B , 188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The main difference between the One’s and Two’s complement representation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One’s complement represents both +0 and -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Inverts the MSB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Inverts the LSB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The Two’s complement representation inverts all bits and adds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E4A-D2F0-4FB6-AC49-9F6E57511DA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4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In Two’s complement representation, a 1 in the MSB bit indicat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positive numb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 negative numb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 complex numb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Car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8. The value of 1101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in Two’s complement binary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-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-1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-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EC9-98B4-4353-AD35-3D7B2DEA09C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5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9. The value of the string  1100.011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in unsigned binary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-4.37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12.37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4.37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-12.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0. The following addition will result in carry in the unsigned binary interpretation of the resul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0111 1111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+ 0000 0010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1000 0000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+ 1000 0000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0111 1111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+ 1000 0000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FA1-7C60-46AA-BEDA-E1748B799C6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6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1. The represent of the decimal number −36 in hexadecimal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0xD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0x2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0xD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0x2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2. A signed addition will cause an overflow wh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re is a carry out of the LS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re is a carry out of the MS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dding two negative numbers results in a positive resu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The magnitude of the result is smaller than the magnitude of the smaller oper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0AE-C8E4-43AD-BA25-74E0C9B808B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7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9920" y="1187280"/>
            <a:ext cx="8734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Vary smoothly and continuous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a) Can be maintained at high accuracy at high speed r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b) 25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b) Two’s compl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d) 0x75Bh , 1883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d) The One’s complement represents both +0 and -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 negative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(d) -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9. (b) 12.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0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1000 0000 + 1000 0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1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D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2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dding two negative numbers results in a positive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FBF-C922-4E08-91BF-B6EAA2C9196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1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base number is a notation that through symbols represents a consistent numerical valu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pending on the numerical basis, the representation 11 may correspond to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even for the base decimal (or radix decim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for the base bina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 some other number, depending on the base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imal numerical base representation re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2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3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4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3FD-B161-431D-8534-A15DFBD6E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thematical Notations (2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cimal numerical base representation re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2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3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4x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of the symbols is multiplied by a weight of base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it moves from right to left the weight is increa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eral form for a number in bas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n-1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n-2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n-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+ ... +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0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length of the numerical represen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n-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…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} is the numerical representation ordered increasingly (natural numbers of the set {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0, …,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}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4D8-FF23-4C64-8A64-9C60B10281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20T10:01:42Z</dcterms:modified>
  <cp:revision>104</cp:revision>
  <dc:subject/>
  <dc:title>Diapositivo 1</dc:title>
</cp:coreProperties>
</file>