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3F23-1058-4AAC-A353-147BABD528C8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2F41-B788-4C88-8783-A7669527DA5F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E5E9B-F06D-4194-A63D-79DAC9D2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CE54-F26A-4428-9D69-7C213F8D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91B6-11E4-48DA-8BAD-9AD41F71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05228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36160"/>
            <a:ext cx="264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7266-6519-47C7-B518-D85C02C9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3722-0267-4160-B970-8316F369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FE7B-5271-4753-A133-92359156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3D32-4B62-4CC9-B50A-C82B685B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995F-15DC-4BA1-AC95-499F9922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1280" y="115920"/>
            <a:ext cx="792144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D33A-FC58-44D5-87B7-078C61F9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7E8C-1F04-47A4-962B-B871FB92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3616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87594-ACCE-434F-9E97-C6DCC57E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052280"/>
            <a:ext cx="4015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36160"/>
            <a:ext cx="82296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8171-EB9F-4D0A-972E-BE7314FF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7f7f7f">
                  <a:alpha val="90196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876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26EF-6A95-4E13-A912-AE9C39B1937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"/>
          <p:cNvPicPr/>
          <p:nvPr/>
        </p:nvPicPr>
        <p:blipFill>
          <a:blip r:embed="rId2"/>
          <a:stretch/>
        </p:blipFill>
        <p:spPr>
          <a:xfrm>
            <a:off x="0" y="44280"/>
            <a:ext cx="604800" cy="8478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1" descr=""/>
          <p:cNvPicPr/>
          <p:nvPr/>
        </p:nvPicPr>
        <p:blipFill>
          <a:blip r:embed="rId3"/>
          <a:stretch/>
        </p:blipFill>
        <p:spPr>
          <a:xfrm>
            <a:off x="8572680" y="333360"/>
            <a:ext cx="571320" cy="542880"/>
          </a:xfrm>
          <a:prstGeom prst="rect">
            <a:avLst/>
          </a:prstGeom>
          <a:ln w="0">
            <a:noFill/>
          </a:ln>
        </p:spPr>
      </p:pic>
      <p:sp>
        <p:nvSpPr>
          <p:cNvPr id="8" name="Text Box 22"/>
          <p:cNvSpPr/>
          <p:nvPr/>
        </p:nvSpPr>
        <p:spPr>
          <a:xfrm>
            <a:off x="73080" y="8031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U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-844560" y="63468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ffff"/>
                </a:solidFill>
                <a:latin typeface="Verdana"/>
              </a:rPr>
              <a:t>&gt;&gt;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6044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PT" sz="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6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Chapter 10</a:t>
            </a:r>
            <a:br>
              <a:rPr sz="3000"/>
            </a:br>
            <a:r>
              <a:rPr b="1" lang="pt-PT" sz="3000" spc="-1" strike="noStrike">
                <a:solidFill>
                  <a:srgbClr val="000000"/>
                </a:solidFill>
                <a:latin typeface="Verdana"/>
              </a:rPr>
              <a:t>Digital-to-Analogue Conversion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-100080"/>
            <a:ext cx="914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900" spc="-1" strike="noStrike">
                <a:solidFill>
                  <a:srgbClr val="ffffff"/>
                </a:solidFill>
                <a:latin typeface="Verdana"/>
              </a:rPr>
              <a:t>MSP430 Teaching Material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brasao a cores"/>
          <p:cNvPicPr/>
          <p:nvPr/>
        </p:nvPicPr>
        <p:blipFill>
          <a:blip r:embed="rId1"/>
          <a:stretch/>
        </p:blipFill>
        <p:spPr>
          <a:xfrm>
            <a:off x="860400" y="422100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667640" y="4365720"/>
            <a:ext cx="752400" cy="723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5640" y="4220640"/>
            <a:ext cx="676908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Texas Instruments Incorporat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University of Beira Interior (PT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Pedro Dinis Gaspar, António Espírito Santo, Bruno Ribeiro, Humberto Santo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Verdana"/>
              </a:rPr>
              <a:t>University of Beira Interior, Electromechanical Engineering Departmen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msp430.ubi.pt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936F-DB3C-4634-9333-C614F4FD6C9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C characteristic parameters (1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solution (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umber of possible DAC output levels,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n.º of bit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Effective Number Of Bits (ENOB) is the actual resolution achieved by the DAC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ing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into accoun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rors like nonlinearity, signal-to noise 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rati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gral Non-Linearity (INL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iation of a DAC's transfer function from a straight l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fferential NonLinearity (DNL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ce between an actual step height and the ideal value of 1 LS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NL &lt; 1 LSB, the DAC is monotonic, that is, no loss of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996C-D0BD-4546-A921-1A4E932D8A7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C characteristic parameters (2/2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ffset err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alogue output voltage when the digital input is z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ain erro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ce between the ideal maximum output voltage and the actual maximum value of the transfer function, after subtracting the offset err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notonicity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ility of the analogue output of the DAC to increase with an increase in digital code or the conver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tal Harmonic Distortion (TH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tortion and noise introduced to the signal by the DA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ynamic rang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erence between the largest and the smallest signa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7F18-EE09-4742-ACA4-23D27A9E6AE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C12 modu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12 bit DAC12 module is a voltage output DAC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All the MSP430 hardware development tools contain this modul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MSP430FG4618 device on the Experimenter’s board has two DAC12 modules, allowing them to be grouped together for synchronous update operation.</a:t>
            </a:r>
            <a:r>
              <a:rPr b="1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0C38-925F-4E77-B6B4-079623ACEE4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C12 modul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273560" y="1052640"/>
            <a:ext cx="4041720" cy="5256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DAC12 block diagram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4CBA-2470-4F1F-B52D-91F6BF9B9BD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C12 featur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2 bit monotonic outpu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8-bit or 12-bit voltage output resolu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grammable settling time </a:t>
            </a:r>
            <a:r>
              <a:rPr b="1" i="1" lang="en-GB" sz="2000" spc="-1" strike="noStrike">
                <a:solidFill>
                  <a:srgbClr val="000000"/>
                </a:solidFill>
                <a:latin typeface="Verdana"/>
              </a:rPr>
              <a:t>vs.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power consump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nal or external reference selec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raight binary or Two’s complement data forma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lf-calibration option for offset correction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ynchronized update capability for multiple DAC12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rect Memory Access (DMA) enab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8230-C4C2-449B-B7A1-F565B3C3C81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C12 operation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12 cor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ynamic range controlled 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C’s resolution: 8 bits or 12 bits (DAC12RES bi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ll-scale output: 1x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r 3x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DAC12IR bi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put data format: straight binary or two’s complement (DAC12DF bi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utput voltage (straight binary data format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322200" y="4113360"/>
            <a:ext cx="83534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629A-7A28-4301-998A-A7D2421A8DE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C12 operation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12_xDAT Data Forma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The data format modifies the full-scale output voltage: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0D1B-ACFC-4F7E-9831-3B52C418C25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C12 operation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pdating the DAC12 voltage output (DAC12_xDAT reg.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able with the DAC12LSELx bi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C12LSELx = 0: Immediate when new data is writte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C12LSELx = 1: Grouped (data is latche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C12LSELx = 2: Rising edge from the Timer_A CCR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C12LSELx = 3: Rising edge from the Timer_B CCR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2627280" y="3457440"/>
            <a:ext cx="4176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C812-A2D6-457C-A97F-EE4C2FA0ABF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DAC12 operation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12 Interrup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AC12IV is shared with the DMA controll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structure provid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system flexibili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code execution requir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 pow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er efficienc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250920" y="4653000"/>
            <a:ext cx="4968720" cy="1069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2"/>
          <a:stretch/>
        </p:blipFill>
        <p:spPr>
          <a:xfrm>
            <a:off x="5292720" y="2954160"/>
            <a:ext cx="385128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2913-2411-491E-AC22-4B383D08B5C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DAC12 Registers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12_xCTL, DAC12 Control Regist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1557360"/>
          <a:ext cx="9144000" cy="487440"/>
        </p:xfrm>
        <a:graphic>
          <a:graphicData uri="http://schemas.openxmlformats.org/drawingml/2006/table">
            <a:tbl>
              <a:tblPr/>
              <a:tblGrid>
                <a:gridCol w="1255680"/>
                <a:gridCol w="874800"/>
                <a:gridCol w="1065240"/>
                <a:gridCol w="1225440"/>
                <a:gridCol w="969840"/>
                <a:gridCol w="971640"/>
                <a:gridCol w="1303560"/>
                <a:gridCol w="1477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O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SREF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LSEL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CAL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4"/>
          <p:cNvSpPr/>
          <p:nvPr/>
        </p:nvSpPr>
        <p:spPr>
          <a:xfrm>
            <a:off x="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41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2060640"/>
          <a:ext cx="9144000" cy="487440"/>
        </p:xfrm>
        <a:graphic>
          <a:graphicData uri="http://schemas.openxmlformats.org/drawingml/2006/table">
            <a:tbl>
              <a:tblPr/>
              <a:tblGrid>
                <a:gridCol w="638280"/>
                <a:gridCol w="1241280"/>
                <a:gridCol w="1422360"/>
                <a:gridCol w="1238400"/>
                <a:gridCol w="1060560"/>
                <a:gridCol w="1063440"/>
                <a:gridCol w="1241280"/>
                <a:gridCol w="1238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AMP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E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G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2565360"/>
          <a:ext cx="9144000" cy="3840120"/>
        </p:xfrm>
        <a:graphic>
          <a:graphicData uri="http://schemas.openxmlformats.org/drawingml/2006/table">
            <a:tbl>
              <a:tblPr/>
              <a:tblGrid>
                <a:gridCol w="814320"/>
                <a:gridCol w="1595520"/>
                <a:gridCol w="67341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O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outpu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OPS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_0 on P6.6, DAC12_1 on P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OPS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_0 on V</a:t>
                      </a:r>
                      <a:r>
                        <a:rPr b="0" lang="en-GB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REF+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DAC12_1 on P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96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-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REF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reference voltag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REF1 DAC12REF0 = 0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REF1 DAC12REF0 = 0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r>
                        <a:rPr b="0" lang="en-GB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REF1 DAC12REF0 = 1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</a:t>
                      </a:r>
                      <a:r>
                        <a:rPr b="0" lang="en-GB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REF1 DAC12REF0 = 1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</a:t>
                      </a:r>
                      <a:r>
                        <a:rPr b="0" lang="en-GB" sz="10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F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resolution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RES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 bit resol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RES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 bit resol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LSEL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C12 loa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LSEL1 DAC12LSEL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C12_xDAT writ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LSEL1 DAC12LSEL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grouped DAC12_xDAT writ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LSEL1 DAC12LSEL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1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ing edge of Timer_A.OUT1 (TA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LSEL1 DAC12LSEL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1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ing edge of Timer_B.OUT2 (TB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CAL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calibration initialized or in progress when DAC12CALON = 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input range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R = 0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AC12 full-scale output: 3x reference vol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R = 1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AC12 full-scale output: 1x reference vol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F4B1-CDCA-4692-8865-5E8E3343DAE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igital-to-Analogue Converter (DAC) introduct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 typ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’s characteristic paramete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12 modul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aboratory 6: Voltage ramp generato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Qui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E04F-99A1-4112-9C22-364ECB2B224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DAC12 Registers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12_xCTL, DAC12 Control Register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557360"/>
          <a:ext cx="9144000" cy="487440"/>
        </p:xfrm>
        <a:graphic>
          <a:graphicData uri="http://schemas.openxmlformats.org/drawingml/2006/table">
            <a:tbl>
              <a:tblPr/>
              <a:tblGrid>
                <a:gridCol w="1255680"/>
                <a:gridCol w="874800"/>
                <a:gridCol w="1065240"/>
                <a:gridCol w="1225440"/>
                <a:gridCol w="969840"/>
                <a:gridCol w="971640"/>
                <a:gridCol w="1303560"/>
                <a:gridCol w="1477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O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SREF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LSEL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CAL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31"/>
          <p:cNvSpPr/>
          <p:nvPr/>
        </p:nvSpPr>
        <p:spPr>
          <a:xfrm>
            <a:off x="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0" y="41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2060640"/>
          <a:ext cx="9144000" cy="487440"/>
        </p:xfrm>
        <a:graphic>
          <a:graphicData uri="http://schemas.openxmlformats.org/drawingml/2006/table">
            <a:tbl>
              <a:tblPr/>
              <a:tblGrid>
                <a:gridCol w="638280"/>
                <a:gridCol w="1241280"/>
                <a:gridCol w="1422360"/>
                <a:gridCol w="1238400"/>
                <a:gridCol w="1060560"/>
                <a:gridCol w="1063440"/>
                <a:gridCol w="1241280"/>
                <a:gridCol w="1238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AMP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E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G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0" y="2768760"/>
          <a:ext cx="9144000" cy="3539880"/>
        </p:xfrm>
        <a:graphic>
          <a:graphicData uri="http://schemas.openxmlformats.org/drawingml/2006/table">
            <a:tbl>
              <a:tblPr/>
              <a:tblGrid>
                <a:gridCol w="615960"/>
                <a:gridCol w="1490760"/>
                <a:gridCol w="3139920"/>
                <a:gridCol w="1771560"/>
                <a:gridCol w="21258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6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AMP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amplifier setting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MP2 AMP1 AMP0 = 000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MP2 AMP1 AMP0 = 001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MP2 AMP1 AMP0 = 010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MP2 AMP1 AMP0 = 011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MP2 AMP1 AMP0 = 100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MP2 AMP1 AMP0 = 101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MP2 AMP1 AMP0 = 110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MP2 AMP1 AMP0 = 111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: frequency (spe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: curr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put buffer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dium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dium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utput buffer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off (high Z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off (0 V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w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dium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dium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gh f /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data format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DF = 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aight bin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DF = 1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wo’s comp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interrupt enable when DAC12IE =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IF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Interrupt flag DAC12IFG = 1 when interrupt pe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E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 enable when DAC12ENC = 1 and DAC12LSELx&gt;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f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AC12G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roups DAC12_x with the next higher DAC12_x when DAC12GRP = 1 (exception for DAC12_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Marcador de Posição do Número do Diapositivo 6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102C-9E3C-4A84-A2B6-E3556DABC135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Marcador de Posição do Rodapé 7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DAC12 Registers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12_xDAT, DAC12 Data Regist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our most significant bits (bits 15 – 12) are always zer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welve least significant bits store the DAC12 data   (bits 11 – 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AC12 data is right justified, but the MSB depends 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olu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bit: Bit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bit: Bit 1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 form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aight binary: MSB is d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wo’s complement: MSB is sig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271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41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0" y="35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A7A2-31FA-4533-8777-E152788461DC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1/16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verview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laboratory implements a voltage ramp generator. The DAC module reference is obtained from the ADC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AC is configured with 12-bit resolution in straight binary forma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value of the DAC output is updated once every 1 msec by Timer_A interrupt service routine (IS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uttons SW1 and SW2 are used to manually modify the output value of the DA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the microcontroller is not performing any tasks, it enters low power mo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110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8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26F4-7C00-4AAC-A1A9-A52BE5F33C41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2/16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. Resourc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AC12_0 (connected to P6.6) module uses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+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s the reference voltage. It is therefore necessary to activate this reference voltage in the ADC12 modu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utput of the DAC is updated whenever Timer_A generates an interrupt. Timer_A is configured to generate an interrupt with a 1 msec time perio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fter refreshing the output of the DAC, the system returns to low power mode LPM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buttons SW1 and SW2 allow manual changes to be made to the DAC’s output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F8D4-432A-47F3-8CC6-1B1B0813464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3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application starts by stopping the Watchdog T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n, the reference voltage of the ADC12 is activated and set to 2.5 V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a delay time in order for the reference voltage to settl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uring this time period, the device enters low power mode LPM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elay period is controlled by Timer_A, and when the period ends, it enables an interrupt (wakes the devic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674E-639C-4F10-A55A-44900F034B1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(4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. Software application organization (cont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_A is reconfigured to generate an interrupt once every 1 mse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interrupt service routine (ISR) updates the output of the DA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ts P1.0 and P1.1 are connected to the buttons SW1 and SW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y are configured as inputs with interrupt capabili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SR decodes the interrupt sour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button SW1 is pressed, then the output of the DAC is increas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n button SW2 is pressed, then the output of the DAC is decreas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3898-BD70-46A9-88FC-9866D095DA4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5/16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ference voltage sele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AC uses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+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s the reference volt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is the value required to write to the configuration register in order to make the reference voltage available internall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DC12CTL0 = 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B267-90B6-4BB3-B5F6-5B297C86C343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6/16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12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C12_0 output is on P6.6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C12_0 is configured with 12-bit resolu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utput is updated immediately when a new DAC12 data value is written in straight binary data format to the DAC12_0DAT regis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full-scale output must be equal to the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+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2.5 V internal reference volta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829A-BA6B-4285-BC5B-AAF680EF839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7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12 configura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oose a compromise solution between the settling time and current consumption by selecting a medium frequency and current for both input and output buffer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 following register in order to meet these requiremen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AC12_0CTL = 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F081-A397-410C-8DC2-E33716B21B4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8/16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6680" indent="-443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imer_A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imer_A register to enable an interrupt with a period of 1 mse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the ACLK clock signal as the clock sourc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imer_A is configured in count up mode in order to count until the TAR value reaches the TACCR0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CTL0 = 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CR0 = 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5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ACTL = ___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077A-004F-42FE-BDC0-D5D8F75606F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1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final stage in digital processing is to convert the digital output value to a signal that can be used by the real-world e.g. a voltage or current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 Digital-to-Analogue converter (DAC) is an electronic device or circuit that converts a digital representation of a quantity to a discrete analogue valu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inputs to a DAC are the digital value and a reference voltage V</a:t>
            </a:r>
            <a:r>
              <a:rPr b="1" lang="en-GB" sz="2000" spc="-1" strike="noStrike" baseline="-15000">
                <a:solidFill>
                  <a:srgbClr val="000000"/>
                </a:solidFill>
                <a:latin typeface="Verdana"/>
              </a:rPr>
              <a:t>REF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o set the analogue output level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84A7-BDCD-497E-82EA-B41DD279A32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9/16)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. System configuration (continued)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/O Ports configur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rt P1 uses the bits P1.0 and P1.2 to activate the ISR whenever the buttons SW1 and SW2 are activated (low-to-high transiti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gure these register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1SEL = 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1DIR = 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1IFG = 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1IE = __________________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2E76-4DCD-400E-A809-4DCA3CC4453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10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. Analysis of ope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onitor the analogue signal with an oscilloscop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nect an oscilloscope to pin 6 of Header 8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8680" indent="-43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asure the current draw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ign different values to the bits set in DAC12AMP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uspend the execution of the application and change the registers direct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able the DAC12EC bit. This bit must later be re-enab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3048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ease note the special cases relating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464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C12 of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464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 impedance output and DAC12 off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64640" indent="-361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 0 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28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29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65F-8265-4902-A685-6218837FAFC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11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L+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L_CTL0 |= DCOPLUS | XCAP18PF; // DCO+ set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eq = xtal x D x N+1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CFI0 |= FN_4;                  // x2 DCO freq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8MHz nominal DC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CFQCTL = 121;         // (121+1) x 32768 x 2 = 7.99 MH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ference voltage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C12CTL0 = REF2_5V | REFON;    // Internal 2.5V ref 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1028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29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1071720"/>
          <a:ext cx="9144000" cy="914400"/>
        </p:xfrm>
        <a:graphic>
          <a:graphicData uri="http://schemas.openxmlformats.org/drawingml/2006/table">
            <a:tbl>
              <a:tblPr/>
              <a:tblGrid>
                <a:gridCol w="3105000"/>
                <a:gridCol w="603900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SP-EXP430FG46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ing the MSP-EXP430FG4618 Development Tool and the MSP430FG4618 device, implement a ramp generat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313E-E6AB-44C4-9228-501ADF49CE5E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12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AC12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C12_0DAT = 0x00;              // DAC_0 output 0V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C12_0CTL = DAC12IR | DAC12AMP_5 | DAC12ENC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AC_0 -&gt; P6.6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AC_1 -&gt; P6.7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AC reference Vref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12 bits resolution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mmediate load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AC full scale output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edium speed/current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traight binary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ot group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028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29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95B3-6D32-4CE0-87AB-8128246937AB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13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imer_A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Before entering in LPM0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CTL = TACLR | MC_1 | TASSEL_2;        // up mode, SMCL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imer_A IS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R = 0;                  // TAR res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CCR0 = 13600;           // Delay to allow Ref to sett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CCTL0 |= CCIE;          // Compare-mode interrup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CTL = TACLR | MC_1 | TASSEL_2;       // up mode, SMCL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1028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29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0B27-3A9C-43E4-8F9C-394736A6205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14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imer_A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Before entering in LPM0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CTL = TACLR | MC_1 | TASSEL_2;        // up mode, SMCL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imer_A IS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R = 0;                  // TAR res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CCR0 = 13600;           // Delay to allow Ref to sett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CCTL0 |= CCIE;          // Compare-mode interrup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ACTL = TACLR | MC_1 | TASSEL_2;       // up mode, SMCLK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1028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29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0524-D1EA-4908-B024-85DFE01AC28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15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L+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L_CTL0 |= DCOPLUS + XCAP18PF;  // DCO+ set,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pt-P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eq = xtal x D x N+1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CFI0 |= FN_4;           // x2 DCO freq, 8MHz nominal DCO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CFQCTL = 121;           // (121+1)x32768x2 = 7.99 MHz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ference voltage configura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C12CTL0 = REF2_5V + REFON;    // Internal 2.5V ref 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1028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29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F17A-2EF8-4B0D-B5AE-8834F60FE7A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Laboratory 6: Voltage ramp generator (16/16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nfiguration of port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W1 and SW2 ports configuration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1SEL &amp;= ~0x03;           // P1.0 and P1.1 I/O por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1DIR &amp;= ~0x03;           // P1.0 and P1.1 digital inpu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1IFG = 0x00;             // clear all interrupts pend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1IE |= 0x03;             // enable port interrup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6.6 (DAC12_0 output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re is no need to configure P6.6 as 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pecial function output since it was configured in th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AC12 configuration register (DAC12_0CTL) us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AC12OPS = 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1028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29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A602-BF75-4390-90FE-63E70E6D12B8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. The DAC12 peripheral module included in MSP430 devices us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Binary Weighted DA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Interpolating DA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Thermometer coded DAC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R/2R Ladder DA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2. In a R/2R Ladder DAC architecture, the equivalent resistance between V</a:t>
            </a:r>
            <a:r>
              <a:rPr b="1" lang="en-GB" sz="2000" spc="-1" strike="noStrike" baseline="-15000">
                <a:solidFill>
                  <a:srgbClr val="000000"/>
                </a:solidFill>
                <a:latin typeface="Verdana"/>
              </a:rPr>
              <a:t>REF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and ground i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R/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2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4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0B4D-835B-4389-B294-AD2A986C6A44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2/4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3. For a DAC with a Differential Non-Linearity of less than 1 LSB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The transfer function deviates from a straight li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The analogue output voltage value is zero when the digital input is zer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The full-scale output voltage is equal to the maximum digital in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No data is l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4. Filtering is important to DAC operation because i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Increases resolu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Reproduces a signal precisely up to the Nyquist frequenc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Can provide an approximate smooth continuous time sign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Spreads noise over more frequen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0416-A55C-437F-B898-17A503492546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2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vides a continuous time output signal, mathematically often treated as discrete Dirac pulses into a zero-order hold and consisting of a series of fixed steps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iltering the discrete output signal can be used to approximate a continuous time signal, as well a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ing the resoluti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ing the number of discrete levels an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ucing the level size (reduces the quantization error).</a:t>
            </a: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FB58-80C6-4E38-A54E-E966CD0F1542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 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(3/4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5. To generate a DAC12 analogue output voltage of three times the reference voltage with 12-bit resoluti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DAC12RES = 0 and DAC12IR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DAC12RES = 0 and DAC12DF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DAC12IR = 1 and DAC12DF = 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DAC12RES = 1 and DAC12IR =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6. To update the DAC12’s analogue output voltage on a rising edge of the Timer_A CCR1 outpu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) DAC12LSEL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b) DAC12LSELx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c) DAC12LSELx =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) DAC12LSELx =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1028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29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83E7-3E15-4B5F-B3A5-EC6C679A7650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Quiz</a:t>
            </a:r>
            <a:r>
              <a:rPr b="1" lang="pt-PT" sz="2400" spc="-1" strike="noStrike">
                <a:solidFill>
                  <a:srgbClr val="ffffff"/>
                </a:solidFill>
                <a:latin typeface="Verdana"/>
              </a:rPr>
              <a:t> (4/4)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nswer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 (d) R/2R Ladder DA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. (b) 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. (d) No data is l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4. (c) Can provide an approximate smooth continuous time sig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. (a) DAC12RES = 0 and DAC12IR = 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. (b) DAC12LSELx = 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-3240" y="201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-3240" y="606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B026-95D6-42F7-8932-25B17EBC6A6A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(3/3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deal DAC output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equence of impulses filtered to construct a continuous time analogue sign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cise reproduction of the sampled signal up to the Nyquist frequenc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al DAC output: Reconstruction is not precis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lter has infinite phase dela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will be quantization erro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The digital data sequence is usually converted into an analogue voltage at a uniform update rate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clock signal latches the actual data of the digital input data sequence and the DAC holds the output analogue voltage until the next clock signal latches new data</a:t>
            </a:r>
            <a:r>
              <a:rPr b="1" lang="pt-PT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3449-ECB0-474C-A86E-C65CDEA81FA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C types (1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nary Weighted DA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ains one resistor (or current source) for each bit of the DAC connected to a common voltage source V</a:t>
            </a:r>
            <a:r>
              <a:rPr b="0" lang="en-GB" sz="2000" spc="-1" strike="noStrike" baseline="-15000">
                <a:solidFill>
                  <a:srgbClr val="000000"/>
                </a:solidFill>
                <a:latin typeface="Verdana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are accuracy problems (high precision resistors are require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/2R Ladder DA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inary weighted DAC that uses a repeating cascaded structure of resistors of value R and 2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MSP430’s DAC12 module uses this architec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7369-E155-4843-9DEC-2469AD2EC29F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C types (2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/2R Ladder DA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: R/2R 4 bit DAC architecture</a:t>
            </a:r>
            <a:r>
              <a:rPr b="0" lang="pt-PT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itch current to negative input of Op-Amp which is a virtual grou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rcRect l="0" t="0" r="0" b="16589"/>
          <a:stretch/>
        </p:blipFill>
        <p:spPr>
          <a:xfrm>
            <a:off x="1714680" y="1878120"/>
            <a:ext cx="65293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E67C-FAD2-4B73-AC2C-8040C320F39D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C types (3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erpolating DAC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a pulse density conversion technique (see Chapter 9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ulse Width Modulator DA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table voltage (or current) is switched into a low-pass (LP) filter during a time period representative of the digital input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rmometer coded DA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qual resistor (or current source) for each value of DAC outpu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 precision and conversion spe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ens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Marcador de Posição do Número do Diapositivo 4"/>
          <p:cNvSpPr/>
          <p:nvPr/>
        </p:nvSpPr>
        <p:spPr>
          <a:xfrm>
            <a:off x="6588000" y="6481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C0D1-8E0E-468F-A64A-97880CE3F399}" type="slidenum">
              <a:rPr b="0" lang="pt-P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arcador de Posição do Rodapé 5"/>
          <p:cNvSpPr/>
          <p:nvPr/>
        </p:nvSpPr>
        <p:spPr>
          <a:xfrm>
            <a:off x="3160800" y="6343560"/>
            <a:ext cx="28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Copyright  2009 Texas Instru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800" spc="-1" strike="noStrike">
                <a:solidFill>
                  <a:srgbClr val="ffffff"/>
                </a:solidFill>
                <a:latin typeface="Verdana"/>
              </a:rPr>
              <a:t>www.msp430.ubi.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921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C types (4/4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73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ybrid DA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bination of the previous techniques in a single convert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gmented DAC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bination of the thermometer coded principle for the most significant bits (MSBs) and the binary weighted principle for the least significant bits (LSB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s the best of both topolog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17:19Z</dcterms:created>
  <dc:creator>Dinis</dc:creator>
  <dc:description/>
  <dc:language>en-US</dc:language>
  <cp:lastModifiedBy>Universidade Beira Interior</cp:lastModifiedBy>
  <dcterms:modified xsi:type="dcterms:W3CDTF">2009-02-17T11:52:53Z</dcterms:modified>
  <cp:revision>90</cp:revision>
  <dc:subject/>
  <dc:title>Diapositivo 1</dc:title>
</cp:coreProperties>
</file>