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png" ContentType="image/png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5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0DED-A95D-4096-AAB8-3DE58E89933D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B6A6-A8B9-4FE9-B26A-5B2FA9EB94F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33EA2-5F65-4985-B8B4-844421B6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682C4-1767-4E29-8D61-A8D2FAAD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EBFE49-B878-423C-A0CA-C70FF7C9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BEB148-D224-4575-9F07-562E4639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2A6D12-B543-4460-B5D2-57C21C0A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F78811-CFD7-4B27-9C9F-D930063E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10C636-A924-405A-ADCD-26884049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050CA6-7BCD-41CF-A2FE-4DFAF1C1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B843AA-DCAB-40A3-A0C7-C9BA171C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9801B8-8878-40A0-AD93-C073D243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D1BEF2-05B5-4646-A0DE-143794D3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F009E0-7C5B-4869-91CE-358FD0E9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553A4-4E99-47D2-87E4-896DDB71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8D3809-B2B5-4D83-BA16-335F70BE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5AF094-A7AE-4C48-8C26-B563F4DC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17EFBF-7AB4-4349-BD30-39F0D4BD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96FF4C-D2D2-4514-890F-AD9F025F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D12CD7-515C-4487-A66A-4B538C05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AE7C10-BE7B-420C-8ABF-7070C210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FB236A-DB68-4C3E-8DFE-3EC0D695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2D1747-6FF9-4027-A515-8E6981F4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0C925F-8BD3-4AB8-94B0-D770B21C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277AC1-D71B-4011-949E-6D1549C6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370D-676B-4D7F-943F-D16E437A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FA9A59-0BA4-42CE-8B4F-C2085DC0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A2BC73-4A00-4E20-B6F6-2BE714B9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380100-4582-4399-9CA2-31BC25C2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7E6D19-6C09-426E-98CE-8259D33F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65C619-745A-4C46-A8E6-8463A49B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09EF1C-ECB0-4F60-96A5-B2DB7FC0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00C94C-20A3-4D70-8A1F-4441221D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0FF5E2-A825-4684-875F-CB96256D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601B81-0191-499B-A35D-5A6E9FEE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FD2AE2-EF8B-42EA-AD4E-DEA66663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AC364-8E0E-4F5F-A64B-717B9AAA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566CA3-A5F5-4FD5-96D5-3B0B4685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E66343-D855-4E2C-83B4-D8D11AD6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8FB0E8-1CC1-4CC3-B01A-7830DFA2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953D78-4FB9-46A4-811C-FDED78F2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59254A-B18C-4BD6-A5EF-52A0FCB9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ED1273-1878-4272-BDAC-295E0AFA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604BA1-F10D-4EB2-84DF-CC814C26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901334-4041-4AE5-8C3D-74319541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18C5AA-F06E-402B-AF80-DE5E44EB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1AC2ED-9BB2-4ABD-AAC2-4819A900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245A0-14A1-427C-BFFE-D5B3A29E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8A8669-6A0A-4328-8308-D112FBDF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8B03F2-8B66-41F3-8279-39E0D87F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A03552-DA50-45AD-9679-CC168334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1442EA-DAC2-4417-89FE-412977A9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B233E1-947B-41BA-80F4-84BA0D1A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41E7D3-F41A-4092-B43D-54F21FC0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BDC632-402A-4089-A9FB-E46577A7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88FBF1-9E20-425D-88D7-A3792556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C62C82-D271-4E52-BFB4-DD50AB5A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F476DE-234A-48AE-8DCB-A0B3968F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713E5-F30D-4A7E-96A0-9FE0ACF5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58882A-B850-44CB-9741-E2810920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CA2151-3D5A-4605-B16E-8BB6C065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E441D3-3615-4BD0-ACBE-4CF9CE44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77F7BB-308C-472F-9E4E-E40003C6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5AF0CA-540B-46B6-9D49-134D0759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7ABE31-5414-4F20-9D6F-51ECDBCD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5A468E-9867-4776-9FEB-11A47130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037108-AE59-429C-B875-0300D928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C21744-33CD-4D35-A1D0-1C6AA5E8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536EDD-ACDB-42D1-AD39-F7BC8A39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4A19C-C4E6-42FD-9B40-5EECFB1A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E0D053-73D0-4BC1-AC97-8530708B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FE8554-E26E-44F8-9ACF-5CE4A318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C3649C3-775B-409A-A33A-8F72114D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F85ADC-33C7-4E83-8DF2-A3BBCDC2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45877D-CC68-4B4C-AFB4-7E7F8B70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0CC204-78DA-4074-A834-25819EEE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F97D8A-5FE3-4F4C-B324-29A3E41E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D8CAF0-84F3-45E7-8BD5-28C53996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3100FC-7266-491C-870F-5C2744AF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4753F-39B7-418A-AA2A-C5D2A9B0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F92FF-4531-46E3-A5AA-044F58D3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EDED0-4E1D-4E0B-A312-4B09B17C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0AE9-A80D-48C5-9473-FB9CB0D0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E7A45-68A4-4568-B924-BAB0EC17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D5FB2-BEA8-454B-B18A-4CB457F1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84203-D303-4612-AA44-3874CBA1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15F9C-63CE-4A8D-892F-F70AEED6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60867-EC85-4115-8FC5-01D4C169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523AE-EF36-4A01-B2DF-B3210E5B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0163F-2C1A-4372-A893-3F2D09AE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92BB5-C583-493F-9AB8-FD40A6F1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DEE78-458C-44C2-A0BA-6E3CA941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D6CFB-8000-45EC-96E0-695D663A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64C4E-07A5-40F7-B2D6-25113738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91DAC-E000-4A87-B1CE-F9828079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04852-19CE-4E1C-A146-3BE9FD0F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B8EB1-B3E4-40E2-851F-85439328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AAC32-966A-4CBA-B8E6-2EAF31D0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2494C-5FDE-437B-BEB2-FB58A61D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900B9-9E68-4C15-A935-C0A8C1A9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EC565-4675-45C8-B5DC-E362EA47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2777D-BB20-48B6-BDAD-A41F5B6B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FC5CA1-A0DE-430E-A47C-42E4D646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840D8B-7E47-4CC0-9A0D-F8A32FAE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D5D06-54CC-4B4A-886B-69EA09A7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930F09-755E-420F-8A4F-BFAD4EA8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A0E117-E68A-4DA4-B9D2-70A011D6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C22AB2-9FBB-4AAA-92F5-7446804E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39EB60-A890-4CBB-9308-4FC5D45B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6AE960-940A-4180-86BE-57DC83D6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B103B-4005-4B53-9758-362F04E1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46745A-383B-4489-B750-F94B5350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98D35-F690-4968-811B-B517A20C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EDB3D8-3973-42A2-9B93-A6C1968F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86C292-2029-4575-9804-0E71672A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36941-3F2D-4A04-AC77-BFEA6157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B219D-E56D-4689-A957-FF686FA2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E8BED6-C3E3-4301-901D-B428E424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CE1DC7-EB2A-48F9-B61B-A468F534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25DE2F-EE2F-4EAC-91E9-E38FAF9D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3E0B1-C8FB-4120-BD9C-E494DF56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68FE2-B849-4BC4-A450-5E539ABE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26554-EF7D-4060-8BCC-18C28DB6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7A750-CE7F-4D79-A3A3-D0CABA29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E4B3A-CD24-4126-87F9-E2C840E7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FCDBA-8FE0-40F6-A2F0-E3AE33C0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D2A9C-6FA7-4C2A-80D5-A4F313C7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FEA86-6C6E-4C18-8ED1-475DD010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0B6053-9A7C-49D6-BBFD-68595233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46B850-B071-4992-95AF-CFEB0CC9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3ADFF-CECC-4DF9-94B7-6FFB3A57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6FC36-66F4-46D2-9FB6-4629262C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F58424-961F-4998-A6A3-783C3A7C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6C317-554E-45B6-BEE5-174BC959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957C11-6411-4F62-BEF9-6C33A45F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698A88-398A-4FD2-A4C4-A4DECAB5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B35E1-BF08-40C0-A14E-6057B779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9F19D-0AF0-4EFB-AC08-0509C77D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FD31CE-B8B4-47BC-A286-27B3C045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FE129F-F595-497A-9EBE-3CCFE6DC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3D69DF-1AAD-4C96-A7BC-7CE74874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7F37AA-A8EC-4DCA-8AF5-6E130AFE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28283B-D3AE-49B1-96A6-03360E93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5928EC-61F6-4710-ACC3-A164FB55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B9F1C1-70AD-454C-80A7-3A6C45B1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B1D5FC-BA0F-4D69-9A59-A3A6905F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515A90-B0FE-46C2-A959-64AE4F04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1819BF-8501-42FA-8C4B-0379DACA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45BDB-C0D6-4952-AD88-7512C544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7EB19-CFB6-44BB-9F7D-7B60840D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802D57-B786-4F62-AAAA-092E2A50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95554-6C7F-4374-A5F0-647765AF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D79340-7AB7-4E56-AE59-0894389B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FDDCE6-7529-448A-B256-680B0E7F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91F639-0E85-47C0-ADCA-E45D3D27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50A860-F14D-4604-A804-ED288B5A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6A1ED4-2696-4F09-969C-8BB261B6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60905A-CDA6-487A-9A48-CD0E36A5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368C2C-323D-4176-BDA9-8A91C8CD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5EB30-A34B-4B31-BEBE-0A25C2AC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37CCD8-CAAC-4FC9-8912-C46316AB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F57F0D-FFB8-47C6-A2E8-054FAA0B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167D91-2C2A-4495-8BDA-14CEBD5E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528DE0-CE22-4269-968E-F57C71F0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2966D4-0A2D-482E-9AF5-D0D30614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05331D-DA4A-4F10-B70D-A41A8C89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51B614-014E-4963-B0D5-7BA17E0C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304A59-F014-4E2B-A1E6-6B83E4DC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9054CB-0520-443D-90F3-2C87D7C0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0CCF2C-3923-4964-8498-6AD00E45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F18F-BAB5-4EC2-9E4F-8A34CED61F8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9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21FD-704D-4D46-8D50-BC532D18316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30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3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4DEF-C79F-4211-AD6C-456635648A5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ftr" idx="3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sldNum" idx="35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5563-C206-430C-85D4-A6C1F66738E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ftr" idx="36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sldNum" idx="38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C78B-AE6A-4EE3-A473-48377077A18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ftr" idx="39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41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7CCF-D774-4A1B-BCA3-8F7D16C6E1F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2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D1B7-046F-46AA-9209-F05352DBB62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6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1294-2475-4955-97BC-EF9582C975B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E258-247A-42A2-8FCE-69A988B9445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2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sldNum" idx="14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67D7-97ED-4756-87C6-439D1E20422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15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7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B76C-38AF-4284-9DAA-2CF0508009D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8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0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AB4B-6CF1-44F6-BE0A-310F2889168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1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3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31B0-7771-4D9A-8EBA-DF08E44010D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4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26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553B-C3A9-49AD-B007-F31B2749F19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27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hapter 13</a:t>
            </a:r>
            <a:br>
              <a:rPr sz="3000"/>
            </a:b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Flash Programming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0" y="-1000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900" spc="-1" strike="noStrike">
                <a:solidFill>
                  <a:srgbClr val="ffffff"/>
                </a:solidFill>
                <a:latin typeface="Verdana"/>
              </a:rPr>
              <a:t>MSP430 Teaching Material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6" descr="brasao a cores"/>
          <p:cNvPicPr/>
          <p:nvPr/>
        </p:nvPicPr>
        <p:blipFill>
          <a:blip r:embed="rId1"/>
          <a:stretch/>
        </p:blipFill>
        <p:spPr>
          <a:xfrm>
            <a:off x="860400" y="422100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8" descr=""/>
          <p:cNvPicPr/>
          <p:nvPr/>
        </p:nvPicPr>
        <p:blipFill>
          <a:blip r:embed="rId2"/>
          <a:stretch/>
        </p:blipFill>
        <p:spPr>
          <a:xfrm>
            <a:off x="7667640" y="4365720"/>
            <a:ext cx="752400" cy="72396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15640" y="4220640"/>
            <a:ext cx="676908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Texas Instruments Incorporat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University of Beira Interior (PT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Pedro Dinis Gaspar, António Espírito Santo, Bruno Ribeiro, Humberto Santo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University of Beira Interior, Electromechanical Engineering Departmen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msp430.ubi.p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Rectangle 12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70B4-38AB-4384-954B-3172884F37A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lash memory operation and segmentation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MSP430 flash memory block diagra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SP430FG4618 (Experimenter’s board) has two flash memory array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8" name="Picture 6" descr=""/>
          <p:cNvPicPr/>
          <p:nvPr/>
        </p:nvPicPr>
        <p:blipFill>
          <a:blip r:embed="rId1"/>
          <a:stretch/>
        </p:blipFill>
        <p:spPr>
          <a:xfrm>
            <a:off x="1619280" y="2274840"/>
            <a:ext cx="57592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5" descr=""/>
          <p:cNvPicPr/>
          <p:nvPr/>
        </p:nvPicPr>
        <p:blipFill>
          <a:blip r:embed="rId1"/>
          <a:stretch/>
        </p:blipFill>
        <p:spPr>
          <a:xfrm>
            <a:off x="1547640" y="2871720"/>
            <a:ext cx="5616720" cy="3510000"/>
          </a:xfrm>
          <a:prstGeom prst="rect">
            <a:avLst/>
          </a:prstGeom>
          <a:ln w="0">
            <a:noFill/>
          </a:ln>
        </p:spPr>
      </p:pic>
      <p:sp>
        <p:nvSpPr>
          <p:cNvPr id="71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FE75-6DEB-452B-8B95-353638C47C0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lash memory operation and segmentation (2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flash memory partitions (device-specific data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in memory section (two or more 512-byte segment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formation memory section (two 128-byte segments), located at lower memory addresses, in the address space immediately following 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2A65-F0C8-40B8-9580-023FBF8E71D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lash memory operation and segmentation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xx family: SegmentA (information A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Z430-F201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Z430-RF25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tition of the information memory, can be locked to separate it from all other segmen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CKA = 1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gmentA cannot be written or eras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 information memory is protected from erasure during a mass erase or production programm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CKA = 0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gmentA can be erased and writte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 information memory is erased during a mass erase or production programm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9E3F-9933-4397-9513-B69154FDD8D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lash memory write/erase mod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fault mode: read mode (memory operates like ROM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lash memory is not being erased or writte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lash timing generator off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oltage generator off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flash memory write/erase modes are selected with the BLKWRT, WRT, GMERAS, MERAS, and ERASE bit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stop any write or erase operation before its normal completion, set the EMEX bit. When EMEX = 1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 flash operations cea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lash returns to read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 bits in the FCTL1 register are re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78C8-8D1E-4754-9DC9-5231F3154BE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rase modes (1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rase mod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itiated from within flash memor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 timing is controlled by the flash controll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PU is held during the erase cycle (dummy wri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PU resumes code execution after the erase cycle finish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itiated from R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PU is not held and can execute code from RA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PU can access any flash address again when BUSY = 0 (end of the erase cycl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519A-FCDF-4EDE-B2CA-15EB43BAF89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rase modes (2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rase mod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his bit is only present in the MSP430FG461x devic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his bit is only present in the MSP430F2xxx devic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0" name="Picture 4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74072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5916-1060-469B-B21D-C325EF17636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rase mode procedure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gment Eras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eck BUSY = 0 (FCTL3 regist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CK = 0 (FCTL3 regist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ASE = 1 (FCTL1 regist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form a dummy write to the segment to be erased (Any write, clear or logical operatio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segment erase requires approximately 5000 cycles of the timing generator (during this period BUSY = 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ait for BUSY = 0 (FCTL3 register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CK = 1 (FCTL3 register) to prevent accidental wri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FA38-AAFB-4CB7-B058-8B03E46D80F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rase mode procedure (2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ass Erase (all main memory segments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milar to Segment era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setting MERAS bit instead of ERASE bit in the FCTL1 regis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ll Erase (all segments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setting (GMERAS), MERAS and ERASE bits in the FCTL1 regis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9C7E-A30E-4AEE-A638-1C023252890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4" descr=""/>
          <p:cNvPicPr/>
          <p:nvPr/>
        </p:nvPicPr>
        <p:blipFill>
          <a:blip r:embed="rId1"/>
          <a:stretch/>
        </p:blipFill>
        <p:spPr>
          <a:xfrm>
            <a:off x="1116000" y="1463760"/>
            <a:ext cx="6880320" cy="493236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rase mode procedure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gment and mass erase modes procedure: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1988-D989-4F7E-B76C-207685CA497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rite mod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byte/word write cycle can be initiated from within flash memory or from RAM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block write cycle cannot be initiated from within flash memory (only from RAM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block write can be used to accelerate the flash write process (twice as fast as byte/word mode), when many sequential bytes or words need to be programmed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8" name="Picture 5" descr="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AC7D-635C-4124-90CB-A454C883BD5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Flash memory operation and segmenta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rite/erase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Access during write/eras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Flash memory controller register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Laboratory 9: Flash write/erase operations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Qui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7E37-9C8C-4325-8EFD-B340653CBAA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rite modes procedure (1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yte/word writ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eck BUSY = 0 (FCTL3 regist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CK = 0 (FCTL3 regist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T = 1 (FCTL1 regist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te the byte or word (element) to the appropriate address (starts the timing generat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write an element requires 33 cycles of the timing generator (during this period BUSY = 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ait for BUSY = 0 (FCTL3 regist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CK = 1 (FCTL3 register) to prevent accidental wri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A9EA-AE20-4F6C-8ABC-854530D13CF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rite modes procedure (2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yte/word writ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7" name="Picture 4" descr=""/>
          <p:cNvPicPr/>
          <p:nvPr/>
        </p:nvPicPr>
        <p:blipFill>
          <a:blip r:embed="rId1"/>
          <a:stretch/>
        </p:blipFill>
        <p:spPr>
          <a:xfrm>
            <a:off x="1332000" y="1582560"/>
            <a:ext cx="662472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13D9-B416-470B-83FA-CD5CCFA2571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rite modes procedure (3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rite a block (successive write of 64 bytes in a block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eck BUSY = 0 (FCTL3 regist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CK = 0 (FCTL3 regist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T = 1 and BLKWRT = 1 (FCTL1 regist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te the element in the block to the appropriate address (starts the timing generat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op until WAIT = 1 (FCTL3 regist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eat write next element until all have been writte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t WRT = 0 and BLKWRT = O (FCTL1 regist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block write requires 20 cycles Timing Generator/element, + overhead: 15 more cycles (during this period BUSY = 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ait for BUSY = 0 (FCTL3 regist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CK = 1 (FCTL3 register) to prevent accidental wri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1B8E-B44E-43B0-B39B-29610D916BF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rite modes procedure (4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lock (64-byte blocks) writ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4" descr=""/>
          <p:cNvPicPr/>
          <p:nvPr/>
        </p:nvPicPr>
        <p:blipFill>
          <a:blip r:embed="rId1"/>
          <a:stretch/>
        </p:blipFill>
        <p:spPr>
          <a:xfrm>
            <a:off x="1690560" y="1569960"/>
            <a:ext cx="55454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768D-E600-4097-A395-DA58A2CA356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lash memory access during write/era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When BUSY = 1, any write or any erase operation initiated from RAM or from flash memory triggers the following condi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0" y="2168640"/>
          <a:ext cx="9144000" cy="4171680"/>
        </p:xfrm>
        <a:graphic>
          <a:graphicData uri="http://schemas.openxmlformats.org/drawingml/2006/table">
            <a:tbl>
              <a:tblPr/>
              <a:tblGrid>
                <a:gridCol w="1995480"/>
                <a:gridCol w="1995480"/>
                <a:gridCol w="938160"/>
                <a:gridCol w="4214880"/>
              </a:tblGrid>
              <a:tr h="213480"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ash op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ash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a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 rowSpan="3"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y er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yte/word w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CVIFG 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 read: 03FFF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CVIFG 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rite igno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struction fe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CVIFG 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PU fetch: 03FFF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03280">
                <a:tc rowSpan="4"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lock w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CVIFG 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CK 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CVIFG 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 read: 03FFF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CVIFG 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ash writ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struction fe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22680" rIns="22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CVIFG 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CK 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2CA2-DFA4-4138-81B1-439FB510468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Registers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CTL1, Flash Memory Control Register 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(MSP430FG4618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(1) MSP430F2xx(x) family devices. Not present on MSP430F2013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(2) MSP430FG461x devices.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Rectangle 61"/>
          <p:cNvSpPr/>
          <p:nvPr/>
        </p:nvSpPr>
        <p:spPr>
          <a:xfrm>
            <a:off x="0" y="253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52"/>
          <p:cNvSpPr/>
          <p:nvPr/>
        </p:nvSpPr>
        <p:spPr>
          <a:xfrm>
            <a:off x="0" y="3960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55"/>
          <p:cNvSpPr/>
          <p:nvPr/>
        </p:nvSpPr>
        <p:spPr>
          <a:xfrm>
            <a:off x="0" y="253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222"/>
          <p:cNvSpPr/>
          <p:nvPr/>
        </p:nvSpPr>
        <p:spPr>
          <a:xfrm>
            <a:off x="0" y="33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60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61" descr=""/>
          <p:cNvPicPr/>
          <p:nvPr/>
        </p:nvPicPr>
        <p:blipFill>
          <a:blip r:embed="rId2"/>
          <a:stretch/>
        </p:blipFill>
        <p:spPr>
          <a:xfrm>
            <a:off x="0" y="2492280"/>
            <a:ext cx="9144000" cy="116388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63" descr=""/>
          <p:cNvPicPr/>
          <p:nvPr/>
        </p:nvPicPr>
        <p:blipFill>
          <a:blip r:embed="rId3"/>
          <a:stretch/>
        </p:blipFill>
        <p:spPr>
          <a:xfrm>
            <a:off x="0" y="4221000"/>
            <a:ext cx="91440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0A93-15A3-4402-B648-6C17B07F259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Registers (2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CTL2, Flash Memory Control Register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(MSP430FG4618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Rectangle 4"/>
          <p:cNvSpPr/>
          <p:nvPr/>
        </p:nvSpPr>
        <p:spPr>
          <a:xfrm>
            <a:off x="0" y="253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5"/>
          <p:cNvSpPr/>
          <p:nvPr/>
        </p:nvSpPr>
        <p:spPr>
          <a:xfrm>
            <a:off x="0" y="3960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0" y="253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0" y="33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11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2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9255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3" descr=""/>
          <p:cNvPicPr/>
          <p:nvPr/>
        </p:nvPicPr>
        <p:blipFill>
          <a:blip r:embed="rId3"/>
          <a:stretch/>
        </p:blipFill>
        <p:spPr>
          <a:xfrm>
            <a:off x="0" y="3933720"/>
            <a:ext cx="914400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8733-AD89-477C-8821-308315AAB42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Registers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CTL3, Flash Memory Control Register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(MSP430FG4618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Rectangle 4"/>
          <p:cNvSpPr/>
          <p:nvPr/>
        </p:nvSpPr>
        <p:spPr>
          <a:xfrm>
            <a:off x="0" y="253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0" y="3960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0" y="253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0" y="33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11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2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92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4" name=""/>
          <p:cNvGraphicFramePr/>
          <p:nvPr/>
        </p:nvGraphicFramePr>
        <p:xfrm>
          <a:off x="0" y="3068640"/>
          <a:ext cx="9144000" cy="3187800"/>
        </p:xfrm>
        <a:graphic>
          <a:graphicData uri="http://schemas.openxmlformats.org/drawingml/2006/table">
            <a:tbl>
              <a:tblPr/>
              <a:tblGrid>
                <a:gridCol w="803160"/>
                <a:gridCol w="1220760"/>
                <a:gridCol w="7120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eration failure of the clock source, f</a:t>
                      </a:r>
                      <a:r>
                        <a:rPr b="0" lang="en-GB" sz="12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FTG)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or a flash operation is aborted from an interrupt when EEIEX = 1 when FAIL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CKA</a:t>
                      </a:r>
                      <a:r>
                        <a:rPr b="0" lang="en-GB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gment A locked and all information memory is protected from erasure during a mass erase when LOCKA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M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mergency exit when EMEX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cks the flash memory for writing or erasing when LOCK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A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AIT = 0 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while flash memory is being written 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AIT = 1 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when flash memory is ready for the next byte/word wr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CVI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cess violation interrupt flag ACCVIFG = 1 when interrupt is pe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EY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ash security key violation KEYV = 1 when FCTLx password was written incorrectly (not 0A5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US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ash timing generator is busy when BUSY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CD2D-FA43-437F-A4EF-ACC67EE78B3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9: Flash write/erase operations (1/2)</a:t>
            </a:r>
            <a:r>
              <a:rPr b="1" lang="pt-PT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bjectiv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Using the MSP430FG4618 device of the Experimenter’s board provide flash write/erase oper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Detail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Like the previous exercise (Lab8), this laboratory is composed of some sub-task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is laboratory has been developed for the </a:t>
            </a:r>
            <a:r>
              <a:rPr b="0" i="1" lang="pt-PT" sz="2000" spc="-1" strike="noStrike">
                <a:solidFill>
                  <a:srgbClr val="000000"/>
                </a:solidFill>
                <a:latin typeface="Verdana"/>
              </a:rPr>
              <a:t>Code Composer Essentials version 3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software development tool onl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Rectangle 110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58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B871-0420-4EA3-B7C9-DFAB2B4C5A4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9: Flash write/erase operations (2/2)</a:t>
            </a:r>
            <a:r>
              <a:rPr b="1" lang="pt-PT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verview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I MSP430 has internal flash memory that can be used for data stora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wo different methods of writing to the flash memory are studied in this laborato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irst method requires the CPU execution of the code resident in flash memory. The consequences of this procedure are discuss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the second part of the laboratory, the flash write and erase operations are conducted with the CPU executing the code resident in RAM. The important details are highligh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5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AD43-10FF-4762-B407-8120FF7EA92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(1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mory in general is broadly classified as read-only memory (ROM) or random-access memory (RAM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lash memory is a hybrid of ROM and RAM;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lash memory i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 cos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ectrically programmab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st to read fro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igh densit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liab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-volati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343F-AC2B-48B1-BD61-9734912423C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a. Flash memory programming with the CPU executing the code in the flash memory</a:t>
            </a:r>
            <a:r>
              <a:rPr b="1" lang="pt-P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ject fil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source files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pter 13&gt;Lab9&gt; Lab9a_student.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pter 13&gt;Lab9&gt; lnk_msp430fg4618.cm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lution file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pter 13&gt;Lab9&gt; Lab9a_solution.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laboratory uses the flash memory controller. The operation of this device is analyzed using a digital output port (P2.1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roject must be compiled, including the files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Lab9_student.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lnk_msp430fg4618.cm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de is resident in the flash memory, so whenever a flash write or erase operation occurs, the CPU access to this memory space is automatically inhibi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5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FD1A-B9AD-4534-8D1D-5F5526AD8CE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a. Flash memory programming with the CPU executing the code in the flash memory</a:t>
            </a:r>
            <a:r>
              <a:rPr b="1" lang="pt-P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. Software application organiz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oftware begins by disabling the Watchdog Timer. Port P2.1 is set as an output at logic low leve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lash memory controller is configured with the clock MCLK/3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FT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perating frequency is located within the specified limits from 257 kHz to 476 kH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set of routines are provided to erase, write and copy the contents of a segment. The main tasks related to the flash memory handling are presented using this set of routi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949D-9292-494D-BD71-5F419903E6D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a. Flash memory programming with the CPU executing the code in the flash memory</a:t>
            </a:r>
            <a:r>
              <a:rPr b="1" lang="pt-P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. Software application organiz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formation Segments A and B are eras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ytes are written to Segment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ords are written to Segment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tents of the information memory SegmentA are copied to the information SegmentB, the values in the latter being overwritt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5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21AB-CDC3-4A2D-B7DE-FA31DE6595A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a. Flash memory programming with the CPU executing the code in the flash memory</a:t>
            </a:r>
            <a:r>
              <a:rPr b="1" lang="pt-P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lash memory controller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he register FCTL2 to use the clock MCLK/3 divided by 3 (Do not forget to enter the password to access the register from now 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CTL2 = _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gment erase routi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he registers FCTL1 and FCTL3 in order to initiate the flash segment erase process by writing to an address belonging to the segment to be eras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CTL1 = _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CTL3 = _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23F8-32A4-4863-BB6E-9B9DFDC119A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a. Flash memory programming with the CPU executing the code in the flash memory</a:t>
            </a:r>
            <a:r>
              <a:rPr b="1" lang="pt-P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gment erase routi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block flash write and erase operations after erasing the segmen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CTL3 = _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lash write routi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he registers in order to start writing to the flash memor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CTL1 = _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CTL3 = _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t up block write and erase operations and when the write is complete, disable further writ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CTL1 = _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CTL3 = _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Rectangle 1028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AE54-89DE-4B72-A02F-26BF3A08507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a. Flash memory programming with the CPU executing the code in the flash memory</a:t>
            </a:r>
            <a:r>
              <a:rPr b="1" lang="pt-P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. Analysis of op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ecution time for the information segments erase ope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ut the cursor on line 124 of code, located just after the second port P2.1 switching stat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ecute the software until the cursor position is reach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erase operation timing can be seen in an oscilloscope probe connected to pin 2 of Header 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87C0-CEDF-45B7-B0E7-0CB7894F1E4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a. Flash memory programming with the CPU executing the code in the flash memory</a:t>
            </a:r>
            <a:r>
              <a:rPr b="1" lang="pt-P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. Analysis of op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ytes write in the information memory 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routin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write_char_flash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llows writing a byte to flash memory (receives the memory addres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en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memor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ndow, and add the address of the information memory A. Its contents become visible after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render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nge the presentation of the memory conten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1720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oose the option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Column Size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from the context menu of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memor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ndow, through the option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Forma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w with the the execution of th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op, the flash contents are being written sequential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E845-3D7C-401A-8B73-A3B1D9A100F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a. Flash memory programming with the CPU executing the code in the flash memory</a:t>
            </a:r>
            <a:r>
              <a:rPr b="1" lang="pt-P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. Analysis of op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ytes write in the information B memor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routine is similar to the previous on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te that now the flash write address is increased by two since a word occupies two bytes of memo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formation is more readily observed when the memory contents display mode is restored to its initial stat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et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default condition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n the option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Forma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the context men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7DA3-F8DC-456A-90F2-DEDCD226C30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a. Flash memory programming with the CPU executing the code in the flash memory</a:t>
            </a:r>
            <a:r>
              <a:rPr b="1" lang="pt-P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. Analysis of op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-43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py the contents of the information A memory to information B memory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43440" indent="-36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utput port P2.1 is enabled before the copy process begi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4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43440" indent="-36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py routine receives the beginning of the source information segment and the beginning of the destination information segm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4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43440" indent="-36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formation is then successively read and written from one segment to anot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4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43440" indent="-36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ort P2.1 is disabled at the end of the copy proces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4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43440" indent="-36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asure the task execution time using an oscillosco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B8A8-47DE-48F4-ACD3-4B3A9BD996B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a. Flash memory programming with the CPU executing the code in the flash memory</a:t>
            </a:r>
            <a:r>
              <a:rPr b="1" lang="pt-P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lash memory controller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CTL2 = FWKEY | FSSEL0 | FN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 MCLK/3 for Flash Timing Generato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gment erase routin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CTL1 = FWKEY | ERASE;                // Set Erase bi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CTL3 = FWKEY;                        // Clear Lock bi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 Block flash write and erase operations after eras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 the segmen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CTL3 = FWKEY | LOCK;                 // Set LOCK bi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0" y="1052640"/>
          <a:ext cx="9144000" cy="1006200"/>
        </p:xfrm>
        <a:graphic>
          <a:graphicData uri="http://schemas.openxmlformats.org/drawingml/2006/table">
            <a:tbl>
              <a:tblPr/>
              <a:tblGrid>
                <a:gridCol w="3105000"/>
                <a:gridCol w="603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  <a:ea typeface="Courier New"/>
                        </a:rPr>
                        <a:t>MSP-EXP430FG46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Courier New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Courier New"/>
                        </a:rPr>
                        <a:t>Using the MSP-EXP430FG4618 Development Tool, implement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ash memory programming with the CPU executing the code from the flash memory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Courier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51B4-0809-4F73-8083-CDC2E7392EE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MSP430Fxxx(x) flash memory structure i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Divided into segme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llows bit-, byte- and word- addressing and programming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Must be erased in seg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lash memory controll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s programming and erase operat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s 3 or 4 registers (see the device-specific data shee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s a timing generat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urced from ACLK, SMCLK, or MCL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lash timing generator operating frequency: ~257 kHz &lt; 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(FTG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 &lt; ~476 kHz (see device-specific dat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elected clock source should be divided using the FNx bits to meet the frequency requirements of 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(FTG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(2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9831-056E-48DE-9DCB-889A854F3AA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a. Flash memory programming with the CPU executing the code in the flash memory</a:t>
            </a:r>
            <a:r>
              <a:rPr b="1" lang="pt-P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lash write routin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CTL1 = FWKEY | ERASE;                // Set Erase 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CTL3 = FWKEY;                        // Clear Lock 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 Block the flash write and erase operations 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 disable the writing bit after the writing process 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 the segmen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CTL3 = FWKEY | LOCK;                 // Set LOCK 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F132-DBDF-424B-A2E1-700279FA0A7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b. Flash memory programming with the CPU executing the code from RAM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ject fil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source files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Chapter 13 &gt; Lab9 &gt; Lab9b_student.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pter 13 &gt; Lab9 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nk_msp430fg4618_RAM.cm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lution file:    Chapter 13 &gt; Lab9 &gt; Lab9b_solution.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asks developed in the previous laboratory are executed again in this exercise. The difference is that this time the software is running from RA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process requires special procedures during the project build pha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routines to run from RAM must be correctly set up. (The application begins by copying the routines from flash to RAM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2055-2F43-4D14-B45A-E44DB259239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b. Flash memory programming with the CPU executing the code from RAM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rectiv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MEMOR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etermines the device's memory configur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emory can be organized in accordance with the system need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directive identifies the memory ranges that are physically present on the devi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ch of these ranges has a set of features, such 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m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itial addres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ngth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tional attributes s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tional filling specifi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1542-23B8-4EED-81B5-F2A638648E3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b. Flash memory programming with the CPU executing the code from RAM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rectiv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Memor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organized as described below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ourier New"/>
              </a:rPr>
              <a:t>name 1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GB" sz="1400" spc="-1" strike="noStrike">
                <a:solidFill>
                  <a:srgbClr val="000000"/>
                </a:solidFill>
                <a:latin typeface="Courier New"/>
              </a:rPr>
              <a:t>attr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]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: origin = </a:t>
            </a:r>
            <a:r>
              <a:rPr b="0" i="1" lang="en-GB" sz="14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, length = </a:t>
            </a:r>
            <a:r>
              <a:rPr b="0" i="1" lang="en-GB" sz="14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, fill = </a:t>
            </a:r>
            <a:r>
              <a:rPr b="0" i="1" lang="en-GB" sz="14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ourier New"/>
              </a:rPr>
              <a:t>name n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GB" sz="1400" spc="-1" strike="noStrike">
                <a:solidFill>
                  <a:srgbClr val="000000"/>
                </a:solidFill>
                <a:latin typeface="Courier New"/>
              </a:rPr>
              <a:t>attr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]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: origin = </a:t>
            </a:r>
            <a:r>
              <a:rPr b="0" i="1" lang="en-GB" sz="14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, length = </a:t>
            </a:r>
            <a:r>
              <a:rPr b="0" i="1" lang="en-GB" sz="14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, fill = </a:t>
            </a:r>
            <a:r>
              <a:rPr b="0" i="1" lang="en-GB" sz="14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8633-2B99-4C88-90F3-5CBCB6454A4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b. Flash memory programming with the CPU executing the code from RAM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rectiv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SECTION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ontrols how the sections are built and memory is reserv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trol is as follow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scribes how the input and output sections are relat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fines the output sections in the executable progra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fines where the output sections are placed in memo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ows changing the name of the output sec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rectiv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SECTION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organized as described bel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name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: [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property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] [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property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] 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. . .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name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: [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property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] [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property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] 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. . .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name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: [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property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] [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property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] 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. . .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546C-58EC-45AA-AC73-3B028E216CB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b. Flash memory programming with the CPU executing the code from RAM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ollowing directives are possib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erve memory space to load the se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ntax: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ad =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allocation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Allocation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allo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fine the memory space where the code belonging to the section will ru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ntax: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un =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allocation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un &gt;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allo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A5F4-9F88-4FEE-8682-776DFA0F20C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b. Flash memory programming with the CPU executing the code from RAM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this project we wish to write the code in flash memory, but we want it to be executed from RA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Linker offers a very simple way to accomplish this tas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emory space where the code is stored is associated with another memory space, where the code will ru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pplication transfers the code to the memory space where it will be execu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4CFD-A6D3-4C5E-BCF4-EBF552E4861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b. Flash memory programming with the CPU executing the code from RAM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emory spaces needed to store the routines are defined in th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lnk_msp430fg4618_RAM.cm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fi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AM_MEM    : origin = 0x1100, length = 0x02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LASH_MEM  : origin = 0x3100, length = 0x02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so are defined the sec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.FLASHCODE     : load = FLASH_MEM, run = RAM_M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.RAMCODE       : load = FLASH_M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5339-A49A-4088-86C1-99C193DD57B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b. Flash memory programming with the CPU executing the code from RAM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. Software application organiz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oftware for this laboratory has the same structure as the previous on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rectiv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#pragma CODE_SECTION (symbol, "section name"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reserves space for the "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symbo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 in a section called "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section nam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. Thus, the routines are stored in section "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.FLASHCOD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routin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copy_flash_to_RA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ransfers the flash contents to RA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iles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Lab9_student.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lnk_msp430fg4618_RAM.cm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must be used during the compil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w, the code is executed from RAM. Check, the state of 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ai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it of the register FCTL3, whenever appropri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BF6E-22C3-471D-AF01-CB90CB255B5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b. Flash memory programming with the CPU executing the code from RAM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lash storage management routin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store the flash management routines in the section "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.FLASHCOD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 complete the empty spac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pragma CODE_SECTION(______________,____________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oid erase_segment(int addres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pragma CODE_SECTION(______________,____________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oid write_char_flash(int address, char valu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pragma CODE_SECTION(______________,____________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oid write_int_flash(int address, int valu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pragma CODE_SECTION(______________,____________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oid copy_seg_flash(int address_source, int address_destinati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8F91-81E2-4A4E-9422-DD106FBF23E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(3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lash memory controll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ming generator block diagr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s a voltage generator to supply programming and erase voltages. The output voltage must be st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7" name="Picture 4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54508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EEDD-FC2E-4DF5-9435-95F63F4797D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b. Flash memory programming with the CPU executing the code from RAM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heck the flag wai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t software key points, and whenever writing or erasing the flash memory, perform a delay before proceeding with the data writ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lete the following line of code in order to suspend the program flow while th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Wai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flag is not enabl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while(_____________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28CC-5AAB-45A3-AB26-CC2D22A2121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b. Flash memory programming with the CPU executing the code from RAM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. Analysis of op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alyse the differences between the different versions of the routin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te the successive delays used in the different versions to be executed from 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5BE8-2073-4299-BD83-FF9C4D3AC5F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b. Flash memory programming with the CPU executing the code from RAM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lash management routines storag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pragma CODE_SECTION(erase_segment,".FLASHCODE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oid erase_segment(int addres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pragma CODE_SECTION(write_char_flash,".FLASHCODE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oid write_char_flash(int address, char valu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pragma CODE_SECTION(write_int_flash,".FLASHCODE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oid write_int_flash(int address, int valu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pragma CODE_SECTION(copy_seg_flash,".FLASHCODE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oid copy_seg_flash(int address_source, int address_destin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5" name=""/>
          <p:cNvGraphicFramePr/>
          <p:nvPr/>
        </p:nvGraphicFramePr>
        <p:xfrm>
          <a:off x="0" y="1052640"/>
          <a:ext cx="9144000" cy="1006200"/>
        </p:xfrm>
        <a:graphic>
          <a:graphicData uri="http://schemas.openxmlformats.org/drawingml/2006/table">
            <a:tbl>
              <a:tblPr/>
              <a:tblGrid>
                <a:gridCol w="3105000"/>
                <a:gridCol w="603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  <a:ea typeface="Courier New"/>
                        </a:rPr>
                        <a:t>MSP-EXP430FG46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Courier New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Courier New"/>
                        </a:rPr>
                        <a:t>Using the MSP-EXP430FG4618 Development Tool, implement flash memory programming with the CPU executing the code from R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2A36-3998-403A-8E33-8A015337ABA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9b. Flash memory programming with the CPU executing the code from RAM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heck the flag wai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while(FCTL3&amp;BUSY);              // Check BUSY fl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1" name=""/>
          <p:cNvGraphicFramePr/>
          <p:nvPr/>
        </p:nvGraphicFramePr>
        <p:xfrm>
          <a:off x="0" y="1052640"/>
          <a:ext cx="9144000" cy="1006200"/>
        </p:xfrm>
        <a:graphic>
          <a:graphicData uri="http://schemas.openxmlformats.org/drawingml/2006/table">
            <a:tbl>
              <a:tblPr/>
              <a:tblGrid>
                <a:gridCol w="3105000"/>
                <a:gridCol w="603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  <a:ea typeface="Courier New"/>
                        </a:rPr>
                        <a:t>MSP-EXP430FG46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Courier New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Courier New"/>
                        </a:rPr>
                        <a:t>Using the MSP-EXP430FG4618 Development Tool, implement flash memory programming with the CPU executing the code from R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4DE5-DE8F-4353-A586-98236573E18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. Features of flash memory ar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Low cos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Fast to read fro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Non-volati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All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The timing generator of the MSP430 flash memory can be sourced by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ACL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SMCL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MCL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All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/7)</a:t>
            </a:r>
            <a:r>
              <a:rPr b="1" lang="pt-P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FFCE-CF40-4D5F-82E3-7E22F1B5F39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2/7)</a:t>
            </a:r>
            <a:r>
              <a:rPr b="1" lang="pt-PT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. An MSP430 flash device can be programmed via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JTAG interfa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Bootstrap load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Custom software solu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All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4. Flash memory is partitioned into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Two sect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Three sect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Four sect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5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01A0-57C8-457E-BD30-F20A3AE04F6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3/7)</a:t>
            </a:r>
            <a:r>
              <a:rPr b="1" lang="pt-PT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When LOCKA is se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SegmentA can be written and eras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SegmentA cannot be written or eras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information memory is protected from erasure during a mass erase or production programming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All information memory is erased during a mass erase or production programm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6. When EMEX is se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Write operation begi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Erase operation begi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flash operations cea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5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1147-B1B6-42C5-8D45-A4F6AF4C4C9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4/7)</a:t>
            </a:r>
            <a:r>
              <a:rPr b="1" lang="pt-PT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7. An erase cycle can be initiated fro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Within flash memo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From RA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Within flash memory or from RA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Simultaneously within flash memory and from 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8. For the MSP430FG4618 when GMERAS and MERAS bits are se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A segment is eras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All main memory is erased – selected arra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information memory is erased – selected arra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All flash memory is erased – both array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5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3064-F488-4445-AA5A-F854920B3A4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5/7)</a:t>
            </a:r>
            <a:r>
              <a:rPr b="1" lang="pt-PT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9. When BLKWRT and WRT are se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A byte/word write cycle is initiated within flash memo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A block write cycle is initiated from RA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 block write cycle is initiated within flash memo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A byte/word write cycle is initiated from 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0. When reading within flash memory while BUSY = 1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ACCVIFG = 1 and the value read is 03FFFh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ACCVIFG = 0 and the value read is 03FFFh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CCVIFG = 1 and LOCK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4498-E560-4948-AC25-ECF943A1285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 (6/7)</a:t>
            </a:r>
            <a:r>
              <a:rPr b="1" lang="pt-PT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1. The 16 bit of the FCTL1 flash memory controller control register must hav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All its high-byte bits at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A 0x096h password in the high-byte to read from flash memory and a 0x0A5h password must be written to the high byte to write to the flash memo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 0x05Ah password in the high-byte to read and write to the flash memo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All its high-byte bits at 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2. When the FAIL bit of the control register is se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The clock source has fail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The flash operation was abort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n access violation occurr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The flash security key was incorr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5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F02B-509C-49B2-A0DE-F5E87D24176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(4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n MSP430 flash device can be programmed via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TAG interface (requires four signals, ground and optionally VCC and RST/NM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ootstrap Loader (using a UART serial interfac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ustom solution (using one of the interfaces available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ough user developed softwar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dditional information (TI Application Notes &amp; Reports 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SP430 flash memory characteristics &lt;slaa334a.pd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hysics behind MSP430 data-sheet specificat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commendations for correct MSP430 flash handl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D8A2-D493-46D2-A18D-59F79FB84A2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7/7)</a:t>
            </a:r>
            <a:r>
              <a:rPr b="1" lang="pt-PT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nsw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(d) All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(d) All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(d) All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. (a) Two sec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. (b) SegmentA cannot be written or era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. (c) All flash operations ce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7. (c) Within flash memory or from 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. (d) All flash memory is erased – both array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9. (b) A block write cycle is initiated from 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0. (a) ACCVIFG = 1 and the value read is 03FFF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1. (b) A 0x096h password in the high-byte to read from flash memory and a 0x0A5h password must be written in the high byte to write to the flash memo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. (a) The clock source has fail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Rectangle 4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EAB8-72DD-418D-B663-5F8DD9534EF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(5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dditional information (TI Application Reports &amp; Presentations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derstanding MSP430 flash data retention &lt;slaa392.pd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ta retention for the MSP430 flash memo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jor effect of high temperatures on flash data reten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eatures of the MSP430 bootstrap loader &lt;slaa089d.pd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ecific entry sequence applied to specific device pins, followed by an additional sequence of commands to initiate the required fun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SL code is stored in a special section of ROM (cannot be overwritten by other application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riggered by toggling the TCK pin on the JTAG por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uses the UART communication protocol (9600 bau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ame functions as the JTAG interface, with the exception of the security fuse programm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5EA4-8212-4FCF-8D33-33657FBA226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(6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dditional information (TI Application Reports &amp; Presentations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plication of bootstrap loader in MSP430 with flash hardware and software proposal &lt;slaa096.pd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mple and low-cost hardware and software (C code) solutions to access the bootstrap loader (BSL) functions via the serial port (RS-232) of a P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lid state voice recorder using MSP430 flash &lt;slaa123.pd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ment of a solid state voice recorder (analogue voice pattern conversion to digital data) with real-time stora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lexibility of in-system programmable flash memo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53A4-B8E2-4663-8114-A1CB5ACA04A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(7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dditional information (TI Application Reports &amp; Presentations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gramming a flash-based MSP430 using the JTAG interface &lt;slaa149d.pd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nctions required to erase, program, and verify the MSP430’s flash memory module using the JTAG interfa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gram the JTAG access security fu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ecurity fuse is a one-time only burn (further flash memory writes and erasures are impossibl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hibits flash programming and further JTAG acc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Flash monitor for the MSP430 &lt;slaa341.pd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ment of a flash monitor program to evaluate the device’s memo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pdate the flash contents with new application code via a universal USART peripheral interfa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17:19Z</dcterms:created>
  <dc:creator>Dinis</dc:creator>
  <dc:description/>
  <dc:language>en-US</dc:language>
  <cp:lastModifiedBy>Universidade Beira Interior</cp:lastModifiedBy>
  <dcterms:modified xsi:type="dcterms:W3CDTF">2009-02-18T15:52:26Z</dcterms:modified>
  <cp:revision>97</cp:revision>
  <dc:subject/>
  <dc:title>Diapositivo 1</dc:title>
</cp:coreProperties>
</file>