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31.wmf" ContentType="image/x-wmf"/>
  <Override PartName="/ppt/media/image11.wmf" ContentType="image/x-wmf"/>
  <Override PartName="/ppt/media/image16.wmf" ContentType="image/x-wmf"/>
  <Override PartName="/ppt/media/image8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4.png" ContentType="image/png"/>
  <Override PartName="/ppt/media/image9.wmf" ContentType="image/x-wmf"/>
  <Override PartName="/ppt/media/image13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.jpeg" ContentType="image/jpeg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FBD2A-6B1C-4C74-96BD-F19E28E39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D1E74-F1FC-4A17-AE15-6CB28356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0B4E0-7E1C-45CD-8545-38A2ED81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A4E2A-44C8-4013-B230-600C239D5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F9D4B-3EF3-4F90-BBC4-39B23C4A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ECE7D-3E88-4750-9FD7-AB30C1B2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55C06-27C6-4689-94BA-4F1582DA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61E86-B67F-4C68-878D-012C8F32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D4B47-9C2F-48E5-9074-EC4D721D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8C9F4-1F4D-47EC-9F6E-44AD7EAA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75C25-0691-4A1D-B709-696E97DF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EAC38-7529-4759-9FA1-EBCD4B47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7e7e7e">
                  <a:alpha val="9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6069-399F-44FA-904C-8FC3D98C6F39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pt-PT" sz="1200" spc="-1" strike="noStrike" u="sng">
                <a:solidFill>
                  <a:srgbClr val="009999"/>
                </a:solidFill>
                <a:uFillTx/>
                <a:latin typeface="Verdana"/>
                <a:hlinkClick r:id="rId4" action="ppaction://hlinksldjump"/>
              </a:rPr>
              <a:t>&gt;&gt; </a:t>
            </a:r>
            <a:r>
              <a:rPr b="0" lang="pt-PT" sz="1200" spc="-1" strike="noStrike" u="sng">
                <a:solidFill>
                  <a:srgbClr val="009999"/>
                </a:solidFill>
                <a:uFillTx/>
                <a:latin typeface="Verdana"/>
                <a:hlinkClick r:id="rId5" action="ppaction://hlinksldjump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slide" Target="slide24.xml"/><Relationship Id="rId9" Type="http://schemas.openxmlformats.org/officeDocument/2006/relationships/slide" Target="slide24.xml"/><Relationship Id="rId10" Type="http://schemas.openxmlformats.org/officeDocument/2006/relationships/slide" Target="slide24.xml"/><Relationship Id="rId11" Type="http://schemas.openxmlformats.org/officeDocument/2006/relationships/slide" Target="slide32.xml"/><Relationship Id="rId12" Type="http://schemas.openxmlformats.org/officeDocument/2006/relationships/slide" Target="slide49.xml"/><Relationship Id="rId13" Type="http://schemas.openxmlformats.org/officeDocument/2006/relationships/slide" Target="slide49.xml"/><Relationship Id="rId14" Type="http://schemas.openxmlformats.org/officeDocument/2006/relationships/slide" Target="slide49.xml"/><Relationship Id="rId15" Type="http://schemas.openxmlformats.org/officeDocument/2006/relationships/slide" Target="slide70.xml"/><Relationship Id="rId1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000000"/>
                </a:solidFill>
                <a:latin typeface="Verdana"/>
              </a:rPr>
              <a:t>Chapter 14</a:t>
            </a:r>
            <a:br>
              <a:rPr sz="3000"/>
            </a:br>
            <a:r>
              <a:rPr b="1" lang="pt-PT" sz="3000" spc="-1" strike="noStrike">
                <a:solidFill>
                  <a:srgbClr val="000000"/>
                </a:solidFill>
                <a:latin typeface="Verdana"/>
              </a:rPr>
              <a:t>Communications</a:t>
            </a:r>
            <a:br>
              <a:rPr sz="3000"/>
            </a:b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USI Modul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0" y="-100080"/>
            <a:ext cx="9144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MSP430 Teach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60400" y="4221000"/>
            <a:ext cx="687240" cy="952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667640" y="4365720"/>
            <a:ext cx="752400" cy="723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15640" y="4220640"/>
            <a:ext cx="676908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Texas Instruments Incorporat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University of Beira Interior (PT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Verdana"/>
              </a:rPr>
              <a:t>Pedro Dinis Gaspar, António Espírito Santo, Bruno Ribeiro, Humberto Santo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Verdana"/>
              </a:rPr>
              <a:t>University of Beira Interior, Electromechanical Engineering Department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msp430.ubi.pt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140360" y="4221000"/>
            <a:ext cx="5003640" cy="21085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I operation: SPI and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 (4/5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SI clock gene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lock selection multiplex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rnal clocks ACLK or SMCL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ternal clock SCL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ISWCLK (software clock input bi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imer_A CAP/COM outpu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figurable divid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uto-stop on interrupt: USIIFG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lectable phase and polari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7A18D-AD27-48AD-AED9-82E63D1C14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I operation: SPI and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 (5/5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SICKPL: Selects the inactive level of the SPI clock (data latching on rising or falling edge)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SICKPH: Selects the clock edge on which SDO is updated and SDI is sampled (idle high or low support)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SIIFG automatically cleared and set by USICNTx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lock stop on IFG: USIIFG and USISTTIFG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474920" y="3284640"/>
            <a:ext cx="6049800" cy="30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B3D21-E3D7-4139-86CE-2DD2798431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00720" y="1052640"/>
            <a:ext cx="4643280" cy="38559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I operation: SPI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1/2)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87346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nfigure SPI mod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PI mast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IMST =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II2C =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lect clock sourc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CLK -&gt; outp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PI slav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IMST =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II2C =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CLK -&gt; inpu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ceives the clock externally from the mas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SIPEx bits enable data and clock pins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ort logic functions, including interrupts as normal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ata output latched on shift clock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B2B7D-39F8-4DCD-B467-FEE83F82F5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I operation: SPI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2/2)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PI interrupt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ne interrupt vector associated with the USI modul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ne interrupt flag, USIIFG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t when bit counter counts to zer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enerates an interrupt request when USIIE =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leared when USICNTx &gt; 0 (USIIFGCC = 0), or directly by softwar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ops clock when 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003640" y="3378240"/>
            <a:ext cx="4140360" cy="298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8E6E7-B197-4D45-ADB8-D8365EFF10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635280" y="2541600"/>
            <a:ext cx="5508720" cy="38498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I operation: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1/10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nfigure USI module in I</a:t>
            </a:r>
            <a:r>
              <a:rPr b="1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 mod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II2C =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ICKPL =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ICKPH =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 data compatibility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ILSB =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I16B =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nable SCL and SD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ort function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t USIPE6 and USIPE7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94F9B-7E1D-4E4B-8EF7-9A18B35E9B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I operation: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2/10)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 mast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IMST = 1 and USII2C =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lect clock source (output to SCL line while USIIFG = 0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 slav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IMST =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CL is held low if USIIFG=1, USISTTIFG=1 or if USICNTx=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30200" y="3564000"/>
            <a:ext cx="8389800" cy="278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89FAA-7F18-425D-BE1A-ADF6957F56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I operation: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3/10)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 transmitt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ata value is first loaded into USISR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IOE= 1: Enable output and start transmission (writes 8 into USICNTx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nd Start (or repeated Star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fine address and set R/W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lave ACK: (Data TX/RX + ACK for N byte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CL is generated in master mode or released from being held low in slave mod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IIFG is set after the transmission of all 8 bits (stops clock signal on SCL in master mode or held low at the next low phase in slave mod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op (or repeated Start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5FC7F-DBE6-4CA5-9F6D-E0E63581A7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I operation: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4/10)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 receiv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lear USIOE (disable outpu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nable reception by writing 8 into USICNTx (USIIFG = 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CL is generated in master mode or released from being held low in slave mod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IIFG is set after 8 clocks (stops the clock signal on SCL in master mode or holds SCL low at the next low phase in slave mode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20E0E-D976-469E-BBBF-9EECD3D2DE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I operation: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5/10)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DA configu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rec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d for TX/RX, ACK/NACK handling and START/STOP genera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IGE: Output latch contro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IOE: Data output enab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348000" y="3143160"/>
            <a:ext cx="579600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36C9D-1F56-48D5-95A8-6BE4035865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I operation: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6/10)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RT condi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(high-to-low transition on SDA while SCL is high)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lear MSB of the shift regist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ISTTIFG set on start (Sources USI interrupt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836720" y="3063960"/>
            <a:ext cx="6048360" cy="194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3EFF4-F65B-4C81-8C39-95B0AFCE7F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1" action="ppaction://hlinksldjump"/>
              </a:rPr>
              <a:t>MSP430 communications interfac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 u="sng">
                <a:solidFill>
                  <a:srgbClr val="009999"/>
                </a:solidFill>
                <a:uFillTx/>
                <a:latin typeface="Verdana"/>
                <a:hlinkClick r:id="rId2" action="ppaction://hlinksldjump"/>
              </a:rPr>
              <a:t>USI module </a:t>
            </a:r>
            <a:r>
              <a:rPr b="1" lang="pt-PT" sz="2000" spc="-1" strike="noStrike" u="sng">
                <a:solidFill>
                  <a:srgbClr val="009999"/>
                </a:solidFill>
                <a:uFillTx/>
                <a:latin typeface="Verdana"/>
                <a:hlinkClick r:id="rId3" action="ppaction://hlinksldjump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4" action="ppaction://hlinksldjump"/>
              </a:rPr>
              <a:t>USI operation: SPI 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5" action="ppaction://hlinksldjump"/>
              </a:rPr>
              <a:t>USI operation: I</a:t>
            </a:r>
            <a:r>
              <a:rPr b="1" lang="en-GB" sz="2000" spc="-1" strike="noStrike" u="sng" baseline="30000">
                <a:solidFill>
                  <a:srgbClr val="009999"/>
                </a:solidFill>
                <a:uFillTx/>
                <a:latin typeface="Verdana"/>
                <a:hlinkClick r:id="rId6" action="ppaction://hlinksldjump"/>
              </a:rPr>
              <a:t>2</a:t>
            </a:r>
            <a:r>
              <a:rPr b="1" lang="en-GB" sz="2000" spc="-1" strike="noStrike" u="sng" baseline="30000">
                <a:solidFill>
                  <a:srgbClr val="009999"/>
                </a:solidFill>
                <a:uFillTx/>
                <a:latin typeface="Verdana"/>
                <a:hlinkClick r:id="rId7" action="ppaction://hlinksldjump"/>
              </a:rPr>
              <a:t>C 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8" action="ppaction://hlinksldjump"/>
              </a:rPr>
              <a:t>USI registers (SPI and I</a:t>
            </a:r>
            <a:r>
              <a:rPr b="1" lang="en-GB" sz="2000" spc="-1" strike="noStrike" u="sng" baseline="30000">
                <a:solidFill>
                  <a:srgbClr val="009999"/>
                </a:solidFill>
                <a:uFillTx/>
                <a:latin typeface="Verdana"/>
                <a:hlinkClick r:id="rId9" action="ppaction://hlinksldjump"/>
              </a:rPr>
              <a:t>2</a:t>
            </a:r>
            <a:r>
              <a:rPr b="1" lang="en-GB" sz="2000" spc="-1" strike="noStrike" u="sng" baseline="30000">
                <a:solidFill>
                  <a:srgbClr val="009999"/>
                </a:solidFill>
                <a:uFillTx/>
                <a:latin typeface="Verdana"/>
                <a:hlinkClick r:id="rId10" action="ppaction://hlinksldjump"/>
              </a:rPr>
              <a:t>C modes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11" action="ppaction://hlinksldjump"/>
              </a:rPr>
              <a:t>Lab10b: Echo test using SPI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12" action="ppaction://hlinksldjump"/>
              </a:rPr>
              <a:t>Lab10c: Echo test using I</a:t>
            </a:r>
            <a:r>
              <a:rPr b="1" lang="en-GB" sz="2000" spc="-1" strike="noStrike" u="sng" baseline="30000">
                <a:solidFill>
                  <a:srgbClr val="009999"/>
                </a:solidFill>
                <a:uFillTx/>
                <a:latin typeface="Verdana"/>
                <a:hlinkClick r:id="rId13" action="ppaction://hlinksldjump"/>
              </a:rPr>
              <a:t>2</a:t>
            </a:r>
            <a:r>
              <a:rPr b="1" lang="en-GB" sz="2000" spc="-1" strike="noStrike" u="sng" baseline="30000">
                <a:solidFill>
                  <a:srgbClr val="009999"/>
                </a:solidFill>
                <a:uFillTx/>
                <a:latin typeface="Verdana"/>
                <a:hlinkClick r:id="rId14" action="ppaction://hlinksldjump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15" action="ppaction://hlinksldjump"/>
              </a:rPr>
              <a:t>Quiz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634E9-A966-4977-A22C-1E818A54AE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I operation: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7/10)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OP condi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(low-to-high transition on SDA while SCL is high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lear the MSB in the shift register and loads 1 into USICNTx (finishes the acknowledgment bit and pulls SDA low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ISTP set on stop (CPU-accessible flag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292720" y="2924280"/>
            <a:ext cx="3672000" cy="338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3C1C1-2952-4F89-A3CD-A17AF93503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I operation: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8/10)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eceiver ACK/NACK gene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fter address/data recep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DA = outpu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utput 1 data bit: 0 = ACK, 1 = NAC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ransmitter ACK/NACK Detec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fter address/data transmiss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DA = inpu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ceive 1 data bit: 0 = ACK, 1 = NAC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rbitration procedure (in multi-master I</a:t>
            </a:r>
            <a:r>
              <a:rPr b="1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 systems)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5DD2B-C2D3-4326-B879-1DA472EC67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I operation: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9/10)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 Interrupt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ne interrupt vector associated with the US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wo interrupt flags, USIIFG and USISTTIFG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ach interrupt flag has its own interrupt enable bit, USIIE and USISTTI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n an interrupt is enabled and the GIE bit is set, a set interrupt flag will generate an interrupt reques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IIFG is set (USICNTx = 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ISTTIFG is set (START condition detectio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5CC29-3716-4B91-B7C7-247A278D0AD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I operation: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10/10)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184040"/>
            <a:ext cx="878544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Procedure for I</a:t>
            </a:r>
            <a:r>
              <a:rPr b="0" lang="pt-PT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C communication between a Master TX and a Slave RX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0" y="2852640"/>
          <a:ext cx="9144000" cy="2830680"/>
        </p:xfrm>
        <a:graphic>
          <a:graphicData uri="http://schemas.openxmlformats.org/drawingml/2006/table">
            <a:tbl>
              <a:tblPr/>
              <a:tblGrid>
                <a:gridCol w="4303800"/>
                <a:gridCol w="4840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ster T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lave R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: Send Start, Address and R/W 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: Detect Start, receive address and R/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: Receive (N)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: Transmit (N)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: Test (N)ACK and handle TX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: Data R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: Receive (N)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: Transmit (N)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: Test (N)ACK and prepare St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: Reset for nex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: Send St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4B040-282A-4D1B-8F12-F5F391D624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I registers (SPI and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s)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1/8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SICTL0, USI Control Register 0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1427040"/>
            <a:ext cx="9144000" cy="922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08000" y="2421000"/>
            <a:ext cx="8964720" cy="44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44249-CC4E-4E75-85BE-D9110CC9490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I registers (SPI and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s)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2/8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SICTL0, USI Control Register 0 (continued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427040"/>
            <a:ext cx="9144000" cy="922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95280" y="2644920"/>
            <a:ext cx="8675640" cy="40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A1FB8-6953-4985-A4F1-92E26D36E36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I registers (SPI and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s)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3/8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SICTL1, USI Control Register 1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19200"/>
            <a:ext cx="9144000" cy="922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2654280"/>
            <a:ext cx="9144000" cy="401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95754-A2D6-4087-8B48-3CA5F43D206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I registers (SPI and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s)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4/8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SICTL1, USI Control Register 1 (continued)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1519200"/>
            <a:ext cx="9144000" cy="922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2936880"/>
            <a:ext cx="9144000" cy="330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87DD0-6F00-428D-B483-4F2B1CB36DD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I registers (SPI and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s)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5/8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SICKCTL, USI Clock Control Registe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922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76360" y="1913040"/>
            <a:ext cx="8172360" cy="48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590E4-9453-4BA5-86EC-6E9CC09655C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I registers (SPI and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s)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6/8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SICKCTL, USI Clock Control Register (continued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922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9144000" cy="188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AC3B4-7CC3-423F-B9A3-C1D4DA89953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MSP430 communications interfaces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1/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quipped with three serial communication interfac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11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SART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Universal Synchronous/Asynchronous Receiver/Transmitter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UART mod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SPI mod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pt-PT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C (on ‘F15x/’F16x only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11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SC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Universal Serial Communication Interface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ART with Lin/IrDA suppor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PI (Master/Slave, 3 and 4 wire mode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pt-PT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C (Master/Slave, up to 400 kHz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11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S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Universal Serial Interface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PI (Master/Slave, 3 &amp; 4 wire mod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93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pt-PT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C (Master/Slave, up to 400 kHz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5C1E4-9225-4811-B9F4-5E1B3082D1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I registers (SPI and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s)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7/8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SICNT, USI Bit Counter Register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922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2708280"/>
            <a:ext cx="9144000" cy="307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94F41-55AC-405E-873E-CFC92822414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I registers (SPI and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s)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8/8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SISRL, USI Low Byte Shift Registe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SISRH, USI High Byte Shift Registe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922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2205000"/>
            <a:ext cx="9144000" cy="944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4149720"/>
            <a:ext cx="9144000" cy="9223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0" y="4941720"/>
            <a:ext cx="9144000" cy="94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4C4C8-8236-48DD-BAD9-9CF9FDD5F3D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10b: Echo test using SPI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1/1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roject fil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 source files: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apter 14 &gt; Lab10 &gt; Lab10b1_stud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apter 14 &gt; Lab10 &gt; Lab10b2_student.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lution files: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apter 14 &gt; Lab10 &gt; Lab10b1_solution.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apter 14 &gt; Lab10 &gt; Lab10b2_solution.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verview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laboratory explores the USCI and USI communication interfaces in SPI mod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MSP430 devices supported by the Experimenter’s board will exchange messages between themselv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89BC6-1835-4ABB-B9BA-85B00151186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10b: Echo test using SPI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2/1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verview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SP430FG4618: Master reads the current state of the slave, and drives it to the new desired stat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SP430F2013: Slave commanded by the Mas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. Resourc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CI module: MSP430FG4618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I module: MSP430F201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oth units operate in SPI mod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asic Timer1 of the master device is programmed to switch the status of the slave device once every 2 second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slave is notified of the arrival of information through the end of counting interrupt of the USI modu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602B9-1BED-4B08-A3A0-90624175C10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10b: Echo test using SPI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3/1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. Resources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resources used ar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CI modul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I modul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asic Timer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rrup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/O por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5BADF-2662-41BD-8A85-9B64A013CDB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10b: Echo test using SPI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4/1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. Software application organiz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1776240"/>
            <a:ext cx="9144000" cy="348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EB315-C729-4F82-97CC-7D15156FAD3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10b: Echo test using SPI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5/1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. Software application organiz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master unit is composed of two software modu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"Main master task" module contains the operational algorithm of the master uni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"ISR Basic Timer" module wakes the "Main master task" with a rate of once every 2 second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imilarly, the slave unit is composed of two modu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"Main slave task" module contains the operational algorithm of the slave uni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"USI ISR" module reads the data received, prepares the USI module for reception of a new command and wakes the "Main slave task" to execute the algorithm associated with the reception of the new comman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2CFC9-C162-4CA4-9225-C6C7EEB546B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10b: Echo test using SPI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6/1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. Configu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nfigure the control registers USCI_B (master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SPI connection will operate as follow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lock phase -&gt; Data bits are sent on the first UCLK edge and captured on the following edg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lock polarity -&gt; the inactive state is low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SB firs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-bit dat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ster mod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3-Pin SP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urce clock -&gt; SMCL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8449D-4B99-4797-8740-03A7EA7968C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10b: Echo test using SPI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7/1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. Configuration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nfigure the control registers USCI_B (master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figure the following control registers based on these characteristic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UCB0CTL0 = 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UCB0CTL1 = 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7B2DC-6D07-4E20-9CE0-B221C9AA16F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10b: Echo test using SPI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8/1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. Configuration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ata rate USCI_B (master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system clock is configured to operate with a frequency of ~ 1048 kHz from the DC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frequency will be the working base of the USCI modul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connection operates at a clock frequency of ~ 500 kHz. Configure the following register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UCB0BR0= 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UCB0BR1= 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C734D-6DDE-4A63-904B-57A930B2B81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MSP430 communications interfaces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2/2)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176120"/>
            <a:ext cx="8785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Comparison between the communication modul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1557360"/>
          <a:ext cx="9144000" cy="4816440"/>
        </p:xfrm>
        <a:graphic>
          <a:graphicData uri="http://schemas.openxmlformats.org/drawingml/2006/table">
            <a:tbl>
              <a:tblPr/>
              <a:tblGrid>
                <a:gridCol w="3046320"/>
                <a:gridCol w="3048120"/>
                <a:gridCol w="3049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ART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Only one modul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ART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Two modulators support n/16 tim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Auto baud rate det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IrDA encoder &amp; deco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Simultaneous USCI_A and USCI_B (2 channel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1339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P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Only one SPI avail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Master and Slave Mo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3 and 4 Wire Mo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P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Two SPI (one on each USCI_A and USCI_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Master and Slave Mo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3 and 4 Wire Mo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P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Only one SPI avail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Master and Slave Mo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38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</a:t>
                      </a:r>
                      <a:r>
                        <a:rPr b="1" lang="en-GB" sz="16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C: </a:t>
                      </a: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on ‘15x/’16x onl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Master and Slave Mo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up to 400kb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</a:t>
                      </a:r>
                      <a:r>
                        <a:rPr b="1" lang="en-GB" sz="16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C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Simplified interrupt us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Master and Slave Mo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up to 400kb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</a:t>
                      </a:r>
                      <a:r>
                        <a:rPr b="1" lang="en-GB" sz="16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C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SW state machine need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Master and Slave Mo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19F24-10FF-4F7E-BBFB-60449ECA9D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10b: Echo test using SPI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9/1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. Configuration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orts configuration USCI_B (master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 order to set the external interfaces of the USCI module, it is necessary to configure the I/O por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lect the USCI peripheral in SPI mode following the connections provided at the Experimenter’s board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3SEL = ___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5FD7B-4268-4BE4-961F-7C3FE33A64A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10b: Echo test using SPI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10/1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. Configuration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nfigure the control registers USI (slave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SPI connection will operate in the following mod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SB firs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-bit dat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lave mod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lock phase -&gt; Data bits are sent on the first SCLK edge and captured on the following edg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I counter interrupt enab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85448-9F24-4EC2-ACF3-FD3E14ACA2F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10b: Echo test using SPI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11/1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. Configuration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nfigure the control registers USI (slave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figure the following control registers based on these characteristic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USICTL0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= 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USICTL1 = 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54905-AC6E-495A-B182-26A57469D8F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10b: Echo test using SPI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12/1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. Analysis of ope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nce the USCI module is configured in accordance with the previous steps, to initiate the experiment, complete the file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ab10b1_student.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master – MSP430FG4618) and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ab10b2_student.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slave – MSP430F2013), compile them and run them on the Experimenter’s boar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finished solution can be found in the file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ab10b1_solution.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ab10b2_soluction.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or this laboratory, the following jumper settings are required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WR1/2, BATT, LCL1/2, JP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PI: H1- 1&amp;2, 3&amp;4, 5&amp;6, 7&amp;8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332B1-919D-4151-AAF3-8774D36C43C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10b: Echo test using SPI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13/1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. Analysis of ope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Verif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nce the program code is running in the two microcontrollers, monitor LED3 of the Experimenter’s board. It will blink at a rate of 4 flashes per secon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D3FA3-5F89-4247-8174-213A0AA13EC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10b: Echo test using SPI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14/1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ontrol registers USCI_B (master):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CB0CTL0 = 0x29;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UCB0CTL0 = UCCKPH|UCCKPL|UCMSB|UC7BIT|UCMST|UCMODEx|UCSYNC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UCCKPH (Clock phase) = 0b   -&gt;  Data is changed on the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   first UCLK edge and captured on the following edge.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UCCKPL (Clock polarity) = 0b  -&gt; Inactive state is low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UCMSB (MSB first select) = 1b            -&gt;  MSB first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UC7BIT (Character length) = 0b          -&gt;  8-bit dat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UCMST (Master mode) = 1b               -&gt;  Master mode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UCMODEx (USCI mode) = 00b                 -&gt; 3-Pin SPI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UCSYNC (Synch. mode enable) = 1b  -&gt;  Synchronous mode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0" y="1052640"/>
          <a:ext cx="9144000" cy="1463400"/>
        </p:xfrm>
        <a:graphic>
          <a:graphicData uri="http://schemas.openxmlformats.org/drawingml/2006/table">
            <a:tbl>
              <a:tblPr/>
              <a:tblGrid>
                <a:gridCol w="3105000"/>
                <a:gridCol w="6039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SP-EXP430FG4618 (mast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ing USCI module in SPI mode included in the FG4618 (configured as master) of the Experimenter’s board, establish a connection to the F2013 by its USI module in SPI mode. The data exchanged is displayed by the LED blink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88CF6-32FC-4390-B818-B13F4129136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10b: Echo test using SPI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15/1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ntrol registers USCI_B (master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CB0CTL1 = 0x81;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UCB0CTL1 = UCSSELx |              Unused                |UCSWRST|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UCSSELx (USCI clock source select)= 10b      -&gt;  SMCLK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UCSWRST (Software reset) = 1b -&gt; normally set by a PUC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ata rate USCI_B (master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CB0BR0 = 0x02;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CB0BR1 = 0x00;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 Data rate = SMCLK/2 ~= 500kHz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 UCB0BR1 = 0x00 &amp; UCB0BR0 = 0x02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nfigure I/O port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3SEL |= 0x0E;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 P3.1,P3.2,P3.3 option select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9F875-98DF-43CD-A5FE-DB28B7D8449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10b: Echo test using SPI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16/1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SI (slave) control register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SICTL0 = 0xE3;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USICTL0 = USIPE7|USIPE6|USIPE5|USILSB|USIMST|USIGE|USIOE|USISWRST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USIPE7 (USI SDI/SDA port enable) = 1b          -&gt; USI enable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USIPE6 (USI SDO/SCL port enable) = 1b         -&gt;  USI enable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USIPE5 (USI SCLK port enable) = 1b            -&gt;  USI enable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USILSB (LSB first) = 0b                         -&gt;  MSB first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USIMST (Master) = 0b                           -&gt;  Slave mode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USIGE (Output latch control) = 0b     -&gt;  Output latch enable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USIOE (Serial data output enable) = 1b           -&gt;  Output enable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USISWRST (USI software reset) = 1b         -&gt;  Software reset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1052640"/>
          <a:ext cx="9144000" cy="1828800"/>
        </p:xfrm>
        <a:graphic>
          <a:graphicData uri="http://schemas.openxmlformats.org/drawingml/2006/table">
            <a:tbl>
              <a:tblPr/>
              <a:tblGrid>
                <a:gridCol w="3105000"/>
                <a:gridCol w="6039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SP-EXP430F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(sla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6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ing the USCI module in SPI mode included in the FG4618 (configured as master) of the Experimenter’s board, establish a connection to the F2013 by its USI module in SPI mode. The data exchanged is displayed by the LED blinkin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04EC3-3FB2-4848-BD3A-076F30CADFF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10b: Echo test using SPI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17/17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SI (slave) control register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SICTL1 = 0x10;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USICTL1= USICKPH|USII2C|USISTTIE|USIIE|USIAL|USISTP|USISTTIFG|USIIFG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USICKPH (Clock phase select) = 0b  -&gt;  Data is changed on the first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                       SCLK edge and captured on the following edge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USII2C (I2C mode enable) = 0b                 -&gt;  I2C mode disable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USISTTIE (START condition interrupt) = 0b              -&gt;  Not use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USIIE (USI counter) = 1b                       -&gt; Interrupt enable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USIAL (Arbitration lost) = 0b                          -&gt;  Not use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USISTP (STOP condition received) = 0b                  -&gt;  Not use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USISTTIFG (START condition int. flag) = 0b              -&gt; Not use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USIIFG (USI counter int. flag) = 0b              -&gt; No int. pending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D3FB2-B023-46BA-89D6-4B29C4E84C5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10c: Echo test using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1/2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roject fil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 source files: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apter 14 &gt; Lab10 &gt; Lab10c1_student.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apter 14 &gt; Lab10 &gt; Lab10c2_student.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lution files: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apter 14 &gt; Lab10 &gt; Lab10c1_solution.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apter 14 &gt; Lab10 &gt; Lab10c2_solution.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verview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laboratory explores the USCI and USI communication interfaces in I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 mod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uses the two MSP430 devices included on the Experimenter’s board: MSP430FG4618 as the master and the MSP430F2013 as slav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master receives a single byte from the slave as soon as a button connected to P1.0 is press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EB152-69C4-40CE-B441-6E0FA87B048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USI module introduction (1/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USI (Universal Serial Interface) module supports basic SPI and I</a:t>
            </a:r>
            <a:r>
              <a:rPr b="1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 synchronous serial communications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t is available in the MSP430x20xx family of devices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USI module support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PI or I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 mod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rrupt drive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duces CPU loa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lexible clock source selec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DAF84-F1E9-429F-925D-3027C4C2EF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10c: Echo test using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2/2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. Resourc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laboratory uses the USCI module of the MSP430FG4618 device and the USI module included in the MSP430F2013. Both units operate in I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 mod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interrupts on the slave unit are generated exclusively by the USI module. They ar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RT condition on the I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 bu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ata reception and transmiss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interrupts in the master unit are provided by the USCI module. They ar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ata recep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gic level change on Port1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CEB69-CC98-4382-A7C8-F94164EDA90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10c: Echo test using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3/2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. Resourc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resources used ar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CI modul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I modul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rrup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/O por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ABFDD-A61E-4F22-89E8-46CB1E43488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10c: Echo test using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4/2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. Software application organiz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ftware architectur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00000" y="2384280"/>
            <a:ext cx="8028000" cy="385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C9C8D-6D95-4706-89FC-0314F503071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10c: Echo test using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5/2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. Software application organiz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master task is composed of two interrupt service routin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S1 switch service routine is used to control the way the master receives a new data frame from the slav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SCI module interrupt service routine ensures that the data sent by the slave is read by the master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state machine has been implemented for the USI module of the slave uni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is important to note that the states “RX Address” and “RX (N)ACK" are transient states that ensure the USI module is ready for the next activi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DDEDA-9A42-4E30-BFED-FA381C0E98E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10c: Echo test using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6/2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. Software application organiz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lave state machin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889600" y="1052640"/>
            <a:ext cx="2930400" cy="527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325B0-7A93-4E53-A36B-59395DB456C5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10c: Echo test using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7/2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. Configu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nfigure the control registers USCI_B (master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connection via I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 bus is to operate as follow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ddress slave with 7-bit addres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ster mod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ingle mast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CI clock source is SMCL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figure the following control registers based on these characteristic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UCB0CTL0 = 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UCB0CTL1 = 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84006-9C20-4840-87C2-FB6CB66EA6C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10c: Echo test using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8/2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. Configuration (continued):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ata rate USCI_B (master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system clock is configured to operate with a frequency of ~ 1048 kHz from the DC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frequency will be the working base for the USCI modul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connection operates at a clock frequency of ~ 95.3kHz. Configure the following register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UCB0BR0= 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UCB0BR1= 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B43D0-5EFE-4D4A-B984-779529ACC37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10c: Echo test using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9/2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. Configuration (continued):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orts configuration USCI_B (master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 order to set the external interfaces for the USCI module, it is necessary to configure the I/O por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lect the USCI peripheral in I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 mode to be compatible with the connections on the Experimenter’s board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3SEL = ___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1D8EC-26FC-4B02-AFF2-3A4B5B12D27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10c: Echo test using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10/2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. Configuration (continued):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nfigure the control registers USI (slave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connection via I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 bus is to operate as follow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lave mod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I counter interrupt enable (RX and TX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RT condition interrupt-enabl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IIFG is not cleared automaticall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figure the following control register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USICTL0 = 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USICTL1 = 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USICNT = _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81E63-BDDF-4BE8-BF7C-BA10922D6D9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10c: Echo test using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11/2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. Configuration (continued):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nfigure the control registers USI (slave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slave unit interrupt service routine is not yet complete. The portion related to the “I2C_TX” state needs to be completed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figure the USI module as an outpu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sert the value to transmit in the transmit regist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figure the bit coun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USICTL0 |=_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USISRL  =__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USICNT  |=_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24842-0997-466C-A586-04A964D3801C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USI module introduction (2/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SI block diagram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PI mod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grammable data length (8/16-bit shift registe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SB/LSB fir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 mod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RT/STOP detec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rbitration lost detec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rrupt drive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duces CPU loa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lexible clock sour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43280" y="2343240"/>
            <a:ext cx="4500720" cy="402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E9059-292C-4031-9412-D5447A7F14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10c: Echo test using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12/2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. Analysis of ope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nce the USCI module is configured in accordance with the previous steps, to initiate the experiment, complete the fi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ab10c1_student.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master – MSP430FG4618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ab10c2_student.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slave – MSP430F2013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pile them and run them on the Experimenter’s boar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completed solution can be found in the file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ab10c1_solution.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ab10c2_soluction.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or this laboratory it is necessary to set up the following jumper setting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WR1/2, BATT, LCL1/2, JP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PI: H1- 1&amp;2, 3&amp;4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3F666-7A4E-42C9-84E7-2FE207987E29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10c: Echo test using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13/2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. Analysis of ope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Verif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slave data values are sent and incremented from 0x00 with each transmitted byte, and are verified by the Mast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LED is off for address/data Acknowledge and the LED turns on for address/data Not Acknowledg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LED3 blinks at each data reques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is turned on by a START condi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is turned off by the data transmit acknowledge by the slav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Note: the I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 bus is not released by the master because the successive START conditions are interpreted as “repeated START”).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60997-530F-48BB-ABF4-576E39EA9B51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10c: Echo test using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14/2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. Analysis of ope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Verif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erify the value received by setting a breakpoint in the line of code “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xBuffer = UCB0RXBUF;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” of the USCI interrup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68A21-D509-4CEE-AB9B-C254095D7040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10c: Echo test using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15/2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SCI (master) control register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CB0CTL0 = 0x0F;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UCB0CTL0 =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UCA10|UCSLA10|UCMM|Unused|UCMST|UCMODEx|UCSYNC|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UCA10 (Own address) = 0b        -&gt; Own address (7-bit)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UCSLA10 (Slave address) = 0b   -&gt;  7-bit slave addres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UCMM (Multi-master) = 0b             -&gt;  Single master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Unused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UCMST (Master mode) = 1b               -&gt;  Master mode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UCMODEx (USCI mode) = 11b -&gt;                  I2C Mode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UCSYNC (Synchronous mode enable) = 1b -&gt;   Synchronou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0" y="1052640"/>
          <a:ext cx="9144000" cy="1828800"/>
        </p:xfrm>
        <a:graphic>
          <a:graphicData uri="http://schemas.openxmlformats.org/drawingml/2006/table">
            <a:tbl>
              <a:tblPr/>
              <a:tblGrid>
                <a:gridCol w="3105000"/>
                <a:gridCol w="6039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SP-EXP430FG4618 (mast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ing USCI module in I</a:t>
                      </a:r>
                      <a:r>
                        <a:rPr b="0" lang="en-GB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 mode included in the FG4618 (configured as master) of the Experimenter’s board, establish a connection to the F2013 by its USI module in I</a:t>
                      </a:r>
                      <a:r>
                        <a:rPr b="0" lang="en-GB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 mode. The master receives a single byte from the slave as soon as a button connected on P1.0 is press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EBAB5-E65C-4019-BDBF-ED9FB7127412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10c: Echo test using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16/2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SCI (master) control register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CB0CTL1 = 0x81;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UCB0CTL1 =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UCSSELx|Unused|UCTR|UCTXNACK|UCTXSTP|UCTXSTT|UCSWRST|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UCSSELx (USCI clock source select) = 10b     -&gt;  SMCLK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Unused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UCTR (Transmitter/Receiver) = 0b          -&gt;  Receiver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UCTXNACK (Transmit a NACK) = 0b       -&gt;  Ack normally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UCTXSTP (Transmit STOP condition) = 0b     -&gt;  No STOP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UCTXSTT (Transmit START condition) = 0b   -&gt;  No START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UCSWRST (Software reset) = 1b               -&gt; Enable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EEC9D-FF98-4B97-AF91-EDE76BFD7441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10c: Echo test using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17/2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ata rat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/ DATA RATE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/ data rate -&gt; fSCL = SMCLK/11 = 95.3 kHz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UCB0BR0 = 0x0B; // fSCL = SMCLK/11 = 95.3 kHz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UCB0BR1 = 0x00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nfigure port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3SEL |=0x06;  // Assign I2C pins to USCI_B0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50E23-A67B-4B46-A1A7-629055A086CC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10c: Echo test using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18/2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SI (slave) control register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SICTL0 = 0XC1;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USICTL0 =|USIPE7|USIPE6|USIPE5|USILSB|USIMST|USIGE|USIOE|USISWRST|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USIPE7 (USI SDI/SDA port enable) = 1b    -&gt; USI function enable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USIPE6 (USI SDO/SCL port enable) = 1b    -&gt; USI function enable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USIPE5 (USI SCLK port enable) = 0b       -&gt; USI function disable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USILSB (LSB first) = 0b                             -&gt; MSB first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USIMST (Master) = 0b                               -&gt; Slave mode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USIGE (Output latch control) = 0b      -&gt; Depends on shift clock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USIOE (Serial data output enable) = 0b               -&gt; Output enable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USISWRST (USI software reset) = 1b             -&gt; Software reset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0" y="1052640"/>
          <a:ext cx="9144000" cy="1828800"/>
        </p:xfrm>
        <a:graphic>
          <a:graphicData uri="http://schemas.openxmlformats.org/drawingml/2006/table">
            <a:tbl>
              <a:tblPr/>
              <a:tblGrid>
                <a:gridCol w="3105000"/>
                <a:gridCol w="6039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SP-EXP430F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(sla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ing USCI module in I</a:t>
                      </a:r>
                      <a:r>
                        <a:rPr b="0" lang="en-GB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 mode included in the FG4618 (configured as master) of the Experimenter’s board, establish a connection to the F2013 by its USI module in I</a:t>
                      </a:r>
                      <a:r>
                        <a:rPr b="0" lang="en-GB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 mode. The master receives a single byte from the slave as soon as a button connected on P1.0 is press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97344-3878-4C56-B41D-446E48CD78B2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10c: Echo test using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19/2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SI (slave) control register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SICTL1 = 0x70;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USICTL1 =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|USICKPH|USII2C|USISTTIE|USIIE|USIAL|USISTP|USISTTIFG|USIIFG|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USICKPH (Clock phase select) = 0b        -&gt; Data is change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 on the first SCLK edge and captured on the following edge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USII2C (I2C mode enable) = 1b           -&gt; I2C mode enable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USISTTIE = 1b       -&gt; Interrupt on START condition enable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USIIE = 1b                  -&gt; USI counter interrupt enabl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USIAL (Arbitration lost) = 0b                   -&gt; Not use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USISTP (STOP condition received) = 0b           -&gt; Not use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USISTTIFG (START condition int. flag) = 0b      -&gt; Not use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USIIFG (USI counter int. flag) = 0b      -&gt; No int. pending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8FCCE-8197-4FBB-A3C2-A7DAB868F5AB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10c: Echo test using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20/2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SI Bit Counter Regist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SICNT |= 0x20;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USICNT =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USISCLREL| USI16B |USIIFGCC |USICNTx|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USISCLREL (SCL release) = 0b   -&gt; SCL line is held low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                                      if USIIFG is set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USI16B (16-bit shift register enable) = 0b    -&gt; 8-bit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                                   shift register mod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USIIFGCC (USI int. flag clear control) = 1b  -&gt; USIIFG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                          is not cleared automatically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USICNTx (USI bit count) = 00000b (not relevant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E2186-A2BF-4316-A2CA-B61C381D7CC8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10c: Echo test using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21/2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 state machin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SICTL0 |= USIOE;                          // SDA = output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SISRL = SlaveData;                      // Send data byt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SICNT |= 0x08;                // Bit counter = 8, TX data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E82DE-AE14-48D7-B5E3-4460BBEB40E3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I operation: SPI and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 (1/5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hift register and bit counter that include logic to support SPI and I</a:t>
            </a:r>
            <a:r>
              <a:rPr b="1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 communication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SISR shift register (up to 16 bits support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rectly accessible by softwar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tains the data to be transmitted/received (simultaneousl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SB or LSB fir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it count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trols the number of bits transmitted/receiv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unts the number of sampled bi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ts USIIFG when the USICNTx = 0 (decrementing or writing zero to USICNTx bit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riting USICNTx &gt; 0 automatically clears USIIFG when USIIFGCC = 0 (automatically stops clocking after last bit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E017B-939F-4730-9125-85E5620FEE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Quiz (1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1. The USI module ha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A SPI interface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An I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 interface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All of above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None of abov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2. The internal USI clock generation can us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ACLK and SMCLK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ACLK and MCLK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SMCLK and MCLK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None of abov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3626E-8ECA-4ED9-BBB0-AC3476F3495B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Quiz (2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3. The USISR shift register support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8 bit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16 bit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All of above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None of abov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4. The USIIFG is set whe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Bit counter counts to 0xFF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Bit counter counts to 0x00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Bit counter counts to 0x80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Bit counter counts to 0x08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0E485-A6FE-4D3F-825F-BB9ADD060962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Quiz (3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5. After address/data reception, the receiver ACK/NACK i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SDA = input: 0 = ACK, 1 = NACK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SDA = output: 0 = ACK, 1 = NACK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SDA = input: 1 = ACK, 0 = NACK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SDA = output: 1 = ACK, 0 = NACK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6. After address/data transmission the transmitter ACK/NACK i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SDA = input: 0 = ACK, 1 = NACK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SDA = output: 0 = ACK, 1 = NACK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SDA = input: 1 = ACK, 0 = NACK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SDA = output: 1 = ACK, 0 = NACK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A9487-9010-497A-A28A-16EB0794E6C1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Quiz (4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nswer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. (c) All of abov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. (a) 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ACLK and SMCL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3. (c) All of abov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4. (b) Bit counter counts to 0x00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5. (b) SDA = output: 0 = ACK, 1 = NACK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6. (a) SDA = input: 0 = ACK, 1 = NAC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957D9-17BD-4021-9490-A29451AEC84B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I operation: SPI and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 (2/5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SI initializ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set USISWRS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t USIPEx bits (USI function for the pin and maintains the PxIN and PxIFG functions for the pin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ort input levels can be read via the PxIN register by softwar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oming data stream can generate port interrupts on data transi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995A6-3574-46BF-81D3-7E5A2B1399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USI operation: SPI and I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 mode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 (3/5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ecommended USI initialization proces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t the USIPEx bits in the USI control register (USI function for the pin and set up the PxIN and PxIFG functions for the pin as well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t the direction of the RX and TX shift register (MSB or LSB first) by USILSB bi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lect the mode (master or slave) by USIMTS bi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nable or disable output data by USIOE bi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nable USI interrupts by setting USIIE bi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t up USI clock by configuring the USICKCTL control regist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nable USI by setting USISWRST bi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 port input levels via the PxIN register by softwar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oming data stream will generate port interrupts on data transi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94263-FBE2-4483-AF32-7886F5ED04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2:17:19Z</dcterms:created>
  <dc:creator>Dinis</dc:creator>
  <dc:description/>
  <dc:language>en-US</dc:language>
  <cp:lastModifiedBy>Universidade Beira Interior</cp:lastModifiedBy>
  <dcterms:modified xsi:type="dcterms:W3CDTF">2009-02-17T18:17:12Z</dcterms:modified>
  <cp:revision>114</cp:revision>
  <dc:subject/>
  <dc:title>Diapositivo 1</dc:title>
</cp:coreProperties>
</file>