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10E9-1455-4797-86C9-0EDCE211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9A7C-47CD-428C-A5A4-2484EC91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B3B7-D987-44C4-8AD6-D6C67C9E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959C-E41E-4379-99A3-B012EA67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3C8C-EF3B-4158-A2AD-B08BFEC9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A56F-E9DD-469E-8695-3D456DC8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B908-15BD-4789-815C-FF7892A8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79292-9A00-43DE-A601-23B9AF1B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E4D2-F827-438A-B57C-63E0532D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0F13-C88A-461A-9C32-0796C1E3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D32A-1464-4A32-B632-7A319C55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1EC7-7B7F-41B7-9CB8-BF4A3FF7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e7e7e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4AD4-0356-4787-8556-0115FEE1062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14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ommunications</a:t>
            </a:r>
            <a:br>
              <a:rPr sz="3000"/>
            </a:b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Transmission mode (5/5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204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vantages and disadvantages of parallel and serial communic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2060640"/>
          <a:ext cx="9144000" cy="4203720"/>
        </p:xfrm>
        <a:graphic>
          <a:graphicData uri="http://schemas.openxmlformats.org/drawingml/2006/table">
            <a:tbl>
              <a:tblPr/>
              <a:tblGrid>
                <a:gridCol w="2195640"/>
                <a:gridCol w="3100320"/>
                <a:gridCol w="384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all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e line per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e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l bits of one word simultaneous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quence of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ss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ort di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ort and long di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145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ical 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nchronisation between the different bits is dem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ynchronous transmission needs start and stop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nchronous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mission needs some other synchro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1C8C-A030-4E72-B2E8-5C7E80E015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rial communications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tart bit identifies the beginning of a data transfer and is generated by a high-to-low transition on the bu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ollowing the start bit are the data bits. In this example, the ASCII code for the text transfer uses seven data bits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error-checking bit (parity bit) is sent after the data bit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terminate the transmission, one or two stop bits are issu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ng seven data bits, the complete message can use one or two stop bits. Using eight data bits, only one stop bit is available for transmission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8802-2029-4824-8E19-8EBAB7903B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rial communications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arity bi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sed to verify the integrity of information transmitt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bit is added by the transmitter and indicates whether the total sum of the numbers "1" in the message data is odd or ev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transmissions can be configured for odd or even parity.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340000" y="4025880"/>
          <a:ext cx="504036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4025880"/>
                    <a:ext cx="504036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8890-C574-49C4-B6C9-B3B7EAF9ED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rial communications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aud rate exampl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transmission of “W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haracter uses seven data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Four bits are used for control, making a total of 11 b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is corresponds to 11 bau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f the characters are transmitted at a rate of 10 characters per second, the baud rate will b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10x11 = 1100 baud/s.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35D8-0D9D-484E-9ED7-FEB67B13B5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ynchronous and asynchronous serial communications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rial communications may b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ynchronous: where the transmission rate (baud rate) is fixed by the transmitter and the receiver works at the same baud rate, using the transmitted start bit to synchronize the start of a new mess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nchronous: where there is a separate synchronization clock signal connected between the receiver and the transmit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ynchronous commun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rmally one unit assumes the role of master and one or more of the other units take the role of slav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lock signal generated by the master is used by the slave units to transfer data in/out of the TX and RX registe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is possible for a device to transmit and receive simultaneous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CACB-222E-43C3-B45E-899DCD3D87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ynchronous and asynchronous serial communications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ynchronous commun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racterised by the absence of any synchronization clock signal between the un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ransmission in this mode does not allow simultaneous transmission and reception, that is, when one device transmits the other devices just lis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8285-0E39-4844-95EC-77A8AF30ED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rial Peripheral Interface (SPI) protocol (1/2)</a:t>
            </a:r>
            <a:r>
              <a:rPr b="1" lang="pt-P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erial Peripheral Interface ( SPI) bus is a standard form of synchronous serial communica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veloped by Motorola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perates in full duplex mod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ster/Slave relationship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unications are alw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itiated by the master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ow cost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60800" y="2405160"/>
            <a:ext cx="4032360" cy="34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F39D-004B-4406-990D-D57A7A608A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eripheral Interface Serial (SPI) protocol (2/2)</a:t>
            </a:r>
            <a:r>
              <a:rPr b="1" lang="pt-P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upports only one mast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an support more than a sla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hort distance between devices, e.g. on a printed circuit boards (PCBs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pecial attention needs to be observed to the polarity and phase of the clock signal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aster sends data on one edge of clock and reads data on the other edge. Therefore, it can send/receive at the same tim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6D93-5F58-49AF-8B06-DC515E3E8B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(Inter-Integrated Circuit) protocol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ulti-master synchronous serial computer bu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vented by Philips Semiconductor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veloped with the main objective of establishing links between integrated circuits and to connect low-speed peripheral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ased on a two bi-directional open-drain lines pulled up with resisto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A: Serial D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L: Serial clo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ypical voltages used are +5.0 V or +3.3 V, although systems with other voltages are possib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F4CA-1B10-4E1B-BD5B-06D2F7D36A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(Inter-Integrated Circuit) protocol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unications is always initiated and completed by the master, which is responsible for generating the clock signal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 more complex applications,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can operate in multi-master mod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lave selection by the master is made using the seven-bit address of the target sla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aster (in transmit mode) send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-bit address of the slave it wishes to communicate with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ingle bit representing whether it wishes to write (0) to or read (1) from the sla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arget slave will acknowledge its addr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A569-4253-4F63-93BD-ED468AAC16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Communications system mod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Transmission 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Serial communicat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Synchronous and asynchronous serial communicat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Peripheral Interface Serial (SPI) protoco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I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8" action="ppaction://hlinksldjump"/>
              </a:rPr>
              <a:t>2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9" action="ppaction://hlinksldjump"/>
              </a:rPr>
              <a:t>C (Inter-Integrated Circuit) protoco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0" action="ppaction://hlinksldjump"/>
              </a:rPr>
              <a:t>MSP430 communications interfac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1" action="ppaction://hlinksldjump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8171-EA22-42E2-89B8-D54F9D812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(Inter-Integrated Circuit) protocol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ample of an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communication system: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535640" cy="407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0968-B78B-4BE7-8315-BDE997DC3B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SP430 communications interfaces (1/2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quipped with three serial communication interfa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AR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iversal Synchronous/Asynchronous Receiver/Transmitte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ART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PI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 (on ‘F15x/’F16x onl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iversal Serial Communication Interfac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ART with Lin/IrDA suppor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(Master/Slave, 3 and 4 wire mod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 (Master/Slave, up to 400 kHz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Universal Serial Interfac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(Master/Slave, 3 &amp; 4 wire mod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 (Master/Slave, up to 400 kHz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9C99-1BAC-4117-A2F3-E169391F07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SP430 communications interfaces (2/2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7936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omparison between the communication modu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700280"/>
          <a:ext cx="9144000" cy="4518000"/>
        </p:xfrm>
        <a:graphic>
          <a:graphicData uri="http://schemas.openxmlformats.org/drawingml/2006/table">
            <a:tbl>
              <a:tblPr/>
              <a:tblGrid>
                <a:gridCol w="3046320"/>
                <a:gridCol w="3048120"/>
                <a:gridCol w="3049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Only one modul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Two modulators support n/16 tim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Auto baud rate de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IrDA encoder &amp; deco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Simultaneous USCI_A and USCI_B (2 channel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Only one SPI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3 and 4 Wir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Two SPI (one on each USCI_A and USCI_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3 and 4 Wir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Only one SPI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: </a:t>
                      </a: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n ‘15x/’16x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up to 400k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Simplified interrupt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up to 400k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SW state machin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7DD8-FBA1-46F6-974E-372A065590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(1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. In the parallel communication transmission mo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The data is transferred more slowly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Each bit of the data has its own lin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In the serial communication transmission mo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The data bits arrive sequentially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The digital data is transferred fast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06FA-1078-4DDA-9A5B-318C9E421E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(2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The serial transmission mode is the most popular digital data communications method becaus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Higher bit transfer rates are achiev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It is cheaper to implement than parallel transmission mod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In asynchronous serial transmission communications, the frame must inclu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Start and stop bits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Parity bit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F8C03-76E5-4A2A-ACA8-B5CAB47B1C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(3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Even parity means that an additional bit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dded to the data to make the sum of the “1” bits eve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ubtracted from the data to make the sum of the “1” bits eve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A USART is use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Only for asynchronous transmission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Only for synchronous transmission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In parallel transmission communication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In serial transmission communications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9BFF-8963-4955-852F-A11B1E4C96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(4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Synchronous communication performed between two USART requir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 common clock either in the transmitter or the receiv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No common clo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n independent clock in the transmitt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n independent clock in the receiver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8. Asynchronous communication between two USARTs requir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 common clock in the transmitter and the receiv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An independent clock in the transmitter and the receiv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 common clock in the transmitter or the receiv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n independent clock in the transmitter or the receiver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F26A-6368-4B1B-B58B-560595D75D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(5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9.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is a bu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Synchronous with a master and a slave where both can be the transmitter or receive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Where the master generates the clo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8C59-3BE7-4968-B370-D329BEF874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(6/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sw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(b) Each bit of the data has its own l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(a) The data bits arrive sequentiall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(c) All of abov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(c) All of abov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(a) Added to the data to make the sum of the “1” bits ev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(d) In serial transmission communicatio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. (a) A common clock either in the transmitter or the receive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(b) An independent clock in the transmitter and the recei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9. (d) None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4AF3-F013-4D35-AE95-78EBDCBA3B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n important feature of modern microprocessor based systems is their communication capability, that is, their ability to exchange information with other systems in the surrounding environmen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t the low level, communications interfaces are used to download a firmware update or to set up local configurations (e.g. turn features on or off), amongst other task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t a higher level, communication interfaces are used to exchange information in distributed applications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123C-FA7E-417D-A225-7015CF38F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mmunications system model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 communication devi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Transmitt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Has the task of putting the information into the appropriate format for subsequent transmiss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Receiv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Is responsible for collecting the message that has been sent and extracting the original inform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Communication mediu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he physical medium through which the information flows and is commonly implemented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isted pair wi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bre optic ca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dio frequency transmi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B326-C1A0-424F-80E0-4061C7D4C1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mmunications system model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vices participating in a digital communication syste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TE: Data Terminal Equip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CE: Data Communications Equip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8720" y="2617920"/>
            <a:ext cx="7704000" cy="30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ACD2-5716-48E2-AA7B-BFB7CD6DEA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Transmission mode (1/5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ommunications between digital devices can be divided into two types 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arallel communica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erial communi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Parallel commun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physical transmission medium has independent signal lines in numbers equal to the transmitted digital word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information transmitted at any given instant is the data word formed by the logical levels on the various signal li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D03E-ADF1-4186-A59D-830AA5B5F7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Transmission mode (2/5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arallel commun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Character ASCII “W” parallel transmi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2057400"/>
            <a:ext cx="8964720" cy="4322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56000" y="5445000"/>
            <a:ext cx="388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737A-F65A-45A0-89EB-FCC07E7BB1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Transmission mode (3/5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rial commun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hysical transmission medium needs only one signal li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formation transmitted is provided by the transmitter as a sequence of bits, sent at the rate established between the transmitter and the receiv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ditional information is needed to enable the synchronization between the receiver and transmit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 bit: Added to the beginning of the information transmitted, so that the receiver can identify the beginning of a new transmiss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op bit(s): Added to the end of the information transmitted to indicate that the data value is comple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1609-229D-4817-9465-3E3B44FD09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Transmission mode (4/5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rial commun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Character ASCII “W” serial transmiss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964720" cy="38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7BA5-FCF7-42D9-BFF0-332039BD33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8T15:59:12Z</dcterms:modified>
  <cp:revision>81</cp:revision>
  <dc:subject/>
  <dc:title>Diapositivo 1</dc:title>
</cp:coreProperties>
</file>