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448D-AD62-49F5-8C88-04BC85F5795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F50D-69E9-4082-8F3D-21094118AA5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4AD4-6502-4A59-AAD4-571F3411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F41A-7033-4576-9D50-C733A278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D7EAA5-670B-4D19-A5B4-93FB2B5A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0D5921-0536-473D-875D-66F3C39D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EDEB7B-FEEB-497F-897C-C6720B94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92814B-5122-40E6-874C-F27F10BD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0B378A-E49C-4AAC-A59E-7EDB0659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9A9ECE-05D3-4831-BF92-5756DC2B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D63462-701F-4659-92EA-648F800B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CD5D14-E829-46C2-9CBA-A7C0A7C9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7861C5-3946-4B69-B775-3BB2AD59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3397E9-C3A6-477F-AD0F-001B9087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3D60-F887-4E72-9DD4-4DF4D981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ABFE44-E6CD-459B-8C39-6F878E7F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4438A2-EAF6-488C-A0AD-7B6F23B6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B94B0F-E315-4DC7-8EF4-F8FBF0C2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C52CE7-60A6-4244-8251-AB76C48F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4E2170-0335-4195-88E4-F5D087BE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8DC81F-754F-4D81-9FBF-08CA848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9A33E4-6249-48D2-B199-D3C5ED27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82B5A4-849A-48AA-B6F2-835E38FA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A370D8-8498-4A0B-BF8D-7AB29C9E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B0BC1B-E529-4A01-8F78-785B660D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A0B52-6E2D-4536-9EAF-07D6883B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1278EB-9D25-42FF-A032-40ECF1AB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2821E6-C089-4AC7-9E1B-DFA69A21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48FC3E-4BD2-421C-A405-DF3DFD5A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FFEDF5-010B-4422-9AE9-8948EF07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59C38E-743D-409B-8EF1-77294F19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B482EE-3751-4276-A5CB-B8E18153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E98DCB-2E9B-4238-9281-6DEDC17C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C22806-EF9B-4291-970D-61663CBF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28DDF2-6D63-4BAB-A77D-5C2FA518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BE18C2-940B-4BE9-AF7C-5B71D1A4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AC19F-C368-4149-9045-1EFDD60A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475778-C498-41DC-9D69-96C46AF2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F90438-353D-4570-B7D6-E2D9C90E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5F6D9C-25DF-46D6-9D50-6BEDD520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94CE85-75AB-43E2-828E-003618BF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8451A9-03BD-4233-9088-68C35C22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ACFEC4-CB04-485A-A8CE-8C3AFAF7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EC593F-59BD-4B5D-9A8C-6DF9F89D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CB83C6-86FF-4961-9141-B59A662D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321187-736F-4FBD-B614-FD234C92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831911-69A3-49FE-BDBA-378F9C6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51887-996A-48D6-B161-CAC76062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01F46D-96F2-42CC-9930-03AAD48D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BADB00-0CB5-4501-ABD3-6DD2A130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447095-E95B-42B9-998F-AB06D4BC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41C0D0-CA11-4D64-BF08-8CA1D327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B7BB80-D2B8-4EFB-A532-47FB8B4E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31A637-480F-4731-8DEE-65B5A560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C6ACCE-D363-49A9-AE83-D50FF21E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09987E-2DDD-41B5-9499-AE42B638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E05148-F50D-4418-9EDC-7154ED91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1F9FD4-F5F0-438A-A9AA-C5D1320F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FB9C4-5AFC-4727-8439-3161F9C4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731EB7-3BCB-4CE2-977B-9B4CC459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F07273-DC77-4D30-804F-D4FBBBF6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BE872E-C3F1-4A49-A801-9C82BC1E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0FBEA3-11BD-4AB4-BD45-DB82195D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CD1382-1845-4F9F-A189-91921B57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031894-83F0-44FA-862D-3DD4562E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4DDF97-255D-43A8-9FE1-00284543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0FDD54-0EAF-45D7-80CB-7FAB9F98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192CFF-BDDB-474A-965D-B6E8F7DD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8CCA79-3FF9-44D3-BB2B-E4AB7B6D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08C1B-F61D-4AB3-90D5-23C3F3D2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A98E4D-CA09-4766-9056-F10B9DE4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30E6E6-4B06-4D8C-871C-29492919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FA2FE9-2AC9-4F67-8B61-D4A7EFBA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4894D5-A9C7-4519-9E4E-BC55BB53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512A40-64E5-486A-9F1B-8734448E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68EB56-4E81-4882-BF28-10CD6A06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26784F-B5EE-4ADB-8406-C6C2EB2E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543986-4BD7-4983-A984-64B67A60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A89AE2-3064-44B3-BE83-4DE39415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67361-E5F1-4978-8F8C-0B3BAB02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9FCD9-3209-4627-B8AF-EBDBE8F0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D020F-F66F-4F29-B602-5961E06E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19D6-268A-4182-8122-1512805F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89AD7-E33C-429D-B7B6-7D69592C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D1C4E-A920-499C-9855-8182659D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33334-5581-4762-A847-9DCC80F8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8835D-D35D-494D-86AA-35029F40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D429C-19B1-40FE-A804-BC6948F6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38E9F-AA3A-4842-AC5B-06A196F6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63263-31C2-45A5-BD3A-E7A659AD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B22EF-7AE6-4CA8-8AD5-7ACF0561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A9C36-9FEE-4B1E-82D6-714899BB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8A83C-9021-4C89-8178-65943413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89D4-89CF-46CD-BC89-3E4CDB4B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06F96-90C4-49BA-9A35-C443CA72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F435F-2B7A-42B7-8535-5C331409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954EE-5574-4485-9FB3-7390BD88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B8F8F-7B14-4BFA-A97D-F4FF3E51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4FE28-E0CE-4734-B964-E99FF3F5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8312C-9321-4822-87E9-8B2405F4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84DBC-409F-49F8-BA05-7A373B19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6B5BE-577D-456A-8DCF-9727CE29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30188-2F76-43E4-910F-3AB9F78F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812E1-32FD-4856-997F-FFB7590B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6E48-7D6A-4AFD-A394-B670CCAF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927585-FEB1-4F32-81EC-D6E26198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EA7A5-7500-4810-963B-1330312A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4B94D-D00C-4A49-9E4F-A685F206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86961-8991-4A8D-A0B3-203FA511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AB210-0C9B-4571-AB2A-9B7C10F4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EDB494-235E-45FC-98CF-543E11F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4727E-84A3-41A3-9AC5-8AB33D09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84489D-4FD3-4F16-820F-3A043A05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2458DB-E21E-4CBB-BBC0-5575A453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08DC4-4510-488A-8249-11F7C103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B962-1A20-4B0F-92BC-317FAF7C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03E3E-7516-4BE4-ABB1-74909DB7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DEE621-E916-47FC-AF5F-E0536561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E7E92-D542-43B7-948B-73D0A811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3DD25-F274-4DDD-97CD-83A56C40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46309-F9DB-4CE9-A935-A17B647C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B98E0-0C9C-4299-B6C7-6E66F7AC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E5908-1E5F-4571-921B-D73CBB3C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79C2B-9EAA-4127-9B7D-803D0E3E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2F4FE-943E-4271-9A35-BB5E06D3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2BCC6-1B64-4E87-BCD0-2CB00568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E73A-F3C0-40E0-A2E1-CCAF5084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B7905-527F-49C6-A792-6E5530E8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58116-998F-47D3-909A-523DD4E4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A4BEA-4B7E-48EE-9014-7D38986C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CF8E2-54FC-42D5-B1CA-A8A2B055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E9CDC-635F-43FE-874C-322FEAE8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65A2FB-0312-410A-9015-53FB9462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4245A4-2F9B-4DED-8BAC-50E1ABDA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DB760-EBF9-4B96-BC19-CB06EF9C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E8E61-C2E1-4668-9210-2B0516ED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5AF22-3CA4-4EC3-AA33-BA02ACB2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B6035-D4D5-4FE9-873A-0D5A1471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1D085-2D01-4917-BEB6-99C44431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3AAAA-ED25-4677-8C65-5D06A721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617CA-F687-4E3E-8DE6-6F4C63CA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ECBE1-7D1B-4D83-A7AC-D8D544E9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DBD78A-6B8D-4738-8BB4-84DDE530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E6448-6A67-4C35-80C1-7B836913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960EF-61B8-416B-BE2A-5EA053D4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1AC4B-CB3B-4056-BEC5-F3A5B8B0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1F405-204D-45F8-B978-910AEBFA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358F0-6618-40CA-AE06-3434B71B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2C0D-2922-4502-9452-59967454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9DD82-4C7C-4EE1-AD65-8E5869BC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8CADA-56A8-4B73-9C98-729F6E91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C854F-9A3D-4539-86BB-60F45BD5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1D148-6C03-4CD6-8C43-BE3C5964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6E4CA-AAB8-43B6-A93D-A7137999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D65460-1002-4A99-8A23-F928DC75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A6F1D8-8BB9-4AA7-A55E-31AEBD67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5308CA-69CD-4DFD-9207-3A271CA3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AFD446-52EE-40D2-A1C9-9E63D675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7DAC08-22B6-484E-991D-572F6B93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7B2C-5443-44F2-AF0B-EB4E2C73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133BBB-13EC-4733-8CAF-8C22DB4F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A888AB-8586-4D02-8083-30E04BB5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5E3D51-7445-477B-AA7F-8DCBB46E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15DF8F-726E-429F-BDD8-DB35CE39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D1FAD8-0124-4CAB-8131-5B5DAA70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176074-6578-4898-BCAB-F4CCE275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8081C5-46EA-46F9-82B2-55EBC540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7C18E3-BEB7-4227-8CE6-A022DECF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5723C7-66EE-452B-B831-E5AA1B1F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0DCDF4-250B-4A15-9645-08E4B425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2EF7-3508-4DB4-AE8A-A9C98415722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9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1D46-B53D-48C5-883C-D0B3D2E79D0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30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AB7C-E7FD-405E-955D-09F5991FB3B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ftr" idx="3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sldNum" idx="35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D2A0-4D8D-43CA-94B9-917677F9B59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ftr" idx="36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38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B0AB-1E9F-4FA5-9CAE-958B0B9F340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ftr" idx="39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41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B682-BD5D-44B1-A1C2-9C00B4E7E1D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2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0E21-7703-4922-B9DD-582EDA93B33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A607-B721-469E-9A32-3A92286EEF7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94ED-0840-47E7-9EC2-36A347786A4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2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sldNum" idx="14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AB93-A3D2-468E-B657-CC85DE8833B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5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1B30-1DB5-4956-8C87-3EBA0B2B0E2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0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AB37-3EE6-4E86-BC9D-A88E5CEEA76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1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5B4B-3C4D-4A9F-9142-542B77571E5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6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F8D5-2131-4387-9193-389E365CC92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27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25.xml"/><Relationship Id="rId6" Type="http://schemas.openxmlformats.org/officeDocument/2006/relationships/slide" Target="slide34.xml"/><Relationship Id="rId7" Type="http://schemas.openxmlformats.org/officeDocument/2006/relationships/slide" Target="slide34.xml"/><Relationship Id="rId8" Type="http://schemas.openxmlformats.org/officeDocument/2006/relationships/slide" Target="slide34.xml"/><Relationship Id="rId9" Type="http://schemas.openxmlformats.org/officeDocument/2006/relationships/slide" Target="slide(1/20).xml"/><Relationship Id="rId10" Type="http://schemas.openxmlformats.org/officeDocument/2006/relationships/slide" Target="slide(1/20).xml"/><Relationship Id="rId11" Type="http://schemas.openxmlformats.org/officeDocument/2006/relationships/slide" Target="slide(1/20).xml"/><Relationship Id="rId12" Type="http://schemas.openxmlformats.org/officeDocument/2006/relationships/slide" Target="slide65.xml"/><Relationship Id="rId13" Type="http://schemas.openxmlformats.org/officeDocument/2006/relationships/slide" Target="slide78.xml"/><Relationship Id="rId1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4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14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ommunications</a:t>
            </a:r>
            <a:br>
              <a:rPr sz="3000"/>
            </a:b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SCI Modu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6" descr="brasao a cores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8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Rectangle 12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6A87-7CBE-44C9-A99E-7EDE93A1EE8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3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Recommended initialization/re-configuration proces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UCSWRST (BIS.B #UCSWRST,&amp;UCAxCTL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itialize all USCI registers with UCSWRST = 1 (including UCAxCTL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por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ear UCSWRST via softw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IC.B #UCSWRST,&amp;UCAxCTL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 interrupts (optional) via UCAxRXIE and/or UCAxTXI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9B6E-8A07-402D-BBFE-3A40F4312B3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4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haracter format specified as follow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rt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ven or eight data b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ven/odd/no parity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dress bit (address-bit mod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or two stop bi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UCMSB bit controls the direction of the transfer and selects LSB (usual in UART communication) or MSB firs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Picture 6" descr=""/>
          <p:cNvPicPr/>
          <p:nvPr/>
        </p:nvPicPr>
        <p:blipFill>
          <a:blip r:embed="rId1"/>
          <a:stretch/>
        </p:blipFill>
        <p:spPr>
          <a:xfrm>
            <a:off x="612720" y="3243240"/>
            <a:ext cx="828036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1528-9011-4734-B7E1-C8158DC136F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6" descr=""/>
          <p:cNvPicPr/>
          <p:nvPr/>
        </p:nvPicPr>
        <p:blipFill>
          <a:blip r:embed="rId1"/>
          <a:stretch/>
        </p:blipFill>
        <p:spPr>
          <a:xfrm>
            <a:off x="1042920" y="4005360"/>
            <a:ext cx="7416720" cy="235584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5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synchronous communication forma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dle-line multiprocessor communication protoco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minimum of two devices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DLE is detected after &gt; 10 periods of continuous marks after the stop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irst character after IDLE is an addres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be programmed to receive only address charac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2CBA-38F5-410B-8B7D-3362C205E2D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6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synchronous communication formats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ddress-bit multiprocessor communication protoco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minimum of three devices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extra bit in the received character marks an address charac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ART can be programmed to receive only address charac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4" name="Picture 5" descr=""/>
          <p:cNvPicPr/>
          <p:nvPr/>
        </p:nvPicPr>
        <p:blipFill>
          <a:blip r:embed="rId1"/>
          <a:stretch/>
        </p:blipFill>
        <p:spPr>
          <a:xfrm>
            <a:off x="1258920" y="3897360"/>
            <a:ext cx="6948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CE76-DD8B-4A12-933A-FBBEE81520E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7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utomatic baud rate detection (UCMODEx = 11)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ta frame is preceded by a synchronization sequen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reak: Detected when 11 or more continuous zeros (spaces) are recei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ynch field: Data 055h inside a byte fie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9" name="Picture 4" descr=""/>
          <p:cNvPicPr/>
          <p:nvPr/>
        </p:nvPicPr>
        <p:blipFill>
          <a:blip r:embed="rId1"/>
          <a:stretch/>
        </p:blipFill>
        <p:spPr>
          <a:xfrm>
            <a:off x="1547640" y="3276720"/>
            <a:ext cx="6048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2F0D-5599-4283-99F3-ECC871DD8C7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8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utomatic baud rate detection (UCMODEx = 11)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aud rate is calculated from a valid SYN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to baud rate value stored in UxBR1, UxBR0 and UxMCTL (modulation patter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REAK time-out detect in hard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ammable delimiter tim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736E-D350-4A73-936D-AD4A9349B8A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9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IrDA encoder and decoder (UCIREN = 1)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8" name="Picture 4" descr=""/>
          <p:cNvPicPr/>
          <p:nvPr/>
        </p:nvPicPr>
        <p:blipFill>
          <a:blip r:embed="rId1"/>
          <a:stretch/>
        </p:blipFill>
        <p:spPr>
          <a:xfrm>
            <a:off x="1835280" y="1554120"/>
            <a:ext cx="5256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BDA5-26F2-4797-988A-E62C0CD64A2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10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IrDA encoder and decoder (UCIREN = 1)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rDA encod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coder sends a pulse for every zero bit in the transmit bit stream coming from the UAR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ulse duration (defined by UCIRTXPLx bits) specifies the number of half clock periods of the clock (UCIRTXCLK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versampling baud rate generator allows selection of IrDA standard 3/16 bit leng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8D67-EA6B-4211-ABFB-0BBA80C4C44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11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IrDA encoder and decoder (UCIREN = 1)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rDA decod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ammable low or high pulse detection (UCIRRXPL) by the decod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ammable received pulse length filter adds noise filter capability as well as glitch det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971640" y="3813120"/>
            <a:ext cx="7632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3231-398F-4338-8BAA-ABDC0C0466C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12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tomatic error detec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itch suppression prevents the USCI from being accidentally start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y pulse on UCAxRXD shorter than the deglitch time (approximately 150 ns) will be igno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raming error UCF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et if the stop bit is missing from a received fram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arity error UC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et if there is a parity mismatch in a received fram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ceive overrun error UCO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et if UCAxRXBUF is overwritte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reak condition UCBR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if all bits in the received frame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the UCAxRXIFG if UCBRKIE bit is 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1EE5-7F96-4D3C-AB6B-67917752BC8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MSP430 communications interfac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USCI module </a:t>
            </a:r>
            <a:r>
              <a:rPr b="1" lang="pt-PT" sz="2000" spc="-1" strike="noStrike" u="sng">
                <a:solidFill>
                  <a:srgbClr val="009999"/>
                </a:solidFill>
                <a:uFillTx/>
                <a:latin typeface="Verdana"/>
                <a:hlinkClick r:id="rId3" action="ppaction://hlinksldjump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USCI operation: UART 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USCI operation: SPI 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6" action="ppaction://hlinksldjump"/>
              </a:rPr>
              <a:t>USCI operation: I</a:t>
            </a:r>
            <a:r>
              <a:rPr b="1" lang="en-GB" sz="2000" spc="-1" strike="noStrike" u="sng" baseline="30000">
                <a:solidFill>
                  <a:srgbClr val="009999"/>
                </a:solidFill>
                <a:uFillTx/>
                <a:latin typeface="Verdana"/>
                <a:hlinkClick r:id="rId7" action="ppaction://hlinksldjump"/>
              </a:rPr>
              <a:t>2</a:t>
            </a:r>
            <a:r>
              <a:rPr b="1" lang="en-GB" sz="2000" spc="-1" strike="noStrike" u="sng" baseline="30000">
                <a:solidFill>
                  <a:srgbClr val="009999"/>
                </a:solidFill>
                <a:uFillTx/>
                <a:latin typeface="Verdana"/>
                <a:hlinkClick r:id="rId8" action="ppaction://hlinksldjump"/>
              </a:rPr>
              <a:t>C 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9" action="ppaction://hlinksldjump"/>
              </a:rPr>
              <a:t>USCI registers: UART, SPI and I</a:t>
            </a:r>
            <a:r>
              <a:rPr b="1" lang="en-GB" sz="2000" spc="-1" strike="noStrike" u="sng" baseline="30000">
                <a:solidFill>
                  <a:srgbClr val="009999"/>
                </a:solidFill>
                <a:uFillTx/>
                <a:latin typeface="Verdana"/>
                <a:hlinkClick r:id="rId10" action="ppaction://hlinksldjump"/>
              </a:rPr>
              <a:t>2</a:t>
            </a:r>
            <a:r>
              <a:rPr b="1" lang="en-GB" sz="2000" spc="-1" strike="noStrike" u="sng" baseline="30000">
                <a:solidFill>
                  <a:srgbClr val="009999"/>
                </a:solidFill>
                <a:uFillTx/>
                <a:latin typeface="Verdana"/>
                <a:hlinkClick r:id="rId11" action="ppaction://hlinksldjump"/>
              </a:rPr>
              <a:t>C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2" action="ppaction://hlinksldjump"/>
              </a:rPr>
              <a:t>Lab10b: USCI echo t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3" action="ppaction://hlinksldjump"/>
              </a:rPr>
              <a:t>Qui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F1E2-E885-45D8-96DA-17D1ED58592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13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nable the USCI receive enable bit URXEx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ear UCSWR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alling edge of the start bit enables the baud rate genera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a valid start bit is detected, a character will be receiv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transmit enabl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ear UCSWR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ansmission is initiated by writing data to UCAxTXBU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aud rate generator is enabl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ata value in UCAxTXBUF is moved to the transmit shift register on the next BITCLK after the transmit shift register is empt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AxTXIFG is set when a new data value can be written into UCAxTXBU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7" descr=""/>
          <p:cNvPicPr/>
          <p:nvPr/>
        </p:nvPicPr>
        <p:blipFill>
          <a:blip r:embed="rId1"/>
          <a:stretch/>
        </p:blipFill>
        <p:spPr>
          <a:xfrm>
            <a:off x="179280" y="2549520"/>
            <a:ext cx="8785440" cy="382104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873468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USCI baud rate gen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tandard baud rates from non-standard source frequenci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o modes of operation (UCOS16 bit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-frequency baud ra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versampling baud r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4A7D-6EB3-458F-BDA7-622928CFE3E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14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3D61-5EAE-4C0F-A996-697494EE2A0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15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ransmit bit timing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iming for each character is the sum of the individual bit timing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modulation feature of the baud rate generator reduces the cumulative bit err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wo error sources for receive bit timing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it-to-bit timing err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ror between a start edge occurring and the start edge being accepted by the USCI modu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B8BF-9B24-4E2B-AFFC-04DFC1F20FF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16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interrup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interrupt vector for transmission and one interrupt vector for recep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transmit interrupt op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AxTXIFG interrupt flag is set by the transmitter to indicate that UCAxTXBUF is ready to accept another charac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terrupt request is generated if UCAxTXIE and GIE are also 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AxTXIFG is automatically reset if a character is written to UCAxTXBU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FB83-A622-4D7E-9956-B9880B205FC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17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interrupts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receive interrupt op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AxRXIFG interrupt flag is set each time a character is received and loaded into UCAxRXBU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terrupt request is also generated if UCAxRXIE and GIE are 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AxRXIFG and UCAxRXIE are reset by a system reset PUC signal or when UCSWRST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AxRXIFG is automatically reset when UCAxRXBUF is re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05FA-136B-43D7-B5C0-3BCBB95EFEC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SPI mode (1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exible interfac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- or 4-pin SP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- or 8-bit data length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ster or sla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SB or MSB fi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/W configurable clock phase and polarity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mable SPI master cloc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ouble buffered TX/RX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rupt driven TX/RX (USCI_A and USCI_B share TX and RX vector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rect Memory Address ( DMA) enabl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PMx operation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ACBB-5BAE-4CDC-AB3C-A4E799B4D95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SPI mode (2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module: SPI mode block diagra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1"/>
          <a:stretch/>
        </p:blipFill>
        <p:spPr>
          <a:xfrm>
            <a:off x="2128680" y="1662120"/>
            <a:ext cx="4886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E0BF-D3DE-4079-B43E-330538B687C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SPI mode (3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module: SPI connec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5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24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8300-4F98-47C9-8AFF-D3E0E43A0C4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SPI mode (4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rial data transmitted and received by multiple devices using a shared clock provided by the mast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ree or four signals are used for SPI data exchang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xSIMO: Slave in, master o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xSOMI: Slave out, master i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xCLK: USCI SPI clo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xSTE: Slave transmit enab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s a device to receive and transmit data and is controlled by the mas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 wire master, senses conflicts with other master(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4 wire slave, externally controls TX and R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963C-73B3-47DE-B38B-B30717D9EAD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SPI mode (5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initialization/re-configuration proces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UCSWRST (BIS.B #UCSWRST,&amp;UCAxCTL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itialize all USCI registers with UCSWRST = 1 (including UCxCTL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por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ear UCSWRST via software (BIC.B #UCSWRST,&amp;UCxCTL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 interrupts (optional) via UCxRXIE and/or UCxTXI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170C-9BCA-4FC7-8A66-2B2CCADEB96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SP430 communications interfaces (1/2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quipped with three serial communication interfa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AR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niversal Synchronous/Asynchronous Receiver/Transmitte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ART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PI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 (on ‘F15x/’F16x onl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niversal Serial Communication Interfac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ART with Lin/IrDA suppor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 (Master/Slave, 3 and 4 wire mod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 (Master/Slave, up to 400 kHz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Universal Serial Interfac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 (Master/Slave, 3 &amp; 4 wire mod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 (Master/Slave, up to 400 kHz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DA9E-0C5F-4583-809F-2E509DBDB9C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SPI mode (6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fine the character format as presented earli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fine mode: Master or Sla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nable SPI transmit/receive clearing the UCSWRST bit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fine serial clock control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xCLK is provided by the master on the SPI bu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serial clock polarity and phase (UCCKPL and UCCKPH bit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10D5-056F-4448-902A-1F7F211EC95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SPI mode (7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interrup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interrupt vector for transmission and one interrupt vector for recep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PI transmit interrupt op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xTXIFG interrupt flag is set by the transmitter to indicate that UCxTXBUF is ready to accept another charac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terrupt request is generated if UCxTXIE and GIE are also 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xTXIFG is automatically reset if the interrupt request is serviced or if a character is written to UCxTXBU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FA43-CA76-43E2-BDF3-C207BC1880E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SPI mode (8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interrupts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receive interrupt op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xRXIFG interrupt flag is set each time a character is received and loaded into UCxRXBU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terrupt request is also generated if UCxRXIE and GIE are 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xRXIFG and UCxRXIE are reset by a system reset PUC signal or when SWRST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xRXIFG is automatically reset if the pending interrupt is serviced (when UCSWRST = 1) or when UCxRXBUF is re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F105-25BD-4B95-A0CF-2EDB972B124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SPI mode (9/9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interrupts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PI TX interrupt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PI RX interrup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1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4356360" cy="31766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5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42483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EA28-D6D7-456E-9DAC-EBDFEB83CE1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 (1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I</a:t>
            </a:r>
            <a:r>
              <a:rPr b="1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 mode supports any master or slave I</a:t>
            </a:r>
            <a:r>
              <a:rPr b="1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-compatible device (Specification v2.1);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ach 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device is recognized by a unique address and can operate as either a transmitter or a receiver, as well as either the master or the sla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master initiates a data transfer and generates the clock signal SCL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y device addressed by a master is considered a sla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munication using the bi-directional serial data (SDA) and serial clock (SCL) pin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7539-754C-4B45-86CF-CE3565609DC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 (2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 mode block diagra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1" name="Picture 4" descr=""/>
          <p:cNvPicPr/>
          <p:nvPr/>
        </p:nvPicPr>
        <p:blipFill>
          <a:blip r:embed="rId1"/>
          <a:stretch/>
        </p:blipFill>
        <p:spPr>
          <a:xfrm>
            <a:off x="755640" y="1531800"/>
            <a:ext cx="74167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8A2E-0F86-4F85-91FD-5D05155A497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 (3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 mode block diagra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617840" y="1619280"/>
            <a:ext cx="6049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97F6-C177-4094-A24C-0CC8E9A078C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 (4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itialized using the sequence given earli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serial data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clock pulse is generated by the master for each data bit transferr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erates with byte data (MSB transferred firs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irst byte after a START condition consists of a 7-bit slave address and the R/W bi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/W = 0: Master transmits data to a sla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/W = 1: Master receives data from a sla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CK bit is sent from the receiver after each byte on the 9th SCL cloc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5748-A850-4940-B583-11C4A89DB43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 (5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addressing modes (7-bit and 10-bit addressing modes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module operating mod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ster transmit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ster receiv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ave transmit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ave recei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rbitration procedure is invoked if two or more master transmitters simultaneously start a transmission on the bu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A0B4-3EEF-4CB1-8C37-A9C8D961E8E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 (6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Clock generation and synchroniz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CL is provided by the master on the 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bu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ster mode: BITCLK is provided by the USCI bit clock genera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ave mode: the bit clock generator is not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89AE-D94B-4F33-963F-01C9F5C8E84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SP430 communications interfaces (2/2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omparison between the communication modul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0" y="1628640"/>
          <a:ext cx="9144000" cy="4729320"/>
        </p:xfrm>
        <a:graphic>
          <a:graphicData uri="http://schemas.openxmlformats.org/drawingml/2006/table">
            <a:tbl>
              <a:tblPr/>
              <a:tblGrid>
                <a:gridCol w="3046320"/>
                <a:gridCol w="3048120"/>
                <a:gridCol w="3049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Only one modul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Two modulators support n/16 tim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Auto baud rate de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IrDA encoder &amp; deco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Simultaneous USCI_A and USCI_B (2 channel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13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Only one SPI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3 and 4 Wir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Two SPI (one on each USCI_A and USCI_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3 and 4 Wir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Only one SPI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C: </a:t>
                      </a: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n ‘15x/’16x 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up to 400k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C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Simplified interrupt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up to 400k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C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SW state machin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5476-8A63-408B-A632-BC92F9220E3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 (7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interrup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interrupt vector for transmission and one interrupt vector for recep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transmit interrupt op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BxTXIFG interrupt flag is set by the transmitter to indicate that UCBxTXBUF is ready to accept another charac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terrupt request is also generated if UCBxTXIE and GIE are 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BxTXIFG is automatically reset if a character is written to UCBxTXBUF or a NACK is receiv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5ED3-3876-4ADA-92FA-64298204685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 (8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interrupts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receive interrupt op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BxRXIFG interrupt flag is set each time a character is received and loaded into UCxRXBU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terrupt request is also generated if UCBxRXIE and GIE are 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BxRXIFG and UCBxRXIE are reset by a system reset PUC signal or when SWRST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CxRXIFG is automatically reset when UCBxRXBUF is re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77FE-EAB0-4245-8A35-F715608914B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 (9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interrupts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transmit/receive interrupt op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1" name="Picture 4" descr=""/>
          <p:cNvPicPr/>
          <p:nvPr/>
        </p:nvPicPr>
        <p:blipFill>
          <a:blip r:embed="rId1"/>
          <a:stretch/>
        </p:blipFill>
        <p:spPr>
          <a:xfrm>
            <a:off x="2751120" y="2276640"/>
            <a:ext cx="419724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441D-4A40-480A-A6F1-09D8A11EB56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 (10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interrupts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state change interrupt flag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rbitration-lost, UCALIF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Flag is set when two or more transmitters start a transmission simultaneously, or operates as master but is addressed as a slave by another mas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ot-acknowledge interrupt, UCNACKIF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Flag set when an acknowledge is expected but is not recei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rt condition detected interrupt, UCSTTIF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Flag set when the 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module detects a START condition together with its own address while in slave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op condition detected interrupt, UCSTPIF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Flag set when the 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module detects a STOP condition while in slave m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BC39-0C1D-42D0-8CCC-6749B86271E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 (11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79280" y="1204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interrupts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TX interrupt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RX interrup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0" name="Picture 4" descr=""/>
          <p:cNvPicPr/>
          <p:nvPr/>
        </p:nvPicPr>
        <p:blipFill>
          <a:blip r:embed="rId1"/>
          <a:stretch/>
        </p:blipFill>
        <p:spPr>
          <a:xfrm>
            <a:off x="1030320" y="2276640"/>
            <a:ext cx="2855880" cy="40320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5" descr=""/>
          <p:cNvPicPr/>
          <p:nvPr/>
        </p:nvPicPr>
        <p:blipFill>
          <a:blip r:embed="rId2"/>
          <a:stretch/>
        </p:blipFill>
        <p:spPr>
          <a:xfrm>
            <a:off x="5580000" y="2349360"/>
            <a:ext cx="30974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BE22-1011-4885-AABB-3B606F4311E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1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CTL0, USCI_Ax Control Register 0 (UART, SPI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BxCTL0, USCI_Bx Control Register 0 (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0" y="1714680"/>
          <a:ext cx="9144000" cy="1147680"/>
        </p:xfrm>
        <a:graphic>
          <a:graphicData uri="http://schemas.openxmlformats.org/drawingml/2006/table">
            <a:tbl>
              <a:tblPr/>
              <a:tblGrid>
                <a:gridCol w="1015920"/>
                <a:gridCol w="1019160"/>
                <a:gridCol w="1013040"/>
                <a:gridCol w="1017360"/>
                <a:gridCol w="984240"/>
                <a:gridCol w="1262160"/>
                <a:gridCol w="944640"/>
                <a:gridCol w="772920"/>
                <a:gridCol w="1114560"/>
              </a:tblGrid>
              <a:tr h="23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P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7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O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YNC=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CK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CK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7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O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YNC=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2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LA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ODEx=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YNC=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0" y="3176640"/>
          <a:ext cx="9144000" cy="3106800"/>
        </p:xfrm>
        <a:graphic>
          <a:graphicData uri="http://schemas.openxmlformats.org/drawingml/2006/table">
            <a:tbl>
              <a:tblPr/>
              <a:tblGrid>
                <a:gridCol w="395280"/>
                <a:gridCol w="647640"/>
                <a:gridCol w="1944720"/>
                <a:gridCol w="720720"/>
                <a:gridCol w="2519280"/>
                <a:gridCol w="792360"/>
                <a:gridCol w="2124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ity enable when UCPEN = 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CK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lock phase select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CKPH = 0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Data is changed on the 1st UCLK edge and captured on the next on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CKPH = 1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Data is captured on the 1st UCLK edge and changed on the next on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wn addressing mode select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0= 0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7-bit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0= 1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10-bit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99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P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ity select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PAR = 0 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Odd pa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PAR = 1 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Even pa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CK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lock polarity selec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CKPL = 0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active state: low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CKPL = 1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active state: high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LA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lave addressing mode select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LA10= 0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7-bit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LA10= 1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10-bit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SB first select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B = 0 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LSB fir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B = 1 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MSB fir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-master environment select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M= 0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Single ma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M= 1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Multi ma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450F-7938-4A03-BE09-BB3FA003630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2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CTL0, USCI_Ax Control Register 0 (UART, SPI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BxCTL0, USCI_Bx Control Register 0 (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0" y="1714680"/>
          <a:ext cx="9144000" cy="1147680"/>
        </p:xfrm>
        <a:graphic>
          <a:graphicData uri="http://schemas.openxmlformats.org/drawingml/2006/table">
            <a:tbl>
              <a:tblPr/>
              <a:tblGrid>
                <a:gridCol w="1015920"/>
                <a:gridCol w="1019160"/>
                <a:gridCol w="1013040"/>
                <a:gridCol w="1017360"/>
                <a:gridCol w="984240"/>
                <a:gridCol w="1262160"/>
                <a:gridCol w="944640"/>
                <a:gridCol w="772920"/>
                <a:gridCol w="1114560"/>
              </a:tblGrid>
              <a:tr h="23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P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7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O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YNC=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CK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CK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7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O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YNC=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LA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ODEx=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YNC=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3" name=""/>
          <p:cNvGraphicFramePr/>
          <p:nvPr/>
        </p:nvGraphicFramePr>
        <p:xfrm>
          <a:off x="0" y="3033720"/>
          <a:ext cx="9144000" cy="3076560"/>
        </p:xfrm>
        <a:graphic>
          <a:graphicData uri="http://schemas.openxmlformats.org/drawingml/2006/table">
            <a:tbl>
              <a:tblPr/>
              <a:tblGrid>
                <a:gridCol w="468360"/>
                <a:gridCol w="934920"/>
                <a:gridCol w="2016360"/>
                <a:gridCol w="936360"/>
                <a:gridCol w="1943280"/>
                <a:gridCol w="1152360"/>
                <a:gridCol w="1692360"/>
              </a:tblGrid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 mode 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9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7B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acter length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8-bi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7-bi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7B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P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op bit select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One stop b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Two stop bi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ster mod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USART is sla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USART is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ster mode selec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Slave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Master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OD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 asynchronous mod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UA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dle-Line Multipro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Address-Bit Multipro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UART with AB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OD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 synchronous mod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3-Pin SP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4-Pin SPI (slave enabled when UCxSTE=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4-Pin SPI (slave enabled when UCxSTE=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</a:t>
                      </a:r>
                      <a:r>
                        <a:rPr b="0" lang="en-GB" sz="9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MODEx=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 Mod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3-Pin SP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4-Pin SPI (master/slave enabled if STE =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4-Pin SPI (master/slave enabled if STE = 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</a:t>
                      </a:r>
                      <a:r>
                        <a:rPr b="0" lang="en-GB" sz="9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YNC=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nchronous mode enabl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Asynchrono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Synchrono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YNC=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YNC=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27B1-86C8-4E3C-AA8C-0B59538AE50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3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CTL1, USCI_Ax Control Register 1 (UART, SPI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BxCTL1, USCI_Bx Control Register 1 (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0" y="1714680"/>
          <a:ext cx="9144000" cy="941040"/>
        </p:xfrm>
        <a:graphic>
          <a:graphicData uri="http://schemas.openxmlformats.org/drawingml/2006/table">
            <a:tbl>
              <a:tblPr/>
              <a:tblGrid>
                <a:gridCol w="1012680"/>
                <a:gridCol w="1017720"/>
                <a:gridCol w="1017720"/>
                <a:gridCol w="1017360"/>
                <a:gridCol w="1017720"/>
                <a:gridCol w="1015920"/>
                <a:gridCol w="1017720"/>
                <a:gridCol w="1017360"/>
                <a:gridCol w="1009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SEL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RXE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K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D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AD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B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WR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SEL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WR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SEL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N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S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S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WR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9" name=""/>
          <p:cNvGraphicFramePr/>
          <p:nvPr/>
        </p:nvGraphicFramePr>
        <p:xfrm>
          <a:off x="0" y="3286080"/>
          <a:ext cx="9144000" cy="2646360"/>
        </p:xfrm>
        <a:graphic>
          <a:graphicData uri="http://schemas.openxmlformats.org/drawingml/2006/table">
            <a:tbl>
              <a:tblPr/>
              <a:tblGrid>
                <a:gridCol w="414360"/>
                <a:gridCol w="768240"/>
                <a:gridCol w="2525760"/>
                <a:gridCol w="792360"/>
                <a:gridCol w="1942920"/>
                <a:gridCol w="749160"/>
                <a:gridCol w="19512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SEL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CLK source clock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UC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AC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SMC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SMC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SEL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CLK source clock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AC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SMC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SMC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SEL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CLK source clock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UCLK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AC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SMC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SMC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RXE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ceive erroneous-character I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Rejected (UCAxRXIFG not se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Received (UCAxRXIFG se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lave addressing mode select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LA10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7-bit add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LA10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10-bit add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K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ceive break character I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ot set UCAxRXIF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Set UCAxRXIF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tter/Receiver select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Recei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Transmit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0371-4CFF-42A3-A290-93F468E9D4D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4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CTL1, USCI_Ax Control Register 1 (UART, SPI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BxCTL1, USCI_Bx Control Register 1 (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0" y="1714680"/>
          <a:ext cx="9144000" cy="941040"/>
        </p:xfrm>
        <a:graphic>
          <a:graphicData uri="http://schemas.openxmlformats.org/drawingml/2006/table">
            <a:tbl>
              <a:tblPr/>
              <a:tblGrid>
                <a:gridCol w="1012680"/>
                <a:gridCol w="1017720"/>
                <a:gridCol w="1017720"/>
                <a:gridCol w="1017360"/>
                <a:gridCol w="1017720"/>
                <a:gridCol w="1015920"/>
                <a:gridCol w="1017720"/>
                <a:gridCol w="1017360"/>
                <a:gridCol w="1009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SEL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RXE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K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D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AD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B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WR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SEL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WR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SEL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N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S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S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WR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5" name=""/>
          <p:cNvGraphicFramePr/>
          <p:nvPr/>
        </p:nvGraphicFramePr>
        <p:xfrm>
          <a:off x="0" y="3087720"/>
          <a:ext cx="9144000" cy="3186000"/>
        </p:xfrm>
        <a:graphic>
          <a:graphicData uri="http://schemas.openxmlformats.org/drawingml/2006/table">
            <a:tbl>
              <a:tblPr/>
              <a:tblGrid>
                <a:gridCol w="399960"/>
                <a:gridCol w="858960"/>
                <a:gridCol w="2703600"/>
                <a:gridCol w="779400"/>
                <a:gridCol w="1125360"/>
                <a:gridCol w="865440"/>
                <a:gridCol w="2411280"/>
              </a:tblGrid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D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rmant. Puts USCI into sleep mod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ot dorma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Dorma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N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t a NACK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Acknowledge normall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Generate N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ADD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t addres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ext frame transmitted is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ext frame transmitted is add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ST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t STOP condition in master mod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o STOP genera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Generate ST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B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t break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ext frame transmitted is not a brea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ext frame transmitted is a break or a break/syn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S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t START condition in master mod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o START genera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Generate STA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WR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ftware reset en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Disabled. USCI reset released for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Enabled. USCI logic held in reset st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WR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WR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17AA-8576-4A4D-9874-7A2E369DF3E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5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BR0, USCI_Ax Baud Rate Control Register 0 (UART, SPI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BxBR0, USCI_Bx Bit Rate Control Register 0 (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BR1, USCI_Ax Baud Rate Control Register 1 (UART, SPI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BxBR1, USCI_Bx Bit Rate Control Register 1 (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0" y="1785960"/>
          <a:ext cx="9144000" cy="485640"/>
        </p:xfrm>
        <a:graphic>
          <a:graphicData uri="http://schemas.openxmlformats.org/drawingml/2006/table">
            <a:tbl>
              <a:tblPr/>
              <a:tblGrid>
                <a:gridCol w="1289160"/>
                <a:gridCol w="982440"/>
                <a:gridCol w="981360"/>
                <a:gridCol w="982440"/>
                <a:gridCol w="981000"/>
                <a:gridCol w="982800"/>
                <a:gridCol w="981000"/>
                <a:gridCol w="982800"/>
                <a:gridCol w="981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/ SPI / I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x – low by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1" name=""/>
          <p:cNvGraphicFramePr/>
          <p:nvPr/>
        </p:nvGraphicFramePr>
        <p:xfrm>
          <a:off x="0" y="4149720"/>
          <a:ext cx="9144000" cy="485640"/>
        </p:xfrm>
        <a:graphic>
          <a:graphicData uri="http://schemas.openxmlformats.org/drawingml/2006/table">
            <a:tbl>
              <a:tblPr/>
              <a:tblGrid>
                <a:gridCol w="1289160"/>
                <a:gridCol w="982440"/>
                <a:gridCol w="981360"/>
                <a:gridCol w="982440"/>
                <a:gridCol w="981000"/>
                <a:gridCol w="982800"/>
                <a:gridCol w="981000"/>
                <a:gridCol w="982800"/>
                <a:gridCol w="981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/ SPI / I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x – high by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2" name=""/>
          <p:cNvGraphicFramePr/>
          <p:nvPr/>
        </p:nvGraphicFramePr>
        <p:xfrm>
          <a:off x="1440" y="4797360"/>
          <a:ext cx="9142560" cy="1459080"/>
        </p:xfrm>
        <a:graphic>
          <a:graphicData uri="http://schemas.openxmlformats.org/drawingml/2006/table">
            <a:tbl>
              <a:tblPr/>
              <a:tblGrid>
                <a:gridCol w="538200"/>
                <a:gridCol w="792360"/>
                <a:gridCol w="2376360"/>
                <a:gridCol w="719280"/>
                <a:gridCol w="2376360"/>
                <a:gridCol w="720720"/>
                <a:gridCol w="16192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lock prescaler setting of the baud rate generator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scaler value (16-bit value)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{UCAxBR0+UCAxBR1x256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 clock prescaler sett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scaler value (16-bit value)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{UCAxBR0+UCAxBR1×256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SPI 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51F1-8D39-4007-AA3A-4EF68A247FC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USCI module introduction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lthough supporting UART, SPI and 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, the USCI (Universal Serial Communication Interface) module is a communications interface specially designed to interconnect with high-speed industrial protocol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N (Local interconnect Network), used for low-cost modules in cars e.g. door modules, alarms, rain-sensor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rDA (Infrared Data Associati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USCI module is available in the following devi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P430F5x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P430F4xx and MSP430FG41x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P430F2xx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4949-3887-4A37-B7AC-86AAD9CD347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6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STAT, USCI_Ax Status Register (UART, SPI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BxSTAT, USCI_Bx Status Register (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0" y="1714680"/>
          <a:ext cx="9145440" cy="103788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7720"/>
                <a:gridCol w="1014480"/>
                <a:gridCol w="1017720"/>
                <a:gridCol w="1017360"/>
                <a:gridCol w="1014480"/>
                <a:gridCol w="1017720"/>
                <a:gridCol w="10141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LI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RXE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DDR UCID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US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LI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US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CL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BUS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NACK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P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T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L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8" name=""/>
          <p:cNvGraphicFramePr/>
          <p:nvPr/>
        </p:nvGraphicFramePr>
        <p:xfrm>
          <a:off x="0" y="3214800"/>
          <a:ext cx="9144000" cy="2997000"/>
        </p:xfrm>
        <a:graphic>
          <a:graphicData uri="http://schemas.openxmlformats.org/drawingml/2006/table">
            <a:tbl>
              <a:tblPr/>
              <a:tblGrid>
                <a:gridCol w="414360"/>
                <a:gridCol w="844560"/>
                <a:gridCol w="2259000"/>
                <a:gridCol w="982800"/>
                <a:gridCol w="1800000"/>
                <a:gridCol w="1008000"/>
                <a:gridCol w="1835280"/>
              </a:tblGrid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LI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en enabl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Disab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 UCAxTXD is internally fed back to recei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LI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en enabl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Disab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 The transmitter output is internally fed back to recei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ming error fla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err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Character with low stop 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aming error fla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err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Bus conflict (4w mast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CL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CL low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SCL is not held 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SCL is held 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verrun error fla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err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Overrun err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neral call address receive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general call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General call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C237-FEA4-40B1-92BB-996DC54354E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7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STAT, USCI_Ax Status Register (UART, SPI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BxSTAT, USCI_Bx Status Register (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0" y="1714680"/>
          <a:ext cx="9145440" cy="103788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7720"/>
                <a:gridCol w="1014480"/>
                <a:gridCol w="1017720"/>
                <a:gridCol w="1017360"/>
                <a:gridCol w="1014480"/>
                <a:gridCol w="1017720"/>
                <a:gridCol w="10141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LI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RXE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DDR UCID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US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LI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US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CL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BUS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NACK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P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T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L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4" name=""/>
          <p:cNvGraphicFramePr/>
          <p:nvPr/>
        </p:nvGraphicFramePr>
        <p:xfrm>
          <a:off x="0" y="2928960"/>
          <a:ext cx="9144000" cy="3411360"/>
        </p:xfrm>
        <a:graphic>
          <a:graphicData uri="http://schemas.openxmlformats.org/drawingml/2006/table">
            <a:tbl>
              <a:tblPr/>
              <a:tblGrid>
                <a:gridCol w="414360"/>
                <a:gridCol w="844560"/>
                <a:gridCol w="2259000"/>
                <a:gridCol w="781200"/>
                <a:gridCol w="1712880"/>
                <a:gridCol w="1180800"/>
                <a:gridCol w="1951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 mode 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9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ity error fla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err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Character with parity err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BUS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 busy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Bus in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Bus bus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eak detect fla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break cond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Break condition occur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NACKIF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ACK received interrupt fla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RXER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ceive error fla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receive errors detec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Receive error detec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PIF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op condition interrupt fla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DD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D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dress-bit multiproc. mod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Received character is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Received character is an add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le-line multiproc. mod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idle line detec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dle line detec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TIF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rt condition interrupt fla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US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 busy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USCI in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USCI transmit/rece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US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LIF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bitration lost interrupt fla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0273-D73E-4872-BEF9-C11C5F68281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8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RXBUF, USCI_Ax Receive Buffer Register (UART, SPI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BxRXBUF, USCI_Bx Receive Buffer Register (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0" y="1857240"/>
          <a:ext cx="9144000" cy="486000"/>
        </p:xfrm>
        <a:graphic>
          <a:graphicData uri="http://schemas.openxmlformats.org/drawingml/2006/table">
            <a:tbl>
              <a:tblPr/>
              <a:tblGrid>
                <a:gridCol w="1290600"/>
                <a:gridCol w="982800"/>
                <a:gridCol w="981000"/>
                <a:gridCol w="982800"/>
                <a:gridCol w="982440"/>
                <a:gridCol w="982800"/>
                <a:gridCol w="981000"/>
                <a:gridCol w="982800"/>
                <a:gridCol w="9777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/ SPI / I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RXBUF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0" name=""/>
          <p:cNvGraphicFramePr/>
          <p:nvPr/>
        </p:nvGraphicFramePr>
        <p:xfrm>
          <a:off x="1440" y="2928960"/>
          <a:ext cx="9142560" cy="3102120"/>
        </p:xfrm>
        <a:graphic>
          <a:graphicData uri="http://schemas.openxmlformats.org/drawingml/2006/table">
            <a:tbl>
              <a:tblPr/>
              <a:tblGrid>
                <a:gridCol w="460440"/>
                <a:gridCol w="1014480"/>
                <a:gridCol w="1998720"/>
                <a:gridCol w="1025640"/>
                <a:gridCol w="1788840"/>
                <a:gridCol w="1068480"/>
                <a:gridCol w="178596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RXBUF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receive-data buffer is user accessible and contains the last received character from the receive shift regis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ading UCxRXBUF resets receive-error bits, UCADDR/UCIDLE bit and UCAxRXIF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7-bit data mode, UCAxRXBUF is LSB justified and the MSB is always clear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RXBUF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ading UCxRXBUF resets t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ceive-error bits, and UCxRX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RXBUF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SPI 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6E17-2D72-4E64-A45B-F3C2D1B66A4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9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TXBUF, USCI_Ax Transmit Buffer Register (UART, SPI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BxTXBUF, USCI_Bx Transmit Buffer Register (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0" y="1927080"/>
          <a:ext cx="9144000" cy="573120"/>
        </p:xfrm>
        <a:graphic>
          <a:graphicData uri="http://schemas.openxmlformats.org/drawingml/2006/table">
            <a:tbl>
              <a:tblPr/>
              <a:tblGrid>
                <a:gridCol w="1289160"/>
                <a:gridCol w="982440"/>
                <a:gridCol w="981360"/>
                <a:gridCol w="982440"/>
                <a:gridCol w="981000"/>
                <a:gridCol w="982800"/>
                <a:gridCol w="981000"/>
                <a:gridCol w="982800"/>
                <a:gridCol w="981000"/>
              </a:tblGrid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/ SPI / I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BUF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6" name=""/>
          <p:cNvGraphicFramePr/>
          <p:nvPr/>
        </p:nvGraphicFramePr>
        <p:xfrm>
          <a:off x="0" y="3071880"/>
          <a:ext cx="9144000" cy="3133800"/>
        </p:xfrm>
        <a:graphic>
          <a:graphicData uri="http://schemas.openxmlformats.org/drawingml/2006/table">
            <a:tbl>
              <a:tblPr/>
              <a:tblGrid>
                <a:gridCol w="539640"/>
                <a:gridCol w="1008000"/>
                <a:gridCol w="1970280"/>
                <a:gridCol w="1198440"/>
                <a:gridCol w="1695600"/>
                <a:gridCol w="1112760"/>
                <a:gridCol w="161928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BUF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transmit data buffer is user accessible and holds the data waiting to be moved into the transmit shift register and transmitted on UCAxTX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ing to the transmit data buffer clears UCAxTXIF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BUF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transmit data buffer is user accessible and holds the data waiting to be moved into the transmit shift register and transmit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ing to the transmit data buffer clears UCxTXIF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TXBUF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SPI 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89D4-5BEA-4A17-8020-EA6A3599216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10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E2, Interrupt Enable Register 2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ART, 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-14400" y="1398600"/>
          <a:ext cx="9174240" cy="947880"/>
        </p:xfrm>
        <a:graphic>
          <a:graphicData uri="http://schemas.openxmlformats.org/drawingml/2006/table">
            <a:tbl>
              <a:tblPr/>
              <a:tblGrid>
                <a:gridCol w="1017720"/>
                <a:gridCol w="1017720"/>
                <a:gridCol w="1014120"/>
                <a:gridCol w="1014480"/>
                <a:gridCol w="182520"/>
                <a:gridCol w="833400"/>
                <a:gridCol w="1260720"/>
                <a:gridCol w="946080"/>
                <a:gridCol w="873000"/>
                <a:gridCol w="10144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T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R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T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R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T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R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T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R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2" name=""/>
          <p:cNvGraphicFramePr/>
          <p:nvPr/>
        </p:nvGraphicFramePr>
        <p:xfrm>
          <a:off x="0" y="2536920"/>
          <a:ext cx="9144000" cy="3738600"/>
        </p:xfrm>
        <a:graphic>
          <a:graphicData uri="http://schemas.openxmlformats.org/drawingml/2006/table">
            <a:tbl>
              <a:tblPr/>
              <a:tblGrid>
                <a:gridCol w="468360"/>
                <a:gridCol w="1008000"/>
                <a:gridCol w="1727280"/>
                <a:gridCol w="1008000"/>
                <a:gridCol w="1728720"/>
                <a:gridCol w="1251000"/>
                <a:gridCol w="19526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TX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B0 transmit interrupt enab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Dis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En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TX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SPI 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RX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B0 receive interrupt enab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Dis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En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RX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SPI 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TX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A0 transmit interrupt enab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Dis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En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TX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RX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A0 receive interrupt enab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Dis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En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RX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5186-BF75-4D1D-9F3F-C3935EF4EB2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11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FG2, Interrupt Flag Register 2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ART, 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0" y="1413000"/>
          <a:ext cx="9144000" cy="941400"/>
        </p:xfrm>
        <a:graphic>
          <a:graphicData uri="http://schemas.openxmlformats.org/drawingml/2006/table">
            <a:tbl>
              <a:tblPr/>
              <a:tblGrid>
                <a:gridCol w="1012680"/>
                <a:gridCol w="1014480"/>
                <a:gridCol w="1013040"/>
                <a:gridCol w="1009440"/>
                <a:gridCol w="414360"/>
                <a:gridCol w="601560"/>
                <a:gridCol w="1090800"/>
                <a:gridCol w="936720"/>
                <a:gridCol w="1041120"/>
                <a:gridCol w="1009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T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R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T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R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T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R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T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R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79200" y="2852640"/>
          <a:ext cx="9064800" cy="2586240"/>
        </p:xfrm>
        <a:graphic>
          <a:graphicData uri="http://schemas.openxmlformats.org/drawingml/2006/table">
            <a:tbl>
              <a:tblPr/>
              <a:tblGrid>
                <a:gridCol w="389160"/>
                <a:gridCol w="1008000"/>
                <a:gridCol w="2303640"/>
                <a:gridCol w="1008000"/>
                <a:gridCol w="2376360"/>
                <a:gridCol w="936720"/>
                <a:gridCol w="10429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T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B0 transmit interrupt fla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o interrupt 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Interrupt 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T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SPI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R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B0 receive interrupt fla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o interrupt 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Interrupt 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0R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SPI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T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A0 transmit interrupt fla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o interrupt 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Interrupt 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T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R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A0 receive interrupt fla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o interrupt 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Interrupt 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0R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4F87-07D1-44EF-A121-0200096FD497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12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1IE, USCI_A1 Interrupt Enable Register (UART, SPI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1IE, USCI_B1 Interrupt Enable Register (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0" y="2098800"/>
          <a:ext cx="9144000" cy="1185840"/>
        </p:xfrm>
        <a:graphic>
          <a:graphicData uri="http://schemas.openxmlformats.org/drawingml/2006/table">
            <a:tbl>
              <a:tblPr/>
              <a:tblGrid>
                <a:gridCol w="1012680"/>
                <a:gridCol w="1014480"/>
                <a:gridCol w="1013040"/>
                <a:gridCol w="1009440"/>
                <a:gridCol w="414360"/>
                <a:gridCol w="601560"/>
                <a:gridCol w="1252800"/>
                <a:gridCol w="946080"/>
                <a:gridCol w="869760"/>
                <a:gridCol w="1009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T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R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T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R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T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R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T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RX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4" name=""/>
          <p:cNvGraphicFramePr/>
          <p:nvPr/>
        </p:nvGraphicFramePr>
        <p:xfrm>
          <a:off x="0" y="3527280"/>
          <a:ext cx="9144000" cy="2854440"/>
        </p:xfrm>
        <a:graphic>
          <a:graphicData uri="http://schemas.openxmlformats.org/drawingml/2006/table">
            <a:tbl>
              <a:tblPr/>
              <a:tblGrid>
                <a:gridCol w="414360"/>
                <a:gridCol w="844560"/>
                <a:gridCol w="2036880"/>
                <a:gridCol w="776160"/>
                <a:gridCol w="2228760"/>
                <a:gridCol w="781200"/>
                <a:gridCol w="2062080"/>
              </a:tblGrid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 mode 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9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TX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B1 transmit interrupt enabl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TXIE1 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Disabl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TXIE1 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Enabl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TX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SPI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RX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B1 receive interrupt enabl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XIE1 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Disabl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XIE1 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Enabl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RX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SPI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TX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A1 transmit interrupt enabl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TXIE1 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Disabl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TXIE1 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Enabl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TX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RX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A1 receive interrupt enabl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XIE1 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Disabl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XIE1 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Enabl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RX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BE8B-F148-46E9-96B6-E6F5206D746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13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1IFG, USCI_A1 Interrupt Flag Register (UART, SPI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1IFG, USCI_B1 Interrupt Flag Register (SPI,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-14400" y="2055960"/>
          <a:ext cx="9174240" cy="941400"/>
        </p:xfrm>
        <a:graphic>
          <a:graphicData uri="http://schemas.openxmlformats.org/drawingml/2006/table">
            <a:tbl>
              <a:tblPr/>
              <a:tblGrid>
                <a:gridCol w="1017720"/>
                <a:gridCol w="1017720"/>
                <a:gridCol w="1014120"/>
                <a:gridCol w="1014480"/>
                <a:gridCol w="182520"/>
                <a:gridCol w="833400"/>
                <a:gridCol w="1019160"/>
                <a:gridCol w="1008360"/>
                <a:gridCol w="1052280"/>
                <a:gridCol w="10144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T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R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T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R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T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R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T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RX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0" name=""/>
          <p:cNvGraphicFramePr/>
          <p:nvPr/>
        </p:nvGraphicFramePr>
        <p:xfrm>
          <a:off x="0" y="3287880"/>
          <a:ext cx="9144000" cy="2792160"/>
        </p:xfrm>
        <a:graphic>
          <a:graphicData uri="http://schemas.openxmlformats.org/drawingml/2006/table">
            <a:tbl>
              <a:tblPr/>
              <a:tblGrid>
                <a:gridCol w="414360"/>
                <a:gridCol w="917640"/>
                <a:gridCol w="2087640"/>
                <a:gridCol w="936360"/>
                <a:gridCol w="2087640"/>
                <a:gridCol w="936720"/>
                <a:gridCol w="1763640"/>
              </a:tblGrid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 mode 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9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TXIF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B1 transmit interrupt fla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o 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TXIF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SPI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RXIF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B1 receive interrupt fla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o 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1RXIF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SPI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TXIF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A1 transmit interrupt fla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o 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TXIF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RXIF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_A1 receive interrupt fla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0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No 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= 1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Interrupt pe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1RXIF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 UART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1263-72CA-42C8-8885-BD168C463B0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14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MCTL, USCI_Ax Modulation Control Register (UART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0" y="1484280"/>
          <a:ext cx="9144000" cy="4856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F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S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OS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6" name=""/>
          <p:cNvGraphicFramePr/>
          <p:nvPr/>
        </p:nvGraphicFramePr>
        <p:xfrm>
          <a:off x="0" y="2394000"/>
          <a:ext cx="9144000" cy="1457280"/>
        </p:xfrm>
        <a:graphic>
          <a:graphicData uri="http://schemas.openxmlformats.org/drawingml/2006/table">
            <a:tbl>
              <a:tblPr/>
              <a:tblGrid>
                <a:gridCol w="801720"/>
                <a:gridCol w="1711440"/>
                <a:gridCol w="6630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F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irst modulation pattern for BITCLK16 when UCOS16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See 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ble 19-3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the MSP430x4xx User’s Gui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RS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cond modulation pattern for BITCL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See 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ble 19-2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f the MSP430x4xx User’s Gui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OS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versampling mode enabled when UCOS16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00F9-32A9-49AD-940A-5FA2C1EC3A4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15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IRTCTL, USCI_Ax IrDA Transmit Control Register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  (UART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1" name=""/>
          <p:cNvGraphicFramePr/>
          <p:nvPr/>
        </p:nvGraphicFramePr>
        <p:xfrm>
          <a:off x="0" y="1500120"/>
          <a:ext cx="9144000" cy="4874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TXPL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TXCL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2" name=""/>
          <p:cNvGraphicFramePr/>
          <p:nvPr/>
        </p:nvGraphicFramePr>
        <p:xfrm>
          <a:off x="0" y="2449440"/>
          <a:ext cx="9144000" cy="2187720"/>
        </p:xfrm>
        <a:graphic>
          <a:graphicData uri="http://schemas.openxmlformats.org/drawingml/2006/table">
            <a:tbl>
              <a:tblPr/>
              <a:tblGrid>
                <a:gridCol w="801720"/>
                <a:gridCol w="1711440"/>
                <a:gridCol w="6630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TXPL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t pulse length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ULS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(UCIRTXPLx + 1) / (2 x f</a:t>
                      </a:r>
                      <a:r>
                        <a:rPr b="0" lang="en-GB" sz="12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RTXCLK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TXCL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rDA transmit pulse clock select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TXCLK = 0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BRCL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TXCLK = 1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BITCLK16,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n UCOS16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                   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CLK,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herw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rDA encoder/decoder enab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EN = 0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rDA encoder/decoder dis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EN = 1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rDA encoder/decoder en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569B-5B62-47A2-8A58-B4ACF9249CD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USCI module introduction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USCI module suppor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 power operating modes (with auto-star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o individual block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2600" indent="-29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CI_A: UART and SP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2600" indent="-29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CI_B: SPI and 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2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uble buffered TX/R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ud rate/bit clock genera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2600" indent="-29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ith auto-baud rate detec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2600" indent="-29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lexible clock sour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2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X glitch suppress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MA enabl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ror det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D75D-9B4E-4201-9C77-3795C79F575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16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IRRCTL, USCI_Ax IrDA Receive Control Register (UART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0" y="1413000"/>
          <a:ext cx="9144000" cy="576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RXFL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RX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RX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8" name=""/>
          <p:cNvGraphicFramePr/>
          <p:nvPr/>
        </p:nvGraphicFramePr>
        <p:xfrm>
          <a:off x="0" y="2478240"/>
          <a:ext cx="9144000" cy="2246040"/>
        </p:xfrm>
        <a:graphic>
          <a:graphicData uri="http://schemas.openxmlformats.org/drawingml/2006/table">
            <a:tbl>
              <a:tblPr/>
              <a:tblGrid>
                <a:gridCol w="801720"/>
                <a:gridCol w="1711440"/>
                <a:gridCol w="6630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RXFL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ceive filter length (minimum pulse length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(UCIRRXFLx + 4) / (2 × f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RTXCLK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RX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rDA receive input UCAxRXD polarity. When a light pulse is see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RXPL = 0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rDA transceiver delivers a high pul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RXPL = 1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rDA transceiver delivers a low pu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RX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rDA receive filter enable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RXFE = 0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Disab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IRRXFE = 1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Enab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C4AF-75B7-40D1-9AF8-42309B3C0EF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17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AxABCTL, USCI_Ax Auto Baud Rate Control Register (UART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0" y="1557360"/>
          <a:ext cx="9144000" cy="4856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er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DELIM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O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TO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er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B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4" name=""/>
          <p:cNvGraphicFramePr/>
          <p:nvPr/>
        </p:nvGraphicFramePr>
        <p:xfrm>
          <a:off x="0" y="2349360"/>
          <a:ext cx="9144000" cy="3613320"/>
        </p:xfrm>
        <a:graphic>
          <a:graphicData uri="http://schemas.openxmlformats.org/drawingml/2006/table">
            <a:tbl>
              <a:tblPr/>
              <a:tblGrid>
                <a:gridCol w="801720"/>
                <a:gridCol w="1711440"/>
                <a:gridCol w="6630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DELI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eak/synch delimiter length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DELIM1 UCDELIM0 = 00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1 bit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DELIM1 UCDELIM0 = 01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2 bit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DELIM1 UCDELIM0 = 10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3 bit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DELIM1 UCDELIM0 = 11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4 bit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nch field time out erro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OE = 0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OE = 1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Length of synch field exceeded measurable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T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eak time out erro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TOE = 0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No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BTOE = 1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Length of break field exceeded 22 bit tim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B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tomatic baud rate detect enabl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BDEN = 0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Baud rate detection disab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BDEN = 1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Baud rate detection enab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1F3A-1C55-4A8D-BACF-DB5FA44966B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18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BxI2COA, USCIBx I2C Own Address Register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  (I</a:t>
            </a:r>
            <a:r>
              <a:rPr b="1" lang="pt-PT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0" y="1460520"/>
          <a:ext cx="9144000" cy="4874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GC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2CO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0" y="2060640"/>
          <a:ext cx="9144000" cy="4874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2CO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1" name=""/>
          <p:cNvGraphicFramePr/>
          <p:nvPr/>
        </p:nvGraphicFramePr>
        <p:xfrm>
          <a:off x="0" y="3141720"/>
          <a:ext cx="9144000" cy="1973160"/>
        </p:xfrm>
        <a:graphic>
          <a:graphicData uri="http://schemas.openxmlformats.org/drawingml/2006/table">
            <a:tbl>
              <a:tblPr/>
              <a:tblGrid>
                <a:gridCol w="801720"/>
                <a:gridCol w="1711440"/>
                <a:gridCol w="6630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GC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neral call response enabl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GCEN = 0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Do not respond to a general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GCEN = 1  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Respond to a general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2CO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own address (local address of the USCI_Bx I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controll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ight-justified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bit address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Bit 6 is the MSB, Bits 9-7 are ignor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-bit address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Bit 9 is the MS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5F4C-60C4-459C-93AA-D97F5033187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19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BxI2CSA, USCI_Bx I</a:t>
            </a:r>
            <a:r>
              <a:rPr b="1" lang="en-GB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 Slave Address Register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  (I</a:t>
            </a:r>
            <a:r>
              <a:rPr b="1" lang="pt-PT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0" y="1460520"/>
          <a:ext cx="9144000" cy="4874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2CS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7" name=""/>
          <p:cNvGraphicFramePr/>
          <p:nvPr/>
        </p:nvGraphicFramePr>
        <p:xfrm>
          <a:off x="0" y="2060640"/>
          <a:ext cx="9144000" cy="4874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2CS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8" name=""/>
          <p:cNvGraphicFramePr/>
          <p:nvPr/>
        </p:nvGraphicFramePr>
        <p:xfrm>
          <a:off x="0" y="3141720"/>
          <a:ext cx="9144000" cy="1670040"/>
        </p:xfrm>
        <a:graphic>
          <a:graphicData uri="http://schemas.openxmlformats.org/drawingml/2006/table">
            <a:tbl>
              <a:tblPr/>
              <a:tblGrid>
                <a:gridCol w="801720"/>
                <a:gridCol w="1711440"/>
                <a:gridCol w="6630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2CS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slave address (slave address of the external device to be addressed by the USCI_Bx modu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ly used in master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ght-justified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-bit address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it 6 is the MSB, Bits 9-7 are ignor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-bit address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it 9 is the MSB.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4916-CB03-4BC5-AE2A-86A6878580F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registers (UART,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 (20/2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CBxI2CIE, USCI_Bx I2C Interrupt Enable Register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  (I</a:t>
            </a:r>
            <a:r>
              <a:rPr b="1" lang="pt-PT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0" y="1557360"/>
          <a:ext cx="9144000" cy="4888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er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NAC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P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T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4" name=""/>
          <p:cNvGraphicFramePr/>
          <p:nvPr/>
        </p:nvGraphicFramePr>
        <p:xfrm>
          <a:off x="0" y="2421000"/>
          <a:ext cx="9144000" cy="3095640"/>
        </p:xfrm>
        <a:graphic>
          <a:graphicData uri="http://schemas.openxmlformats.org/drawingml/2006/table">
            <a:tbl>
              <a:tblPr/>
              <a:tblGrid>
                <a:gridCol w="801720"/>
                <a:gridCol w="1711440"/>
                <a:gridCol w="663084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mod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NAC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-acknowledge interrupt enab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NACKIE = 0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terrupt dis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NACKIE = 1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terrupt en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P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op condition interrupt enab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PIE = 0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terrupt dis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PIE = 1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terrupt en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T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rt condition interrupt enab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TIE = 0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terrupt dis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STTIE = 1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terrupt en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bitration lost interrupt enab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LIE = 0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terrupt dis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CALIE = 1  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Interrupt en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933E-ED6E-428C-AAEE-54DC2713AED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a: USCI echo test using UART mo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ject fil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source files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4 &gt; Lab10 &gt; Lab10a_student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lution file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4 &gt; Lab10 &gt; Lab10a_solution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verview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laboratory explores the USCI module in UART mode that will be connected to a CCE IO conso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the connection is established, the character sequence written at the keyboard to the console will be displayed again on the console.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F80E-8350-493F-A24D-FF3B0F6E6A1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a: Echo test using USCI module: UAR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laboratory uses the USCI module in asynchronous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X interrupt activates the service routine that reads the incoming character and sends it again to the PC (computer), allowing the instantaneous display of the written charac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esources used 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CI modu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O por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ystem clo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s the FLL+ and selects the base frequency for the UART. In this example it will be 8 MHz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8BFD-F9E2-41D7-8C8C-B4B47D7F2C7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a: Echo test using USCI module: UAR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forms the required hardware configur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R generated by the reception of a new charac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ystem clock at a frequency of 8 MHz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7" name="Picture 4" descr=""/>
          <p:cNvPicPr/>
          <p:nvPr/>
        </p:nvPicPr>
        <p:blipFill>
          <a:blip r:embed="rId1"/>
          <a:stretch/>
        </p:blipFill>
        <p:spPr>
          <a:xfrm>
            <a:off x="2195640" y="2960640"/>
            <a:ext cx="482436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D2F5-5A95-4230-85F4-0501F59A21D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a: Echo test using USCI module: UAR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rol regist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nection will operate in the following mo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ity disabl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SB fir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-bit da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stop b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odule will operate on the following mo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ynchronou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MCLK source clo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Receive erroneous-character interrupt-ena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Receive break character interrupt-en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2B91-7C80-4321-AF74-EA24DE57135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a: Echo test using USCI module: UAR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rol regist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following control registers based on these characteristic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A0CTL0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A0CTL1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D1DF-4ACB-4A67-A48E-309576073B1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USCI module introduction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block diagra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6" name="Picture 4" descr=""/>
          <p:cNvPicPr/>
          <p:nvPr/>
        </p:nvPicPr>
        <p:blipFill>
          <a:blip r:embed="rId1"/>
          <a:stretch/>
        </p:blipFill>
        <p:spPr>
          <a:xfrm>
            <a:off x="1619280" y="1563840"/>
            <a:ext cx="532908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E04B-DCB9-4C26-B2ED-3F119182FE6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a: Echo test using USCI module: UAR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aud rate gen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odule has an 8 MHz clock source and the objective is to establish a connection at a communication rate of 9600 bau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is necessary to set up the baud rate generation in oversampling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following regist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A0BR0 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A0BR1 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A0MCTL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B350-FB48-495A-9526-DDB4BAC1C6E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a: Echo test using USCI module: UAR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ation of Por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order to set the external interfaces of the USCI module, it is necessary to configure the I/O por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 the USCI peripheral in UART mode following the connections provided at the Experimenter’s boar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2SEL = 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61B2-B824-4237-BE6F-D30A6D49B3E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a: Echo test using USCI module: UAR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X interrupt enab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finish the module configuration, it is necessary to enable the receive interrup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E2 = 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31CE-FC13-482E-A340-D52632F0634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a: Echo test using USCI module: UAR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ce the USCI module is configured in accordance with the previous steps, to initiate the experiment, complete the fil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10a_student.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compile it and run it on the Experimenter’s boa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olution to the laboratory can be found in the fil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10a_solution.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correct operation, there must be a connection between the Experimenter’s board and the PC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 CCE console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ndow&gt;Show View&gt;Conso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necessary, configure the CCE console options in accordance to the connection detai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DC3-CDBB-465C-A774-90EF9AF93DD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a: Echo test using USCI module: UAR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rol regis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CA0CTL0 = 0x0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PEN|UCPAR|UCMSB|UC7BIT|UCSPB|UCMODEx|UCSYNC|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PEN (Parity)               = 0b  -&gt;  Parity disable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PAR (Parity select)             = 0b  -&gt;  Odd parity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MSB (MSB first select)           = 0b  -&gt;  LSB firs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7BIT (Character length)         = 0b  -&gt;  8-bit dat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SPB (Stop bit select)         = 0b  -&gt;  One stop bi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MODEx (USCI mode)                = 00b -&gt;  UART Mo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SYNC                     = 0b  -&gt;  Asynchronous mo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0" y="1052640"/>
          <a:ext cx="9144000" cy="1584360"/>
        </p:xfrm>
        <a:graphic>
          <a:graphicData uri="http://schemas.openxmlformats.org/drawingml/2006/table">
            <a:tbl>
              <a:tblPr/>
              <a:tblGrid>
                <a:gridCol w="3105000"/>
                <a:gridCol w="6039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SP-EXP430FG46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ing USCI module in UART mode included in the MSP-EXP430FG4618 Development Tool, develop a procedure to connect it to a PC’s I/O console. When the connection is established, the character sequence writ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to the console by the keyboard will be displayed on the conso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B0B5-6B4F-4456-A3DF-1FF0A3410BD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a: Echo test using USCI module: UAR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rol regis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CA0CTL1 = 0x8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SSELx|UCRXEIE|UCBRKIE|UCDORM|UCTXADDR|UCTXBRK|UCSWR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SSELx (USCI clock source select)     = 10b -&gt;  SMCL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RXEIE        = 0b  -&gt;  Erroneous characters reje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BRKIE        = 0b  -&gt;  Received break characters s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DORM                           = 0b  -&gt;  Not dorm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TXADDR      = 0b  -&gt;  Next frame transmitted is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TXBRK   = 0b  -&gt;  Next frame transmitted is no bre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SWRST                = 1b  -&gt;  normally Set by a PU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3B1E-08DA-4C81-8354-EA52179EADE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a: Echo test using USCI module: UAR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aud rate gener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CA0BR0 = 0x34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CA0BR1 = 0x00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Prescaler = 8MHz/(16 x 9600) = 52 = 0x34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9600 from 8MHz -&gt; SMCLK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CA0MCTL = 0x11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BRFx|UCBRSx|UCOS16|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BRFx (1st modulation stage)    = 0001b -&gt; Table 19-4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BRSx (2nd modulation stage)    = 000b  -&gt; Table 19-4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OS16 (Oversampling mode)          = 1b    -&gt; Enable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9A13-00C7-4270-AD05-9D05E356B23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a: Echo test using USCI module: UAR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ation of por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2SEL |= 0x30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P2.4,P2.5 = USCI_A0 TXD,RX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X interrupt ena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E2 |= UCA0RXIE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Enable USCI_A0 RX interrup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5457-B144-44E5-926A-30532F3FB71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1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. The USCI module ha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One modul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Two module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Three module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The USCI module in UART mode suppor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L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rD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4325-A121-4F7B-9CB6-DDBF23DB4A4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2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The UCMSB bit control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direction of the data transf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elects LSB or MSB fir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The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utomatic baud rate detection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uses a “break” which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Detected when 11 or more continuous “0”s are receiv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Detected when 4 or more continuous “0”s are receiv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Detected when 8 or more continuous “0”s are receiv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46D7-A74D-4889-AAC4-1F07DBE5900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1/17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 asynchronous mode, the USCI_Ax modules connect the MSP430 to an external system via two external pins, UCAxRXD and UCAxTX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ART mode is selected when the UCSYNC bit is clear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transmits and receives characters asynchronously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iming for each character is based on the selected baud rate of the USCI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ransmit and receive use the same clock frequency leading to the same baud rat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744A-F880-414F-B3D2-3B8B93FB7C7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3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The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utomatic baud rate detection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uses a synch field which is represented b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Data 022h inside a byte fiel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Data 055h inside a byte fiel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Data 044h inside a byte fiel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The USCI module in UART mode for IrDA decoding detec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Low puls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High puls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FD26-9A37-4A1C-A6BC-64A249E0EA0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4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7. The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baud rate can be generated using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 low frequency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Oversampling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8. In USCI 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communication, the ACK bit is sent from the receiver af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Each bit on the 9th SCL cloc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Each byte on the 2th SCL cloc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Each bit on the 2th SCL cloc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Each byte on the 9th SCL clock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C84E-867A-4F88-AB64-2AFE2B05119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5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9. The operating modes provided by the 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mode a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Master transmitter and Slave receiv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Slave transmitter and Master receiv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0. The 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state change interrupt flags a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rbitration-lost and Not-acknowledg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Start and stop condition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47FF-EB17-4976-9AC0-9A07D25DED7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6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nswers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. (b) Two modul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. (c) All of abov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. (c) All of abov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. (a) Detected when 11 or more continuous “0”s are receiv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5. (b) Data 055h inside a byte fiel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6. (c) All of abov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7. (c) All of abov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8. (d) Each byte on the 9th SCL cloc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9. (c) All of abov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0. (c) All of abov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D5BC-0745-456D-9FD0-FA56AD1F0A9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CI operation: UART mode (2/17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operation in UART mode block diagra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5" name="Picture 4" descr=""/>
          <p:cNvPicPr/>
          <p:nvPr/>
        </p:nvPicPr>
        <p:blipFill>
          <a:blip r:embed="rId1"/>
          <a:stretch/>
        </p:blipFill>
        <p:spPr>
          <a:xfrm>
            <a:off x="1979640" y="1711440"/>
            <a:ext cx="44830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8T16:14:08Z</dcterms:modified>
  <cp:revision>106</cp:revision>
  <dc:subject/>
  <dc:title>Diapositivo 1</dc:title>
</cp:coreProperties>
</file>