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3CF3-D0AF-4F6F-826E-23C7586634F1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4182-4FF8-4896-8BBA-91486C3D17C7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60221-0FD4-4A7E-B303-472835097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23D2E-7A48-43F9-B84A-6877A0B2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1EE57-38A6-45C1-B530-F41413719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78797-C72D-44C5-8A7F-E21E9510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7266A-606B-4FE7-9556-EC3C1C31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90E72-3769-4264-9918-9EA6C550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11862-A5C2-4F93-AAF9-A2F626BB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2E2EF-0221-494D-B28A-6EEBA27F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EB243-E2C7-41F3-AB67-586530B7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C5057-C278-473E-8018-32BE992A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7A85C-A51D-4C5B-A404-616AB6B6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1EBDF-7333-4F0D-9EC6-FE65DBD5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6655-648E-4DE1-8015-4A2323526284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8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8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000000"/>
                </a:solidFill>
                <a:latin typeface="Verdana"/>
              </a:rPr>
              <a:t>Chapter 15</a:t>
            </a:r>
            <a:br>
              <a:rPr sz="3000"/>
            </a:br>
            <a:r>
              <a:rPr b="1" lang="pt-PT" sz="3000" spc="-1" strike="noStrike">
                <a:solidFill>
                  <a:srgbClr val="000000"/>
                </a:solidFill>
                <a:latin typeface="Verdana"/>
              </a:rPr>
              <a:t>Advanced Laboratories</a:t>
            </a:r>
            <a:br>
              <a:rPr sz="30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MSP430 assembly language tutorial: Creating an assembly project</a:t>
            </a: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 with CC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-100080"/>
            <a:ext cx="914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900" spc="-1" strike="noStrike">
                <a:solidFill>
                  <a:srgbClr val="ffffff"/>
                </a:solidFill>
                <a:latin typeface="Verdana"/>
              </a:rPr>
              <a:t>MSP430 Teaching Material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brasao a cores"/>
          <p:cNvPicPr/>
          <p:nvPr/>
        </p:nvPicPr>
        <p:blipFill>
          <a:blip r:embed="rId1"/>
          <a:stretch/>
        </p:blipFill>
        <p:spPr>
          <a:xfrm>
            <a:off x="860400" y="4221000"/>
            <a:ext cx="687240" cy="952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2"/>
          <a:stretch/>
        </p:blipFill>
        <p:spPr>
          <a:xfrm>
            <a:off x="7667640" y="4365720"/>
            <a:ext cx="752400" cy="723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15640" y="4220640"/>
            <a:ext cx="676908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Texas Instruments Incorporat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University of Beira Interior (PT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Pedro Dinis Gaspar, António Espírito Santo, Bruno Ribeiro, Humberto Santo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University of Beira Interior, Electromechanical Engineering Department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msp430.ubi.pt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6E0A-45E3-4F31-B8ED-F911FCEEA671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Key assembly directives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5/2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assembler supports several formats for constant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inary integer: 1111 0000b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0xF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ctal integer: 226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0x9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cimal integer: 25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0x1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exadecimal intege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0x7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racte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‘a’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ssembly tim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alue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set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8D3E-34A8-40D4-BF61-2B9E42C173FF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Key assembly directives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6/2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Symbols are used as labels, constants, and substitution symbols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A symbol name is a string of up to 200 alphanumeric characters (A-Z, a-z, 0-9, $, and _)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he first character in a symbol cannot be a number, and symbols cannot contain embedded blanks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he symbols you define are case sensitiv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Symbols used as labels become symbolic addresses that are associated with locations in the program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Labels used locally within a file must be unique.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33F9-756C-493A-A3B7-9886A2B30A08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Key assembly directives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7/2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ocal labels are special labels whose scope and effect are temporary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 local label can be defined in two way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$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where n is a decimal digit in the range 0-9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or example,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$4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$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re valid local label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name?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where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s any legal symbol name as described abo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assembler replaces the question mark with a period followed by a unique numb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n the source code is expanded, you will not see the unique number in the listing fi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F927-FA78-402F-B583-A9DEB5D0A0A0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Key assembly directives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8/2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Normal labels must be uniqu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ocal labels, however, can be undefined and redefined again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smallest unit of an object file is called a section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 section is a block of code or data that occupies contiguous space in the memory map with other sections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ach section of an object file is separate and distinct.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1D71-DC55-4C03-9BF8-5CA9F4C6A6BC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Key assembly directives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9/2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bject files usually contain three default section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.tex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section usually contains executable co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.dat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section usually contains initialized dat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.bs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section usually reserves space for uninitialized variab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re are two basic types of section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itialized section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ninitialized sec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8261-6AA5-42A5-9A22-3968DFD1335C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Key assembly directives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10/2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ypes of section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itialized sec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tain data or co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.tex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.dat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sections are initialized with valu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amed sections created with the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.sec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ssembler directive are also initializ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ninitialized sec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serve space in the memory map for uninitialized dat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.bs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section is uninitializ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amed sections created with the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.usec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ssembler directive are also uninitializ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7A54-19B6-4E1D-A714-88E18534171D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Key assembly directives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11/2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 line in a listing file has four field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eld 1: contains the source code line count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eld 2: contains the section program count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eld 3: contains the object co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eld 4: contains the original source stat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5B94-0314-448C-8B46-6654D984B70C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Key assembly directives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12/2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Example: Using sections directiv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rcRect l="4346" t="58226" r="19696" b="693"/>
          <a:stretch/>
        </p:blipFill>
        <p:spPr>
          <a:xfrm>
            <a:off x="1187280" y="1773360"/>
            <a:ext cx="691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8FF0-1E44-4E81-8008-71A70DF12EC4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Key assembly directives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13/2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Example: process of linking two files togeth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908000" y="1565280"/>
            <a:ext cx="575172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9814-2794-467F-AD7C-95FE806EE18F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Key assembly directives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14/2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ssembler directives supply data to the program and control the assembly process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ssembler directives enable you to do the following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ssemble code and data into specified section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serve space in memory for uninitialized variabl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trol the appearance of listing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itialize memor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ssemble conditional block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fine global variabl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pecify libraries from which the assembler can obtain macro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mine symbolic debugging inform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32E4-D20F-4E85-9E76-027F006A15CB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Key assembly directiv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Project example: square root extraction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gorithm pres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de implementation and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esting the pro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C132-4284-4BE6-87CA-4FA078F7D41D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Key assembly directives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15/2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Assembler directiv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rectives that define sec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0" y="2205000"/>
            <a:ext cx="914400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D9FC-8318-445D-B888-B03CDC8C6125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Key assembly directives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16/2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Assembler directives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rectives that initialize constants (Data and Memory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0" y="2205000"/>
            <a:ext cx="914400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4C00-2171-4A49-BDB9-2A3573B31B53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Key assembly directives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17/2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Assembler directives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rectives that perform alignment and reserve spac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0" y="2205000"/>
            <a:ext cx="91440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E79A-8CC0-45E1-BA19-C4238329F51A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Key assembly directives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18/2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Assembler directives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rectives that format the output listin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792000" y="2192400"/>
            <a:ext cx="730908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39EE-20CC-4DD0-9C3F-68BD16D09AD5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Key assembly directives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19/2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Assembler directives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rectives that reference other fi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0" y="2205000"/>
            <a:ext cx="914400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6B75-205D-4A7E-84AF-086E6C831CD5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Key assembly directives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20/2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Assembler directives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rectives that enable conditional assembly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0" y="2205000"/>
            <a:ext cx="9144000" cy="34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F7BA-E1CD-4507-BCDA-57BA54C6C0A7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Key assembly directives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21/2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Assembler directives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rectives that define structur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rectives that define symbols at assembly time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0" y="2205000"/>
            <a:ext cx="9144000" cy="1228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"/>
          <p:cNvPicPr/>
          <p:nvPr/>
        </p:nvPicPr>
        <p:blipFill>
          <a:blip r:embed="rId2"/>
          <a:stretch/>
        </p:blipFill>
        <p:spPr>
          <a:xfrm>
            <a:off x="0" y="4062240"/>
            <a:ext cx="914400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B83E-8E18-4112-958E-6E9E44355AE8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Key assembly directives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22/2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Assembler directives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rectives that perform miscellaneous functions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1"/>
          <a:stretch/>
        </p:blipFill>
        <p:spPr>
          <a:xfrm>
            <a:off x="0" y="2205000"/>
            <a:ext cx="91440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860D-9BA4-47BD-ABE1-DA0B52486894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Project example: square root extraction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1/2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lgorithm present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routine to perform the calculation of a square root should provide the result in a speedy manner and without needing a starting point, as in Newton's iterative metho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first step in the manual method of calculating the square root of a number is to partition the number into bit pairs, starting with the least significant bi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egin with the most significant pair of digits, subtract 01 and proceed as follow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f the result of the subtraction is positive, enter a bit with value 1 in the square root resul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f the result of the subtraction is negative, enter a bit with value 0 in the square root resul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C4C2-C45C-42F8-A848-4C03EB586515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Project example: square root extraction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2/2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lgorithm presentation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second step consists of adding to the subtraction result the following bit pair of the number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next operation is now selected as follow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f the entered bit value in the square root result was 1, add 01 to the square root result and subtract this valu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f the entered bit value in the square root result was 0, add 11 to the square root result and add this valu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ceed until the end of the calcul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8FAF-6248-4B5E-94C9-04EDB5B57F77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Introduction (1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creation of an Assembly language project follows a sequence of steps very similar to a C/C++ project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asks sequenc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File &gt; New Projec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choose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Managed Make C/ASM Projec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Recommended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ssign a name to the project in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Project Nam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e.g., SQR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oose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Project Typ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MSP430 Executabl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Additional Project Sett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do not choose any connection with other projec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382E-BAC4-42F5-B373-2CEDCB545032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Project example: square root extraction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3/2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lgorithm presentation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9440" indent="-376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Example: Calculate the square root of </a:t>
            </a:r>
            <a:r>
              <a:rPr b="0" lang="pt-PT" sz="2000" spc="-1" strike="noStrike">
                <a:solidFill>
                  <a:srgbClr val="000000"/>
                </a:solidFill>
                <a:latin typeface="Courier New"/>
              </a:rPr>
              <a:t>01</a:t>
            </a:r>
            <a:r>
              <a:rPr b="0" lang="pt-PT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ourier New"/>
              </a:rPr>
              <a:t>01</a:t>
            </a:r>
            <a:r>
              <a:rPr b="0" lang="pt-PT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pt-PT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pt-PT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ourier New"/>
              </a:rPr>
              <a:t>00b</a:t>
            </a:r>
            <a:r>
              <a:rPr b="0" lang="pt-PT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pt-PT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ourier New"/>
              </a:rPr>
              <a:t>380d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9440" indent="-376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result is equal to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0011</a:t>
            </a:r>
            <a:r>
              <a:rPr b="0" lang="pt-PT" sz="2000" spc="-1" strike="noStrike" baseline="-15000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= 19</a:t>
            </a:r>
            <a:r>
              <a:rPr b="0" lang="pt-PT" sz="2000" spc="-1" strike="noStrike" baseline="-15000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hich is the integer part of the square root of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380</a:t>
            </a:r>
            <a:r>
              <a:rPr b="0" lang="pt-PT" sz="2000" spc="-1" strike="noStrike" baseline="-15000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6" descr=""/>
          <p:cNvPicPr/>
          <p:nvPr/>
        </p:nvPicPr>
        <p:blipFill>
          <a:blip r:embed="rId1"/>
          <a:srcRect l="0" t="0" r="0" b="5487"/>
          <a:stretch/>
        </p:blipFill>
        <p:spPr>
          <a:xfrm>
            <a:off x="2916360" y="1990800"/>
            <a:ext cx="32734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492A-BB0E-4C03-9594-A64544BF7DF4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Project example: square root extraction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4/2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6193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lgorithm presentation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Example: If instead of us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PT" sz="2000" spc="-1" strike="noStrike">
                <a:solidFill>
                  <a:srgbClr val="000000"/>
                </a:solidFill>
                <a:latin typeface="Courier New"/>
              </a:rPr>
              <a:t>01</a:t>
            </a:r>
            <a:r>
              <a:rPr b="0" lang="pt-PT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ourier New"/>
              </a:rPr>
              <a:t>01</a:t>
            </a:r>
            <a:r>
              <a:rPr b="0" lang="pt-PT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pt-PT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pt-PT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ourier New"/>
              </a:rPr>
              <a:t>00b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, the following fractional number had been use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PT" sz="2000" spc="-1" strike="noStrike">
                <a:solidFill>
                  <a:srgbClr val="000000"/>
                </a:solidFill>
                <a:latin typeface="Courier New"/>
              </a:rPr>
              <a:t>01</a:t>
            </a:r>
            <a:r>
              <a:rPr b="0" lang="pt-PT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ourier New"/>
              </a:rPr>
              <a:t>01</a:t>
            </a:r>
            <a:r>
              <a:rPr b="0" lang="pt-PT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pt-PT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pt-PT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ourier New"/>
              </a:rPr>
              <a:t>00,</a:t>
            </a:r>
            <a:r>
              <a:rPr b="0" lang="pt-PT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ourier New"/>
              </a:rPr>
              <a:t>00</a:t>
            </a:r>
            <a:r>
              <a:rPr b="0" lang="pt-PT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ourier New"/>
              </a:rPr>
              <a:t>00</a:t>
            </a:r>
            <a:r>
              <a:rPr b="0" lang="pt-PT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ourier New"/>
              </a:rPr>
              <a:t>00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The result would b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process is identical to the previous on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value of the square root with n fractional elements can be calculated by adding to the binary number with 2*n fractional ele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1"/>
          <a:srcRect l="10691" t="0" r="0" b="5266"/>
          <a:stretch/>
        </p:blipFill>
        <p:spPr>
          <a:xfrm>
            <a:off x="6372360" y="1484280"/>
            <a:ext cx="2744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2121-43B0-4D2C-8CA1-820291835B41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Project example: square root extraction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5/2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de implementation and analysi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algorithm described above is used to build the SQRT_FUNCTION routin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project for the CCE v3.0 can be found in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hapt15 &gt; Lab11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program body starts by loading the file msp430xG46x.h, providing the C/C++ mnemonic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t addressing space ".sysmem" is reserved space for the variable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number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type word) (UQ16), initialized with the value 5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square root extraction procedure places the result in the variable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sqr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type word) (UQ8.8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CEEB-09E9-4C75-87C9-7942C13269D1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Project example: square root extraction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6/2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-365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de implementation and analysis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4240" indent="-365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number of cycles to determine the solution is given by the variable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coun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type byte) initialized with 0x15, allowing 8 fractional part bi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0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************************************************************;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*************************************************************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.cdecls C,LIST,  "msp430xG46x.h"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 load C file Header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-------------------------------------------------------------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.sect ".sysmem"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 Data Spa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-------------------------------------------------------------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.word 50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 reserve space for one word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sqrt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.word 0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 reserve space for one word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.char 0x0F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 reserve space for one byte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06D9-7264-44A3-8AF1-18A956750254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Project example: square root extraction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7/2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de implementation and analysis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program code is placed in the section "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.tex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fter setting the entry point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BEGI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start to write the co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first task in the code is to set up the stack pointer and to stop the watchdog tim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ext comes loading the data necessary to execute the routine in the stack using the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nstruc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routine is then called. Note that it uses the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CAL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nstruction, so the routine must reside in the address space below 64 kB. Therefore, only bits 15:0 of the register PC are placed on the stac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C51E-3C01-4853-AAB5-52E71A6B3E5A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Project example: square root extraction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8/2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de implementation and analysis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fter running the routine, adding the value 6 to register SP (corresponding to the space occupied by the routine input data), restores the stack poin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-------------------------------------------------------------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.text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 Program Spa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-------------------------------------------------------------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.global BEGIN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 entry poin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BEGIN: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mov.w #0A00h,SP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 initialize stack pointer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mov.w #WDTPW+WDTHOLD,&amp;WDTCTL 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 stop WD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ush.w #number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 push data in to stack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ush.w #sqr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ush.w coun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call #SQRT_FUNCTION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 call functio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#0x6,SP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 restore SP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 exi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FD06-0AFA-41DD-AAE6-5961558AF875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Project example: square root extraction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9/2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de implementation and analysis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t the beginning of the routine, the machine context is stored. Therefore, all the registers used by the routine are placed on the stac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so reserved is space for two temporary variables: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temp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temp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initialized with the values 0x00 and 0x01, respectivel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7B1E-D962-4859-B245-7E443025F12E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Project example: square root extraction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10/2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de implementation and analysis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following figure shows the stack organiz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1"/>
          <a:stretch/>
        </p:blipFill>
        <p:spPr>
          <a:xfrm>
            <a:off x="2195640" y="1973160"/>
            <a:ext cx="504036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938E-34F8-4529-A139-AC524ACAAA96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Project example: square root extraction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11/2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de implementation and analysis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--------------------------------------------------------------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 Square root function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--------------------------------------------------------------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SQRT_FUNCTION: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ush.w SR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 save contex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ush.w R4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ush.w R5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ush.w R6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ush.w #00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 define temp1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ush.w #01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 define temp2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mov.w 18(SP),R4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 R4 point to number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mov.w 16(SP),R5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 R5 point to sqr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F5ED-F598-4A72-8C42-F4F42A5AFB2D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Project example: square root extraction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12/2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de implementation and analysis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square root calculation begins at the label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SQRT_LOOP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 the loop is executed 16 tim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process begins by removing the 2 most significant bits of the variable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numbe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ointed by R4, and placing them in the least significant part of the variable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temp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4CDE-5172-41A3-B2FC-75F47FDD30A6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Introduction (2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asks sequence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 the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Device Selectio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age, select the target device: MSP430FG4618. Do not forget to select the configuration option: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Assembly only Projec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t the end of this sequence of operations, a project named SQRT is opened in the work environmen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Assign a new source code file to the project. In the option </a:t>
            </a:r>
            <a:r>
              <a:rPr b="1" i="1" lang="pt-PT" sz="2000" spc="-1" strike="noStrike">
                <a:solidFill>
                  <a:srgbClr val="000000"/>
                </a:solidFill>
                <a:latin typeface="Verdana"/>
              </a:rPr>
              <a:t>Menu &gt; File &gt; Source File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and create a new file called SQRT.asm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295A-815F-4C9F-AC33-0272A1CB680C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Project example: square root extraction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13/2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de implementation and analysis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95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SQRT_LOOP1: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mov.w @R4,R6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 take 1º MSB from number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rla.w R6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mov.w R6,0(R4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mov.w 2(SP),R6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 put it in temp1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rlc.w R6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mov.w R6,2(SP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mov.w @R4,R6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 take 2º MSB from number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rla.w R6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mov.w R6,0(R4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mov.w 2(SP),R6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 put it in temp1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rlc.w R6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19B4-DF8C-4B3A-A803-4C1AB74442E8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Project example: square root extraction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14/2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de implementation and analysis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value of variable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temp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s then compared with zer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f the result is negative, then the execution continues at the  label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SQRT_AD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therwise, variable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temp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s subtracted from the value of  variable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temp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fter this procedure, the execution continues at the label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SQRT_S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4BDE-2185-4E79-ACC4-34AF2818526B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Project example: square root extraction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15/2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de implementation and analysis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cmp #00,R6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jn SQRT_ADD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 if temp1 &lt; 0 go SQRT_ADD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SQRT_SUB: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 temp1 = temp1 - temp2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sub.w 0(SP),R6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jmp SQRT_S1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SQRT_ADD: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 temp1 = temp1 + temp2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add.w 0(SP),R6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mov.w R6,2(SP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1946-3257-4036-9DE4-D5A49446DE9B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Project example: square root extraction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16/2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de implementation and analysis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t this point, depending on the result with the previous operation, a bit of value 0 or 1 is entered in the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sqr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resul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f a (1) one (SQRT_PRE_SUB) was entered in the result,    the bit pair 01 is added to variable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temp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f a (0) zero (SQRT_PRE_ADD) was entered in the result, the bit pair 11 is added to variable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temp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 both cases, the number of cycles is test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f this value is less than zero, the execution continues at the label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SQRT_EN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otherwise it restarts the procedure at the label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SQRT_LOOP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9D21-DCA1-4762-9774-E5238713CFCA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Project example: square root extraction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17/2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de implementation and analysis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SQRT_S1: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cmp #00,R6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jn SQRT_PRE_AD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02C5-12F2-47D2-A6D6-965F569C6C6D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Project example: square root extraction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18/2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de implementation and analysis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95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SQRT_PRE_SUB: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mov.w R6,2(SP)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 save temp1 on stack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mov.w @R5,R6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 insert 1 in sqr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setc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rlc R6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mov R6,0(R5)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 save sqr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rla.w R6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rla.w R6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add #1,R6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 append 01b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mov.w R6,0(SP)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 save temp2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mov 14(SP),R6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 test coun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dec R6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mov R6,14(SP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cmp #00,R6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jge SQRT_LOOP1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jmp SQRT_EN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AEB4-E425-40F4-890F-86E5546A0A58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Project example: square root extraction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19/2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de implementation and analysis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SQRT_PRE_ADD: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mov.w R6,2(SP)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 save temp1 on stack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mov.w @R5,R6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 insert 0 in sqr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clrc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rlc R6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mov R6,0(R5)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 save sqr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rla.w R6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rla.w R6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add #3,R6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 append 11b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mov.w R6,0(SP)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 save temp2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mov 14(SP),R6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 test coun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dec R6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mov R6,14(SP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cmp #00,R6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jge SQRT_LOOP1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165E-6175-4E68-8348-228C3C2F0535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Project example: square root extraction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20/2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de implementation and analysis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efore ending the execution of the routine, it is necessary to restore the system stat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data values are removed from the stac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execution of the routine ends with the instruction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SQRT_END: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op R6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 restore context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op R6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op R6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op R5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op R4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op SR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ret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; exi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ECC2-ECC5-48C6-A91A-87F13886DE15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Project example: square root extraction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21/2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esting the project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fter the project is built and configured, it is possible to start the debugging proces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 the memory panel, introduce the addresses of the variables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numbe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sqr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coun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 a note of the stack value then run the program and verify the resul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noted that after using this routine, the stack should be returned to its previous stat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square root of the value (50d) is 0x712, which is the value 7.07 in format UQ8.8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7726-30D5-4E94-9AB7-DEB901AF3799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Introduction (3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asks sequence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 the project properties menu, set the entry point as identified by the label BEGI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option is found on page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Build C/C++ build &gt; MSP430 Linker V3.0 &gt; Symbol Management &gt; Specify the program entry point for the output mode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- entry poin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DF62-B666-4E54-B523-C12EF9B9C8DC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Key assembly directives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1/2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MSP430 assembler translates the source code you have written into machine languag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source files may contain the following element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ssembly directiv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cro directiv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ssembly language instruc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or more detailed information on each element, please refer to the MSP430 Assembly Language Tools User’s Guide (slau131b.pdf)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ome of the most relevant aspects of the assembly language for the MSP430 will now be introduced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D0B2-FD0E-41C6-8C92-465BB4A9CB70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Key assembly directives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2/2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assembly programming tool processes the source code, producing an object file, and a descriptive listing of the entire process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29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is process is completely controlled by macros, allowing conditional execution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29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 options list can be found in the document MSP430 Assembly Language Tools User’s Guide (slau131b.pdf)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29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MPS430 source code programs contains sequences of statements that hav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ssembly directiv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ssembly instruction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cros, an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FE8A-D0A7-46EE-AFA7-1E8ACD237E36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Key assembly directives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3/2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 line can have four fields (label, mnemonic, operand list, and comment). The general syntax i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[label[:]]   mnemonic  [operand list]   [;comment]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ome line examples ar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.sect ".sysmem"  ; Data Spac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var1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.word 2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; variable var1 declara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.tex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; Program Spac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Label1: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OV.W R4,R5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; move R4 contents to R5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2976-D626-4B71-8052-B995F0B1F82B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Key assembly directives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4/2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general guidelines for writing the code ar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l statements must begin with a label, a blank, an asterisk, or a semicol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bels are optional. If used, they must begin in column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ne or more blanks must separate each field. Tab and space characters are classed as blanks. You must separate the operand list from the preceding field with a blan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ments are optional. Comments that begin in column 1 can begin with an asterisk or a semicolon (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, but comments that begin in any other column must begin with a semicol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mnemonic cannot begin in column 1 or it will be interpreted as a labe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2:17:19Z</dcterms:created>
  <dc:creator>Dinis</dc:creator>
  <dc:description/>
  <dc:language>en-US</dc:language>
  <cp:lastModifiedBy>Universidade Beira Interior</cp:lastModifiedBy>
  <dcterms:modified xsi:type="dcterms:W3CDTF">2009-02-18T15:13:07Z</dcterms:modified>
  <cp:revision>178</cp:revision>
  <dc:subject/>
  <dc:title>Diapositivo 1</dc:title>
</cp:coreProperties>
</file>