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4.png" ContentType="image/png"/>
  <Override PartName="/ppt/media/image14.wmf" ContentType="image/x-wmf"/>
  <Override PartName="/ppt/media/image1.png" ContentType="image/png"/>
  <Override PartName="/ppt/media/image3.jpeg" ContentType="image/jpeg"/>
  <Override PartName="/ppt/media/image6.wmf" ContentType="image/x-wmf"/>
  <Override PartName="/ppt/media/image11.wmf" ContentType="image/x-wmf"/>
  <Override PartName="/ppt/media/image7.png" ContentType="image/png"/>
  <Override PartName="/ppt/media/image15.wmf" ContentType="image/x-wmf"/>
  <Override PartName="/ppt/media/image8.wmf" ContentType="image/x-wmf"/>
  <Override PartName="/ppt/media/image9.png" ContentType="image/png"/>
  <Override PartName="/ppt/media/image13.wmf" ContentType="image/x-wmf"/>
  <Override PartName="/ppt/media/image5.png" ContentType="image/png"/>
  <Override PartName="/ppt/media/image2.png" ContentType="image/png"/>
  <Override PartName="/ppt/media/image10.wmf" ContentType="image/x-wmf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  <p:sldId id="281" r:id="rId42"/>
    <p:sldId id="282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slide" Target="slides/slide26.xml"/><Relationship Id="rId43" Type="http://schemas.openxmlformats.org/officeDocument/2006/relationships/slide" Target="slides/slide27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dt" idx="4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 type="ftr" idx="4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6"/>
          <p:cNvSpPr>
            <a:spLocks noGrp="1"/>
          </p:cNvSpPr>
          <p:nvPr>
            <p:ph type="sldNum" idx="4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574D9-9682-40D1-9F12-7090ABDDF8CD}" type="slidenum"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766B3-77C8-4E68-B3CA-230AD6093044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912661-5FC1-49B6-BD5A-EECAE3209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" y="3836160"/>
            <a:ext cx="822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ACD9DF-8B9C-4ACB-B566-3AC6330BF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B731D99-15B6-4E12-AE7B-E18126201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83D9735-1A96-4EA2-A8EA-AAD14CB04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611280" y="115920"/>
            <a:ext cx="792144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1349576-289E-4893-9BB9-7A65B510D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836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0CB5CAD-BA8A-404C-94DE-71E341675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8540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8739DA5-66C1-44DC-B7F7-14B6B5430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68360" y="3836160"/>
            <a:ext cx="822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430EFB9-38A6-4162-A899-CE5A18D1C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8360" y="3836160"/>
            <a:ext cx="822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2739D6F-4651-426B-9A73-D0D04718C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836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8540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D680FCE-0F66-4E14-92DA-670D225A6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50800" y="105228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33240" y="105228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68360" y="383616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50800" y="383616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033240" y="383616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7E76F1A-4194-4ADA-9CC8-C6BAEF0E6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1A3F54F-27C0-4B94-9D84-7B6694653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836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540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DDDB72-9E45-428F-9147-BBE27A661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46836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7A43B74-906A-4CFD-B94B-82961BE52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AE93112-0459-469A-894F-D76606AC1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E22ED23-8F9C-4D06-8E1E-CAD4849A5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EB3F410-8C46-48F5-A03B-9A75A5236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611280" y="115920"/>
            <a:ext cx="792144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EB1F58D-7761-4E35-958F-63E6C4F9E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6836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DE9CD64-AC39-43B0-9383-33E837EB2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68540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ED92D7C-C777-4010-B723-4ED08683D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8360" y="3836160"/>
            <a:ext cx="822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75A887D-BE33-4369-8D7F-33F747E8D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8360" y="3836160"/>
            <a:ext cx="822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4B6A80E-CAFF-4C5B-A531-F09704320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836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68540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17A249D-4CFD-4CCE-9A45-F10A25293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50800" y="105228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33240" y="105228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8360" y="383616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50800" y="383616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33240" y="383616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393237-EAF2-483E-BF0F-48D17DF55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250800" y="105228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033240" y="105228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68360" y="383616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250800" y="383616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033240" y="383616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676ECCF-EED1-4179-A69A-3688D88B4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C97DC34-99A9-47D9-8C5D-3D6F83A68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46836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B99CD75-BD47-417D-99B9-7CCDF21D7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D1558E7-5EF5-4EC5-93B1-5B398146F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CC8F48D-491F-4FB4-9798-B0DAB0D59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58F865E-7BE8-47E2-A891-243D6136A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ubTitle"/>
          </p:nvPr>
        </p:nvSpPr>
        <p:spPr>
          <a:xfrm>
            <a:off x="611280" y="115920"/>
            <a:ext cx="792144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DA40017-D5C5-4114-A2EE-BD2E5DA9C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836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C3A1051-B81B-4C44-A3F4-AD89103C2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68540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8C80A12-0CC3-40FE-9EA0-1EEE9528E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68360" y="3836160"/>
            <a:ext cx="822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D4637BF-2B6B-4BDE-9A34-0676F0BC9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5277BC-895D-43D4-AF80-FC783E200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8360" y="3836160"/>
            <a:ext cx="822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C3F5726-EC2B-4345-BC21-85464089A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836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68540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4246F53-750F-46FD-982B-2412DF8DE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3250800" y="105228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033240" y="105228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468360" y="383616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PlaceHolder 6"/>
          <p:cNvSpPr>
            <a:spLocks noGrp="1"/>
          </p:cNvSpPr>
          <p:nvPr>
            <p:ph/>
          </p:nvPr>
        </p:nvSpPr>
        <p:spPr>
          <a:xfrm>
            <a:off x="3250800" y="383616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PlaceHolder 7"/>
          <p:cNvSpPr>
            <a:spLocks noGrp="1"/>
          </p:cNvSpPr>
          <p:nvPr>
            <p:ph/>
          </p:nvPr>
        </p:nvSpPr>
        <p:spPr>
          <a:xfrm>
            <a:off x="6033240" y="383616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FE2DB59-B025-4C2C-BA8B-80F77E093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8ED7B68-5269-4506-89A9-AE3EC8764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46836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FCEF05E-1957-4C0B-B548-A16E142DC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BAF2D29-2030-4B0A-81B4-266299ABE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CC236D2-63AB-4AE0-9AFC-7EA73F7A3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855F13C-4F9D-4D83-9FBB-F536DB0AC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611280" y="115920"/>
            <a:ext cx="792144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217C953-EB4E-4B7E-ACF8-D4572E76C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836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CD8CCD8-4CD9-4218-AD92-F646448DB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6836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256AA8-FB0E-4D22-8F63-450AA716C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8540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F274EE3-AFBE-4023-88E0-7DFA7EB51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68360" y="3836160"/>
            <a:ext cx="822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6846029-3A09-4B20-A854-6F82E8426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8360" y="3836160"/>
            <a:ext cx="822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B0872EB-B5BF-4782-862C-332977CFA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6836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8540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EC636F2-E0FE-4134-9D64-EA84A8C66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0800" y="105228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33240" y="105228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68360" y="383616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0800" y="383616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33240" y="383616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193DC2A-57C1-46D5-B39D-0D856AAFD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83052A9-D2E4-4188-BDE3-7A9B3A14D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46836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A5046E2-F4BF-4DED-AEAC-1EC4F2FDB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52DF7F7-76AE-4216-9002-4C241DD1A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7A09FBF-2C49-45A8-8191-BF4602574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47F80BF-1092-4C82-8752-CA65665E4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4134AD-0699-4071-BB6D-2AC92B203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611280" y="115920"/>
            <a:ext cx="792144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AA23759-B4C4-481F-AE45-8618850CD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6836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47624C0-C4E8-4DE8-A004-FDFC1A12A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68540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59CF9DD-34DA-4B49-8DD4-3F64C7B7C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8360" y="3836160"/>
            <a:ext cx="822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7880A8C-46EF-4C48-82DA-65CD50802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8360" y="3836160"/>
            <a:ext cx="822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640A3DC-64A6-4B0D-AB2F-2B5F35B96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46836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68540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EE7406F-C194-486F-8091-F7811820B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3250800" y="105228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6033240" y="105228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468360" y="383616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3250800" y="383616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6033240" y="383616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06EA924-518A-4084-A571-2A819ECFB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5AAFCF2-9ACD-4958-B5A7-D4242D722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46836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3B58C3B-AA24-42E4-9529-35C45E62A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6EC9747-F667-42B2-9979-E678E6C2E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02B621-AA52-4227-BD39-9869FFF51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5F2A88C-0FE7-4606-818E-54AEB3719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1F7A2B3-2090-4715-B265-E51A77457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611280" y="115920"/>
            <a:ext cx="792144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D699FB2-4EC9-486D-9BB5-376E30236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6836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733A833-A5B4-4764-B245-0F0B2FA0B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68540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8573D5D-D282-4B45-B514-0BFE5348F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68360" y="3836160"/>
            <a:ext cx="822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071351E-3E53-482E-A4A8-1D743E14C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8360" y="3836160"/>
            <a:ext cx="822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66F9F38-11E9-4DA8-91CC-1FCF757DF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6836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68540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3384B82-04B4-436E-B8E7-CDCF31BFF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250800" y="105228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033240" y="105228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68360" y="383616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3250800" y="383616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6033240" y="383616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5F1D0DB-F8B1-43C0-B4AC-D948AE34F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916140-132C-4DB7-9A14-4F2781D2B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611280" y="115920"/>
            <a:ext cx="792144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A7B91F-83A2-471A-B742-7A3DDB139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836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AA8965-D242-4BAB-A52A-C552D0E8D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6836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716ECD-2024-4A13-B3E6-C702E779D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8540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A79024-AA76-47B9-AAB6-8B7B2BF98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8360" y="3836160"/>
            <a:ext cx="822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580051-D46E-4D75-A35B-A23E06F9B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8360" y="3836160"/>
            <a:ext cx="822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0CBE62-6798-4B90-B715-B56F47774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836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8540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930115-C299-49EC-BFF1-50ACFA3F6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50800" y="105228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33240" y="105228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8360" y="383616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50800" y="383616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33240" y="383616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524B90-442F-4195-A189-3B78EBECD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2F6731-8F0A-4484-955F-7C4D1434F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6836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EAF230-491E-4781-B305-C07895BD9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44025A-9A94-433D-9A87-674F8F321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0228D0-5C31-4BDD-B670-807228294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D7DAC6-58CD-414A-BFD1-31A6C3627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2D11EF-099D-409F-A8B2-238B63D61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11280" y="115920"/>
            <a:ext cx="792144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74B1B3-BF1E-4332-8CDC-51BC069F4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836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5CEE19-FF61-4118-A900-CA3C32CEF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8540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A67508-7FEB-40FF-B09A-B488C693E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8360" y="3836160"/>
            <a:ext cx="822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5CA459-584B-49F1-977F-9857DEA2B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8360" y="3836160"/>
            <a:ext cx="822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A45823-2E7C-4F84-ACE4-0BB3D4986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836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8540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E1953C-EB16-43D1-9D67-10A0DAB59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50800" y="105228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33240" y="105228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8360" y="383616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50800" y="383616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33240" y="383616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F87A08-F04C-4D96-8A63-1F3DE94E0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A304D58-22D3-4328-9366-2BC21B8E9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6836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344CED4-210D-4DF2-A64A-86EF702BD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7321FBE-D6CC-427E-9DB0-E70A1F61E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89B70A-F99B-4708-8905-5E15B7A16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5419897-9508-40C5-83C7-8D0A380FB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6A7AFF3-0C3F-467E-BB7A-0844FE91F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611280" y="115920"/>
            <a:ext cx="792144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6CB6324-66DC-4016-AB96-F89741AF9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836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B957CDD-2374-440B-ABCB-5272EC474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8540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005E1F2-4B50-4247-8932-758F5A2B1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8360" y="3836160"/>
            <a:ext cx="822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A24D332-BC96-4D49-B194-AE0253AA6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8360" y="3836160"/>
            <a:ext cx="822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30A9E38-E6CF-4EFD-9FD8-9E7D40587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836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8540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4A5DA74-1076-4FA3-AD1B-EE25D6B86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50800" y="105228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33240" y="105228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8360" y="383616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50800" y="383616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33240" y="383616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B5EF3F3-054C-4E31-AD9E-D012521FB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7A4004-B171-4779-8778-BAAF47DFB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B1907D-8877-4B4D-A323-DED58798E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6836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DB9BF2-36A0-40B4-8E76-76A5A188E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19A37C-0458-4B7D-B972-76997BB01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C4E249-64D5-4D7E-9FCE-AC24151EB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50A266-0040-4D89-A4F0-FCC9E847E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611280" y="115920"/>
            <a:ext cx="792144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94E6B6-DDFC-4C16-8F59-03DD9CAEC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6836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6EF7F5-51C3-41F4-A149-9C96777F2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8540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6D1E89-E554-43EC-8604-D8D7FBB6D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8360" y="3836160"/>
            <a:ext cx="822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BB59E6-6382-415A-8A8E-BE8EF4232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8360" y="3836160"/>
            <a:ext cx="822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149D5D-11EA-4615-B1B0-049643C58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836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8540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B9C127D-53EF-45B4-B4A2-1D63D02FD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11280" y="115920"/>
            <a:ext cx="792144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AC1E5D-09F4-4919-96C1-85DB7FD07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50800" y="105228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33240" y="105228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68360" y="383616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50800" y="383616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33240" y="383616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073F68-FC69-41B1-B70C-E39C7261E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2521C86-991D-4176-9002-07ABB1E41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6836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E4E705D-15BE-48D9-BFFE-66E9E640F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5AF9A6-BB98-4A17-9899-A438ED167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8B8FE1B-EE9C-4B21-A5C9-6B17EB806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71E06C1-2797-46C0-B613-D752CE892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611280" y="115920"/>
            <a:ext cx="792144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693E386-5C7D-4E16-BC56-3393A2D06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6836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0B69FF-74B9-4BAD-816D-491157152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8540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6CE6BBA-0288-4AAC-A4BA-2B379B1E9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360" y="3836160"/>
            <a:ext cx="822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6ABBA2-31AE-4BA5-9421-B6E82AB6D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36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9E40B9-1348-44FF-A8F7-ECD653DF2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360" y="3836160"/>
            <a:ext cx="822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B4846C2-750E-4375-A520-E67B91888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836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8540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D2BE63E-919A-4762-803A-83E7FB33C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50800" y="105228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33240" y="105228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8360" y="383616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50800" y="383616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33240" y="383616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042DBDC-9005-49F9-A356-967EE93DD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07FDA5C-4AC5-4E75-8D18-D3312134C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6836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B9BC96C-0BA6-45DE-BC54-6CFF6ED54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26CDA82-EE92-46DF-BF18-8660B6EFB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F107144-6BA2-4A9D-81BB-085C1F5EC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DC2302D-4CEE-4956-968F-69FED5824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611280" y="115920"/>
            <a:ext cx="792144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A4AC0D7-9CE2-43CF-AA04-2C4707ACB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836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EE03BC6-8F1F-49A5-849E-D3F0BA678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540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104E08-A039-430B-85EC-CF960FEAC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8540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4DB3C35-2CFB-44E8-BEFC-10849FE82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68360" y="3836160"/>
            <a:ext cx="822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8A7447B-AA99-4BCD-80D4-983268CB4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8360" y="3836160"/>
            <a:ext cx="822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5E3DFB6-EED4-41CD-8955-CCBCBFF57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6836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8540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755EE2F-F5A7-4946-BE9D-538FB188B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50800" y="105228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33240" y="105228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68360" y="383616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50800" y="383616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33240" y="383616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348728C-4122-4FDD-B637-08B24E594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FF84188-183B-4B16-908C-909F2922B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46836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DC33981-8A8C-445A-94C4-582753517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FE4C220-808E-41BC-8A2B-AD581F779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CAD75A6-99BC-48FA-8135-DFE07BAD7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93C22C3-4433-4EC7-A1FA-F533EEA6A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8360" y="3836160"/>
            <a:ext cx="822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3E811-D844-4F61-8B6F-81CBD339D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611280" y="115920"/>
            <a:ext cx="792144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8F22CA0-71FA-41B8-85FB-304D83953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836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005E898-9F40-41E9-8E85-8F35C76C1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68540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C51696B-9317-476E-B07B-23CE38848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68360" y="3836160"/>
            <a:ext cx="822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EAFE35B-CEBF-4B13-9D06-7F2CF13C1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8360" y="3836160"/>
            <a:ext cx="822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3DA7657-5124-403A-8E3A-BADD1D1FA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836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68540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9D1301A-350C-4F8D-9DCA-94BEF44B3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250800" y="105228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033240" y="105228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68360" y="383616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250800" y="383616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6033240" y="383616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EDB9FCC-77B9-490A-BF52-0BDB9AA1F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8025C3C-7B10-41AD-9D5C-23BA0FB14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6836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E7246CC-21B9-4844-B486-397A4ED24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932BF71-EFDD-4C7F-BDEF-1C6F5DB52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4"/>
          <p:cNvSpPr/>
          <p:nvPr/>
        </p:nvSpPr>
        <p:spPr>
          <a:xfrm>
            <a:off x="0" y="6381720"/>
            <a:ext cx="9144000" cy="476280"/>
          </a:xfrm>
          <a:prstGeom prst="rect">
            <a:avLst/>
          </a:prstGeom>
          <a:gradFill rotWithShape="0">
            <a:gsLst>
              <a:gs pos="0">
                <a:srgbClr val="760000"/>
              </a:gs>
              <a:gs pos="100000">
                <a:srgbClr val="ff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3"/>
          <p:cNvSpPr/>
          <p:nvPr/>
        </p:nvSpPr>
        <p:spPr>
          <a:xfrm>
            <a:off x="0" y="0"/>
            <a:ext cx="9144000" cy="1052640"/>
          </a:xfrm>
          <a:prstGeom prst="rect">
            <a:avLst/>
          </a:prstGeom>
          <a:gradFill rotWithShape="0">
            <a:gsLst>
              <a:gs pos="0">
                <a:srgbClr val="7f7f7f">
                  <a:alpha val="90196"/>
                </a:srgbClr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6836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6587640" y="6481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850DC-5795-4D42-B110-7B9BE63A2F1B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19" descr=""/>
          <p:cNvPicPr/>
          <p:nvPr/>
        </p:nvPicPr>
        <p:blipFill>
          <a:blip r:embed="rId2"/>
          <a:stretch/>
        </p:blipFill>
        <p:spPr>
          <a:xfrm>
            <a:off x="0" y="44280"/>
            <a:ext cx="604800" cy="847800"/>
          </a:xfrm>
          <a:prstGeom prst="rect">
            <a:avLst/>
          </a:prstGeom>
          <a:ln w="0">
            <a:noFill/>
          </a:ln>
        </p:spPr>
      </p:pic>
      <p:pic>
        <p:nvPicPr>
          <p:cNvPr id="7" name="Picture 21" descr=""/>
          <p:cNvPicPr/>
          <p:nvPr/>
        </p:nvPicPr>
        <p:blipFill>
          <a:blip r:embed="rId3"/>
          <a:stretch/>
        </p:blipFill>
        <p:spPr>
          <a:xfrm>
            <a:off x="8572680" y="333360"/>
            <a:ext cx="571320" cy="542880"/>
          </a:xfrm>
          <a:prstGeom prst="rect">
            <a:avLst/>
          </a:prstGeom>
          <a:ln w="0">
            <a:noFill/>
          </a:ln>
        </p:spPr>
      </p:pic>
      <p:sp>
        <p:nvSpPr>
          <p:cNvPr id="8" name="Text Box 22"/>
          <p:cNvSpPr/>
          <p:nvPr/>
        </p:nvSpPr>
        <p:spPr>
          <a:xfrm>
            <a:off x="73080" y="80316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ffffff"/>
                </a:solidFill>
                <a:latin typeface="Verdana"/>
              </a:rPr>
              <a:t>UB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24"/>
          <p:cNvSpPr/>
          <p:nvPr/>
        </p:nvSpPr>
        <p:spPr>
          <a:xfrm>
            <a:off x="-844560" y="6346800"/>
            <a:ext cx="2895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 u="sng">
                <a:solidFill>
                  <a:srgbClr val="009999"/>
                </a:solidFill>
                <a:uFillTx/>
                <a:latin typeface="Verdana"/>
                <a:hlinkClick r:id="rId4" action="ppaction://hlinksldjump"/>
              </a:rPr>
              <a:t>&gt;&gt;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ftr" idx="3"/>
          </p:nvPr>
        </p:nvSpPr>
        <p:spPr>
          <a:xfrm>
            <a:off x="316044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PT" sz="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14"/>
          <p:cNvSpPr/>
          <p:nvPr/>
        </p:nvSpPr>
        <p:spPr>
          <a:xfrm>
            <a:off x="0" y="6381720"/>
            <a:ext cx="9144000" cy="476280"/>
          </a:xfrm>
          <a:prstGeom prst="rect">
            <a:avLst/>
          </a:prstGeom>
          <a:gradFill rotWithShape="0">
            <a:gsLst>
              <a:gs pos="0">
                <a:srgbClr val="760000"/>
              </a:gs>
              <a:gs pos="100000">
                <a:srgbClr val="ff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13"/>
          <p:cNvSpPr/>
          <p:nvPr/>
        </p:nvSpPr>
        <p:spPr>
          <a:xfrm>
            <a:off x="0" y="0"/>
            <a:ext cx="9144000" cy="1052640"/>
          </a:xfrm>
          <a:prstGeom prst="rect">
            <a:avLst/>
          </a:prstGeom>
          <a:gradFill rotWithShape="0">
            <a:gsLst>
              <a:gs pos="0">
                <a:srgbClr val="7f7f7f">
                  <a:alpha val="90196"/>
                </a:srgbClr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Picture 19" descr=""/>
          <p:cNvPicPr/>
          <p:nvPr/>
        </p:nvPicPr>
        <p:blipFill>
          <a:blip r:embed="rId2"/>
          <a:stretch/>
        </p:blipFill>
        <p:spPr>
          <a:xfrm>
            <a:off x="0" y="44280"/>
            <a:ext cx="604800" cy="84780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21" descr=""/>
          <p:cNvPicPr/>
          <p:nvPr/>
        </p:nvPicPr>
        <p:blipFill>
          <a:blip r:embed="rId3"/>
          <a:stretch/>
        </p:blipFill>
        <p:spPr>
          <a:xfrm>
            <a:off x="8572680" y="333360"/>
            <a:ext cx="571320" cy="542880"/>
          </a:xfrm>
          <a:prstGeom prst="rect">
            <a:avLst/>
          </a:prstGeom>
          <a:ln w="0">
            <a:noFill/>
          </a:ln>
        </p:spPr>
      </p:pic>
      <p:sp>
        <p:nvSpPr>
          <p:cNvPr id="427" name="Text Box 22"/>
          <p:cNvSpPr/>
          <p:nvPr/>
        </p:nvSpPr>
        <p:spPr>
          <a:xfrm>
            <a:off x="73080" y="80316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ffffff"/>
                </a:solidFill>
                <a:latin typeface="Verdana"/>
              </a:rPr>
              <a:t>UB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24"/>
          <p:cNvSpPr/>
          <p:nvPr/>
        </p:nvSpPr>
        <p:spPr>
          <a:xfrm>
            <a:off x="-844560" y="6346800"/>
            <a:ext cx="2895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ffffff"/>
                </a:solidFill>
                <a:latin typeface="Verdana"/>
              </a:rPr>
              <a:t>&gt;&gt;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46836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 type="sldNum" idx="29"/>
          </p:nvPr>
        </p:nvSpPr>
        <p:spPr>
          <a:xfrm>
            <a:off x="6587640" y="6481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6C4DA-AF72-4DA2-84F9-B782A2D6892A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 type="ftr" idx="30"/>
          </p:nvPr>
        </p:nvSpPr>
        <p:spPr>
          <a:xfrm>
            <a:off x="316044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PT" sz="6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6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6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14"/>
          <p:cNvSpPr/>
          <p:nvPr/>
        </p:nvSpPr>
        <p:spPr>
          <a:xfrm>
            <a:off x="0" y="6381720"/>
            <a:ext cx="9144000" cy="476280"/>
          </a:xfrm>
          <a:prstGeom prst="rect">
            <a:avLst/>
          </a:prstGeom>
          <a:gradFill rotWithShape="0">
            <a:gsLst>
              <a:gs pos="0">
                <a:srgbClr val="760000"/>
              </a:gs>
              <a:gs pos="100000">
                <a:srgbClr val="ff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13"/>
          <p:cNvSpPr/>
          <p:nvPr/>
        </p:nvSpPr>
        <p:spPr>
          <a:xfrm>
            <a:off x="0" y="0"/>
            <a:ext cx="9144000" cy="1052640"/>
          </a:xfrm>
          <a:prstGeom prst="rect">
            <a:avLst/>
          </a:prstGeom>
          <a:gradFill rotWithShape="0">
            <a:gsLst>
              <a:gs pos="0">
                <a:srgbClr val="7f7f7f">
                  <a:alpha val="90196"/>
                </a:srgbClr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2" name="Picture 19" descr=""/>
          <p:cNvPicPr/>
          <p:nvPr/>
        </p:nvPicPr>
        <p:blipFill>
          <a:blip r:embed="rId2"/>
          <a:stretch/>
        </p:blipFill>
        <p:spPr>
          <a:xfrm>
            <a:off x="0" y="44280"/>
            <a:ext cx="604800" cy="84780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21" descr=""/>
          <p:cNvPicPr/>
          <p:nvPr/>
        </p:nvPicPr>
        <p:blipFill>
          <a:blip r:embed="rId3"/>
          <a:stretch/>
        </p:blipFill>
        <p:spPr>
          <a:xfrm>
            <a:off x="8572680" y="333360"/>
            <a:ext cx="571320" cy="542880"/>
          </a:xfrm>
          <a:prstGeom prst="rect">
            <a:avLst/>
          </a:prstGeom>
          <a:ln w="0">
            <a:noFill/>
          </a:ln>
        </p:spPr>
      </p:pic>
      <p:sp>
        <p:nvSpPr>
          <p:cNvPr id="474" name="Text Box 22"/>
          <p:cNvSpPr/>
          <p:nvPr/>
        </p:nvSpPr>
        <p:spPr>
          <a:xfrm>
            <a:off x="73080" y="80316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ffffff"/>
                </a:solidFill>
                <a:latin typeface="Verdana"/>
              </a:rPr>
              <a:t>UB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24"/>
          <p:cNvSpPr/>
          <p:nvPr/>
        </p:nvSpPr>
        <p:spPr>
          <a:xfrm>
            <a:off x="-844560" y="6346800"/>
            <a:ext cx="2895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ffffff"/>
                </a:solidFill>
                <a:latin typeface="Verdana"/>
              </a:rPr>
              <a:t>&gt;&gt;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46836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 type="sldNum" idx="32"/>
          </p:nvPr>
        </p:nvSpPr>
        <p:spPr>
          <a:xfrm>
            <a:off x="6587640" y="6481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98F99-FA73-4D91-9086-7F01D01B279C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 type="ftr" idx="33"/>
          </p:nvPr>
        </p:nvSpPr>
        <p:spPr>
          <a:xfrm>
            <a:off x="316044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PT" sz="6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6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6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14"/>
          <p:cNvSpPr/>
          <p:nvPr/>
        </p:nvSpPr>
        <p:spPr>
          <a:xfrm>
            <a:off x="0" y="6381720"/>
            <a:ext cx="9144000" cy="476280"/>
          </a:xfrm>
          <a:prstGeom prst="rect">
            <a:avLst/>
          </a:prstGeom>
          <a:gradFill rotWithShape="0">
            <a:gsLst>
              <a:gs pos="0">
                <a:srgbClr val="760000"/>
              </a:gs>
              <a:gs pos="100000">
                <a:srgbClr val="ff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13"/>
          <p:cNvSpPr/>
          <p:nvPr/>
        </p:nvSpPr>
        <p:spPr>
          <a:xfrm>
            <a:off x="0" y="0"/>
            <a:ext cx="9144000" cy="1052640"/>
          </a:xfrm>
          <a:prstGeom prst="rect">
            <a:avLst/>
          </a:prstGeom>
          <a:gradFill rotWithShape="0">
            <a:gsLst>
              <a:gs pos="0">
                <a:srgbClr val="7f7f7f">
                  <a:alpha val="90196"/>
                </a:srgbClr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9" name="Picture 19" descr=""/>
          <p:cNvPicPr/>
          <p:nvPr/>
        </p:nvPicPr>
        <p:blipFill>
          <a:blip r:embed="rId2"/>
          <a:stretch/>
        </p:blipFill>
        <p:spPr>
          <a:xfrm>
            <a:off x="0" y="44280"/>
            <a:ext cx="604800" cy="84780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21" descr=""/>
          <p:cNvPicPr/>
          <p:nvPr/>
        </p:nvPicPr>
        <p:blipFill>
          <a:blip r:embed="rId3"/>
          <a:stretch/>
        </p:blipFill>
        <p:spPr>
          <a:xfrm>
            <a:off x="8572680" y="333360"/>
            <a:ext cx="571320" cy="542880"/>
          </a:xfrm>
          <a:prstGeom prst="rect">
            <a:avLst/>
          </a:prstGeom>
          <a:ln w="0">
            <a:noFill/>
          </a:ln>
        </p:spPr>
      </p:pic>
      <p:sp>
        <p:nvSpPr>
          <p:cNvPr id="521" name="Text Box 22"/>
          <p:cNvSpPr/>
          <p:nvPr/>
        </p:nvSpPr>
        <p:spPr>
          <a:xfrm>
            <a:off x="73080" y="80316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ffffff"/>
                </a:solidFill>
                <a:latin typeface="Verdana"/>
              </a:rPr>
              <a:t>UB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4"/>
          <p:cNvSpPr/>
          <p:nvPr/>
        </p:nvSpPr>
        <p:spPr>
          <a:xfrm>
            <a:off x="-844560" y="6346800"/>
            <a:ext cx="2895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ffffff"/>
                </a:solidFill>
                <a:latin typeface="Verdana"/>
              </a:rPr>
              <a:t>&gt;&gt;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46836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sldNum" idx="35"/>
          </p:nvPr>
        </p:nvSpPr>
        <p:spPr>
          <a:xfrm>
            <a:off x="6587640" y="6481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FA413-DA46-40D8-A212-B2355A62A503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ftr" idx="36"/>
          </p:nvPr>
        </p:nvSpPr>
        <p:spPr>
          <a:xfrm>
            <a:off x="316044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PT" sz="6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6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6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14"/>
          <p:cNvSpPr/>
          <p:nvPr/>
        </p:nvSpPr>
        <p:spPr>
          <a:xfrm>
            <a:off x="0" y="6381720"/>
            <a:ext cx="9144000" cy="476280"/>
          </a:xfrm>
          <a:prstGeom prst="rect">
            <a:avLst/>
          </a:prstGeom>
          <a:gradFill rotWithShape="0">
            <a:gsLst>
              <a:gs pos="0">
                <a:srgbClr val="760000"/>
              </a:gs>
              <a:gs pos="100000">
                <a:srgbClr val="ff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13"/>
          <p:cNvSpPr/>
          <p:nvPr/>
        </p:nvSpPr>
        <p:spPr>
          <a:xfrm>
            <a:off x="0" y="0"/>
            <a:ext cx="9144000" cy="1052640"/>
          </a:xfrm>
          <a:prstGeom prst="rect">
            <a:avLst/>
          </a:prstGeom>
          <a:gradFill rotWithShape="0">
            <a:gsLst>
              <a:gs pos="0">
                <a:srgbClr val="7f7f7f">
                  <a:alpha val="90196"/>
                </a:srgbClr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6" name="Picture 19" descr=""/>
          <p:cNvPicPr/>
          <p:nvPr/>
        </p:nvPicPr>
        <p:blipFill>
          <a:blip r:embed="rId2"/>
          <a:stretch/>
        </p:blipFill>
        <p:spPr>
          <a:xfrm>
            <a:off x="0" y="44280"/>
            <a:ext cx="604800" cy="84780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21" descr=""/>
          <p:cNvPicPr/>
          <p:nvPr/>
        </p:nvPicPr>
        <p:blipFill>
          <a:blip r:embed="rId3"/>
          <a:stretch/>
        </p:blipFill>
        <p:spPr>
          <a:xfrm>
            <a:off x="8572680" y="333360"/>
            <a:ext cx="571320" cy="542880"/>
          </a:xfrm>
          <a:prstGeom prst="rect">
            <a:avLst/>
          </a:prstGeom>
          <a:ln w="0">
            <a:noFill/>
          </a:ln>
        </p:spPr>
      </p:pic>
      <p:sp>
        <p:nvSpPr>
          <p:cNvPr id="568" name="Text Box 22"/>
          <p:cNvSpPr/>
          <p:nvPr/>
        </p:nvSpPr>
        <p:spPr>
          <a:xfrm>
            <a:off x="73080" y="80316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ffffff"/>
                </a:solidFill>
                <a:latin typeface="Verdana"/>
              </a:rPr>
              <a:t>UB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24"/>
          <p:cNvSpPr/>
          <p:nvPr/>
        </p:nvSpPr>
        <p:spPr>
          <a:xfrm>
            <a:off x="-844560" y="6346800"/>
            <a:ext cx="2895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ffffff"/>
                </a:solidFill>
                <a:latin typeface="Verdana"/>
              </a:rPr>
              <a:t>&gt;&gt;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46836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 type="sldNum" idx="38"/>
          </p:nvPr>
        </p:nvSpPr>
        <p:spPr>
          <a:xfrm>
            <a:off x="6587640" y="6481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C2868-3C2B-4E0C-9D7A-4B4D89FA0316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 type="ftr" idx="39"/>
          </p:nvPr>
        </p:nvSpPr>
        <p:spPr>
          <a:xfrm>
            <a:off x="316044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PT" sz="6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6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6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Rectangle 14"/>
          <p:cNvSpPr/>
          <p:nvPr/>
        </p:nvSpPr>
        <p:spPr>
          <a:xfrm>
            <a:off x="0" y="6381720"/>
            <a:ext cx="9144000" cy="476280"/>
          </a:xfrm>
          <a:prstGeom prst="rect">
            <a:avLst/>
          </a:prstGeom>
          <a:gradFill rotWithShape="0">
            <a:gsLst>
              <a:gs pos="0">
                <a:srgbClr val="760000"/>
              </a:gs>
              <a:gs pos="100000">
                <a:srgbClr val="ff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ectangle 13"/>
          <p:cNvSpPr/>
          <p:nvPr/>
        </p:nvSpPr>
        <p:spPr>
          <a:xfrm>
            <a:off x="0" y="0"/>
            <a:ext cx="9144000" cy="1052640"/>
          </a:xfrm>
          <a:prstGeom prst="rect">
            <a:avLst/>
          </a:prstGeom>
          <a:gradFill rotWithShape="0">
            <a:gsLst>
              <a:gs pos="0">
                <a:srgbClr val="7f7f7f">
                  <a:alpha val="90196"/>
                </a:srgbClr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3" name="Picture 19" descr=""/>
          <p:cNvPicPr/>
          <p:nvPr/>
        </p:nvPicPr>
        <p:blipFill>
          <a:blip r:embed="rId2"/>
          <a:stretch/>
        </p:blipFill>
        <p:spPr>
          <a:xfrm>
            <a:off x="0" y="44280"/>
            <a:ext cx="604800" cy="84780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21" descr=""/>
          <p:cNvPicPr/>
          <p:nvPr/>
        </p:nvPicPr>
        <p:blipFill>
          <a:blip r:embed="rId3"/>
          <a:stretch/>
        </p:blipFill>
        <p:spPr>
          <a:xfrm>
            <a:off x="8572680" y="333360"/>
            <a:ext cx="571320" cy="542880"/>
          </a:xfrm>
          <a:prstGeom prst="rect">
            <a:avLst/>
          </a:prstGeom>
          <a:ln w="0">
            <a:noFill/>
          </a:ln>
        </p:spPr>
      </p:pic>
      <p:sp>
        <p:nvSpPr>
          <p:cNvPr id="615" name="Text Box 22"/>
          <p:cNvSpPr/>
          <p:nvPr/>
        </p:nvSpPr>
        <p:spPr>
          <a:xfrm>
            <a:off x="73080" y="80316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ffffff"/>
                </a:solidFill>
                <a:latin typeface="Verdana"/>
              </a:rPr>
              <a:t>UB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Rectangle 24"/>
          <p:cNvSpPr/>
          <p:nvPr/>
        </p:nvSpPr>
        <p:spPr>
          <a:xfrm>
            <a:off x="-844560" y="6346800"/>
            <a:ext cx="2895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ffffff"/>
                </a:solidFill>
                <a:latin typeface="Verdana"/>
              </a:rPr>
              <a:t>&gt;&gt;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46836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sldNum" idx="41"/>
          </p:nvPr>
        </p:nvSpPr>
        <p:spPr>
          <a:xfrm>
            <a:off x="6587640" y="6481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9A1DE-EC01-4ED9-8776-60808DF2E770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ftr" idx="42"/>
          </p:nvPr>
        </p:nvSpPr>
        <p:spPr>
          <a:xfrm>
            <a:off x="316044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PT" sz="6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6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6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0" y="6381720"/>
            <a:ext cx="9144000" cy="476280"/>
          </a:xfrm>
          <a:prstGeom prst="rect">
            <a:avLst/>
          </a:prstGeom>
          <a:gradFill rotWithShape="0">
            <a:gsLst>
              <a:gs pos="0">
                <a:srgbClr val="760000"/>
              </a:gs>
              <a:gs pos="100000">
                <a:srgbClr val="ff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3"/>
          <p:cNvSpPr/>
          <p:nvPr/>
        </p:nvSpPr>
        <p:spPr>
          <a:xfrm>
            <a:off x="0" y="0"/>
            <a:ext cx="9144000" cy="1052640"/>
          </a:xfrm>
          <a:prstGeom prst="rect">
            <a:avLst/>
          </a:prstGeom>
          <a:gradFill rotWithShape="0">
            <a:gsLst>
              <a:gs pos="0">
                <a:srgbClr val="7f7f7f">
                  <a:alpha val="90196"/>
                </a:srgbClr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9" descr=""/>
          <p:cNvPicPr/>
          <p:nvPr/>
        </p:nvPicPr>
        <p:blipFill>
          <a:blip r:embed="rId2"/>
          <a:stretch/>
        </p:blipFill>
        <p:spPr>
          <a:xfrm>
            <a:off x="0" y="44280"/>
            <a:ext cx="604800" cy="8478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1" descr=""/>
          <p:cNvPicPr/>
          <p:nvPr/>
        </p:nvPicPr>
        <p:blipFill>
          <a:blip r:embed="rId3"/>
          <a:stretch/>
        </p:blipFill>
        <p:spPr>
          <a:xfrm>
            <a:off x="8572680" y="333360"/>
            <a:ext cx="571320" cy="542880"/>
          </a:xfrm>
          <a:prstGeom prst="rect">
            <a:avLst/>
          </a:prstGeom>
          <a:ln w="0">
            <a:noFill/>
          </a:ln>
        </p:spPr>
      </p:pic>
      <p:sp>
        <p:nvSpPr>
          <p:cNvPr id="51" name="Text Box 22"/>
          <p:cNvSpPr/>
          <p:nvPr/>
        </p:nvSpPr>
        <p:spPr>
          <a:xfrm>
            <a:off x="73080" y="80316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ffffff"/>
                </a:solidFill>
                <a:latin typeface="Verdana"/>
              </a:rPr>
              <a:t>UB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4"/>
          <p:cNvSpPr/>
          <p:nvPr/>
        </p:nvSpPr>
        <p:spPr>
          <a:xfrm>
            <a:off x="-844560" y="6346800"/>
            <a:ext cx="2895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ffffff"/>
                </a:solidFill>
                <a:latin typeface="Verdana"/>
              </a:rPr>
              <a:t>&gt;&gt;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6836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5"/>
          </p:nvPr>
        </p:nvSpPr>
        <p:spPr>
          <a:xfrm>
            <a:off x="6587640" y="6481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9F117-E2DE-424E-AA18-6A72DB412889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ftr" idx="6"/>
          </p:nvPr>
        </p:nvSpPr>
        <p:spPr>
          <a:xfrm>
            <a:off x="316044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PT" sz="6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6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6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4"/>
          <p:cNvSpPr/>
          <p:nvPr/>
        </p:nvSpPr>
        <p:spPr>
          <a:xfrm>
            <a:off x="0" y="6381720"/>
            <a:ext cx="9144000" cy="476280"/>
          </a:xfrm>
          <a:prstGeom prst="rect">
            <a:avLst/>
          </a:prstGeom>
          <a:gradFill rotWithShape="0">
            <a:gsLst>
              <a:gs pos="0">
                <a:srgbClr val="760000"/>
              </a:gs>
              <a:gs pos="100000">
                <a:srgbClr val="ff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3"/>
          <p:cNvSpPr/>
          <p:nvPr/>
        </p:nvSpPr>
        <p:spPr>
          <a:xfrm>
            <a:off x="0" y="0"/>
            <a:ext cx="9144000" cy="1052640"/>
          </a:xfrm>
          <a:prstGeom prst="rect">
            <a:avLst/>
          </a:prstGeom>
          <a:gradFill rotWithShape="0">
            <a:gsLst>
              <a:gs pos="0">
                <a:srgbClr val="7f7f7f">
                  <a:alpha val="90196"/>
                </a:srgbClr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9" descr=""/>
          <p:cNvPicPr/>
          <p:nvPr/>
        </p:nvPicPr>
        <p:blipFill>
          <a:blip r:embed="rId2"/>
          <a:stretch/>
        </p:blipFill>
        <p:spPr>
          <a:xfrm>
            <a:off x="0" y="44280"/>
            <a:ext cx="604800" cy="8478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1" descr=""/>
          <p:cNvPicPr/>
          <p:nvPr/>
        </p:nvPicPr>
        <p:blipFill>
          <a:blip r:embed="rId3"/>
          <a:stretch/>
        </p:blipFill>
        <p:spPr>
          <a:xfrm>
            <a:off x="8572680" y="333360"/>
            <a:ext cx="571320" cy="542880"/>
          </a:xfrm>
          <a:prstGeom prst="rect">
            <a:avLst/>
          </a:prstGeom>
          <a:ln w="0">
            <a:noFill/>
          </a:ln>
        </p:spPr>
      </p:pic>
      <p:sp>
        <p:nvSpPr>
          <p:cNvPr id="98" name="Text Box 22"/>
          <p:cNvSpPr/>
          <p:nvPr/>
        </p:nvSpPr>
        <p:spPr>
          <a:xfrm>
            <a:off x="73080" y="80316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ffffff"/>
                </a:solidFill>
                <a:latin typeface="Verdana"/>
              </a:rPr>
              <a:t>UB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24"/>
          <p:cNvSpPr/>
          <p:nvPr/>
        </p:nvSpPr>
        <p:spPr>
          <a:xfrm>
            <a:off x="-844560" y="6346800"/>
            <a:ext cx="2895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ffffff"/>
                </a:solidFill>
                <a:latin typeface="Verdana"/>
              </a:rPr>
              <a:t>&gt;&gt;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46836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8"/>
          </p:nvPr>
        </p:nvSpPr>
        <p:spPr>
          <a:xfrm>
            <a:off x="6587640" y="6481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5DDE1-E8E4-495C-B79A-22BC1E5E6B81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9"/>
          </p:nvPr>
        </p:nvSpPr>
        <p:spPr>
          <a:xfrm>
            <a:off x="316044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PT" sz="6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6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6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14"/>
          <p:cNvSpPr/>
          <p:nvPr/>
        </p:nvSpPr>
        <p:spPr>
          <a:xfrm>
            <a:off x="0" y="6381720"/>
            <a:ext cx="9144000" cy="476280"/>
          </a:xfrm>
          <a:prstGeom prst="rect">
            <a:avLst/>
          </a:prstGeom>
          <a:gradFill rotWithShape="0">
            <a:gsLst>
              <a:gs pos="0">
                <a:srgbClr val="760000"/>
              </a:gs>
              <a:gs pos="100000">
                <a:srgbClr val="ff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3"/>
          <p:cNvSpPr/>
          <p:nvPr/>
        </p:nvSpPr>
        <p:spPr>
          <a:xfrm>
            <a:off x="0" y="0"/>
            <a:ext cx="9144000" cy="1052640"/>
          </a:xfrm>
          <a:prstGeom prst="rect">
            <a:avLst/>
          </a:prstGeom>
          <a:gradFill rotWithShape="0">
            <a:gsLst>
              <a:gs pos="0">
                <a:srgbClr val="7f7f7f">
                  <a:alpha val="90196"/>
                </a:srgbClr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19" descr=""/>
          <p:cNvPicPr/>
          <p:nvPr/>
        </p:nvPicPr>
        <p:blipFill>
          <a:blip r:embed="rId2"/>
          <a:stretch/>
        </p:blipFill>
        <p:spPr>
          <a:xfrm>
            <a:off x="0" y="44280"/>
            <a:ext cx="604800" cy="8478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1" descr=""/>
          <p:cNvPicPr/>
          <p:nvPr/>
        </p:nvPicPr>
        <p:blipFill>
          <a:blip r:embed="rId3"/>
          <a:stretch/>
        </p:blipFill>
        <p:spPr>
          <a:xfrm>
            <a:off x="8572680" y="333360"/>
            <a:ext cx="571320" cy="54288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22"/>
          <p:cNvSpPr/>
          <p:nvPr/>
        </p:nvSpPr>
        <p:spPr>
          <a:xfrm>
            <a:off x="73080" y="80316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ffffff"/>
                </a:solidFill>
                <a:latin typeface="Verdana"/>
              </a:rPr>
              <a:t>UB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24"/>
          <p:cNvSpPr/>
          <p:nvPr/>
        </p:nvSpPr>
        <p:spPr>
          <a:xfrm>
            <a:off x="-844560" y="6346800"/>
            <a:ext cx="2895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ffffff"/>
                </a:solidFill>
                <a:latin typeface="Verdana"/>
              </a:rPr>
              <a:t>&gt;&gt;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46836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sldNum" idx="11"/>
          </p:nvPr>
        </p:nvSpPr>
        <p:spPr>
          <a:xfrm>
            <a:off x="6587640" y="6481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FBE94-419E-4BC5-9092-4B5E1E1F5D08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ftr" idx="12"/>
          </p:nvPr>
        </p:nvSpPr>
        <p:spPr>
          <a:xfrm>
            <a:off x="316044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PT" sz="6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6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6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4"/>
          <p:cNvSpPr/>
          <p:nvPr/>
        </p:nvSpPr>
        <p:spPr>
          <a:xfrm>
            <a:off x="0" y="6381720"/>
            <a:ext cx="9144000" cy="476280"/>
          </a:xfrm>
          <a:prstGeom prst="rect">
            <a:avLst/>
          </a:prstGeom>
          <a:gradFill rotWithShape="0">
            <a:gsLst>
              <a:gs pos="0">
                <a:srgbClr val="760000"/>
              </a:gs>
              <a:gs pos="100000">
                <a:srgbClr val="ff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0" y="0"/>
            <a:ext cx="9144000" cy="1052640"/>
          </a:xfrm>
          <a:prstGeom prst="rect">
            <a:avLst/>
          </a:prstGeom>
          <a:gradFill rotWithShape="0">
            <a:gsLst>
              <a:gs pos="0">
                <a:srgbClr val="7f7f7f">
                  <a:alpha val="90196"/>
                </a:srgbClr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19" descr=""/>
          <p:cNvPicPr/>
          <p:nvPr/>
        </p:nvPicPr>
        <p:blipFill>
          <a:blip r:embed="rId2"/>
          <a:stretch/>
        </p:blipFill>
        <p:spPr>
          <a:xfrm>
            <a:off x="0" y="44280"/>
            <a:ext cx="604800" cy="8478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1" descr=""/>
          <p:cNvPicPr/>
          <p:nvPr/>
        </p:nvPicPr>
        <p:blipFill>
          <a:blip r:embed="rId3"/>
          <a:stretch/>
        </p:blipFill>
        <p:spPr>
          <a:xfrm>
            <a:off x="8572680" y="333360"/>
            <a:ext cx="571320" cy="54288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22"/>
          <p:cNvSpPr/>
          <p:nvPr/>
        </p:nvSpPr>
        <p:spPr>
          <a:xfrm>
            <a:off x="73080" y="80316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ffffff"/>
                </a:solidFill>
                <a:latin typeface="Verdana"/>
              </a:rPr>
              <a:t>UB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24"/>
          <p:cNvSpPr/>
          <p:nvPr/>
        </p:nvSpPr>
        <p:spPr>
          <a:xfrm>
            <a:off x="-844560" y="6346800"/>
            <a:ext cx="2895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ffffff"/>
                </a:solidFill>
                <a:latin typeface="Verdana"/>
              </a:rPr>
              <a:t>&gt;&gt;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46836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sldNum" idx="14"/>
          </p:nvPr>
        </p:nvSpPr>
        <p:spPr>
          <a:xfrm>
            <a:off x="6587640" y="6481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8E753-94D8-42AD-AB1C-1D7B7116AEFE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ftr" idx="15"/>
          </p:nvPr>
        </p:nvSpPr>
        <p:spPr>
          <a:xfrm>
            <a:off x="316044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PT" sz="6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6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6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14"/>
          <p:cNvSpPr/>
          <p:nvPr/>
        </p:nvSpPr>
        <p:spPr>
          <a:xfrm>
            <a:off x="0" y="6381720"/>
            <a:ext cx="9144000" cy="476280"/>
          </a:xfrm>
          <a:prstGeom prst="rect">
            <a:avLst/>
          </a:prstGeom>
          <a:gradFill rotWithShape="0">
            <a:gsLst>
              <a:gs pos="0">
                <a:srgbClr val="760000"/>
              </a:gs>
              <a:gs pos="100000">
                <a:srgbClr val="ff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13"/>
          <p:cNvSpPr/>
          <p:nvPr/>
        </p:nvSpPr>
        <p:spPr>
          <a:xfrm>
            <a:off x="0" y="0"/>
            <a:ext cx="9144000" cy="1052640"/>
          </a:xfrm>
          <a:prstGeom prst="rect">
            <a:avLst/>
          </a:prstGeom>
          <a:gradFill rotWithShape="0">
            <a:gsLst>
              <a:gs pos="0">
                <a:srgbClr val="7f7f7f">
                  <a:alpha val="90196"/>
                </a:srgbClr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19" descr=""/>
          <p:cNvPicPr/>
          <p:nvPr/>
        </p:nvPicPr>
        <p:blipFill>
          <a:blip r:embed="rId2"/>
          <a:stretch/>
        </p:blipFill>
        <p:spPr>
          <a:xfrm>
            <a:off x="0" y="44280"/>
            <a:ext cx="604800" cy="84780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21" descr=""/>
          <p:cNvPicPr/>
          <p:nvPr/>
        </p:nvPicPr>
        <p:blipFill>
          <a:blip r:embed="rId3"/>
          <a:stretch/>
        </p:blipFill>
        <p:spPr>
          <a:xfrm>
            <a:off x="8572680" y="333360"/>
            <a:ext cx="571320" cy="542880"/>
          </a:xfrm>
          <a:prstGeom prst="rect">
            <a:avLst/>
          </a:prstGeom>
          <a:ln w="0">
            <a:noFill/>
          </a:ln>
        </p:spPr>
      </p:pic>
      <p:sp>
        <p:nvSpPr>
          <p:cNvPr id="239" name="Text Box 22"/>
          <p:cNvSpPr/>
          <p:nvPr/>
        </p:nvSpPr>
        <p:spPr>
          <a:xfrm>
            <a:off x="73080" y="80316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ffffff"/>
                </a:solidFill>
                <a:latin typeface="Verdana"/>
              </a:rPr>
              <a:t>UB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24"/>
          <p:cNvSpPr/>
          <p:nvPr/>
        </p:nvSpPr>
        <p:spPr>
          <a:xfrm>
            <a:off x="-844560" y="6346800"/>
            <a:ext cx="2895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ffffff"/>
                </a:solidFill>
                <a:latin typeface="Verdana"/>
              </a:rPr>
              <a:t>&gt;&gt;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46836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sldNum" idx="17"/>
          </p:nvPr>
        </p:nvSpPr>
        <p:spPr>
          <a:xfrm>
            <a:off x="6587640" y="6481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0A0A4-39BC-408E-91A5-A9094A01D409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ftr" idx="18"/>
          </p:nvPr>
        </p:nvSpPr>
        <p:spPr>
          <a:xfrm>
            <a:off x="316044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PT" sz="6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6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6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14"/>
          <p:cNvSpPr/>
          <p:nvPr/>
        </p:nvSpPr>
        <p:spPr>
          <a:xfrm>
            <a:off x="0" y="6381720"/>
            <a:ext cx="9144000" cy="476280"/>
          </a:xfrm>
          <a:prstGeom prst="rect">
            <a:avLst/>
          </a:prstGeom>
          <a:gradFill rotWithShape="0">
            <a:gsLst>
              <a:gs pos="0">
                <a:srgbClr val="760000"/>
              </a:gs>
              <a:gs pos="100000">
                <a:srgbClr val="ff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13"/>
          <p:cNvSpPr/>
          <p:nvPr/>
        </p:nvSpPr>
        <p:spPr>
          <a:xfrm>
            <a:off x="0" y="0"/>
            <a:ext cx="9144000" cy="1052640"/>
          </a:xfrm>
          <a:prstGeom prst="rect">
            <a:avLst/>
          </a:prstGeom>
          <a:gradFill rotWithShape="0">
            <a:gsLst>
              <a:gs pos="0">
                <a:srgbClr val="7f7f7f">
                  <a:alpha val="90196"/>
                </a:srgbClr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19" descr=""/>
          <p:cNvPicPr/>
          <p:nvPr/>
        </p:nvPicPr>
        <p:blipFill>
          <a:blip r:embed="rId2"/>
          <a:stretch/>
        </p:blipFill>
        <p:spPr>
          <a:xfrm>
            <a:off x="0" y="44280"/>
            <a:ext cx="604800" cy="84780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21" descr=""/>
          <p:cNvPicPr/>
          <p:nvPr/>
        </p:nvPicPr>
        <p:blipFill>
          <a:blip r:embed="rId3"/>
          <a:stretch/>
        </p:blipFill>
        <p:spPr>
          <a:xfrm>
            <a:off x="8572680" y="333360"/>
            <a:ext cx="571320" cy="542880"/>
          </a:xfrm>
          <a:prstGeom prst="rect">
            <a:avLst/>
          </a:prstGeom>
          <a:ln w="0">
            <a:noFill/>
          </a:ln>
        </p:spPr>
      </p:pic>
      <p:sp>
        <p:nvSpPr>
          <p:cNvPr id="286" name="Text Box 22"/>
          <p:cNvSpPr/>
          <p:nvPr/>
        </p:nvSpPr>
        <p:spPr>
          <a:xfrm>
            <a:off x="73080" y="80316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ffffff"/>
                </a:solidFill>
                <a:latin typeface="Verdana"/>
              </a:rPr>
              <a:t>UB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24"/>
          <p:cNvSpPr/>
          <p:nvPr/>
        </p:nvSpPr>
        <p:spPr>
          <a:xfrm>
            <a:off x="-844560" y="6346800"/>
            <a:ext cx="2895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ffffff"/>
                </a:solidFill>
                <a:latin typeface="Verdana"/>
              </a:rPr>
              <a:t>&gt;&gt;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46836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sldNum" idx="20"/>
          </p:nvPr>
        </p:nvSpPr>
        <p:spPr>
          <a:xfrm>
            <a:off x="6587640" y="6481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AD731-2AB3-4935-ADD5-AB496022DFEC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ftr" idx="21"/>
          </p:nvPr>
        </p:nvSpPr>
        <p:spPr>
          <a:xfrm>
            <a:off x="316044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PT" sz="6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6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6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14"/>
          <p:cNvSpPr/>
          <p:nvPr/>
        </p:nvSpPr>
        <p:spPr>
          <a:xfrm>
            <a:off x="0" y="6381720"/>
            <a:ext cx="9144000" cy="476280"/>
          </a:xfrm>
          <a:prstGeom prst="rect">
            <a:avLst/>
          </a:prstGeom>
          <a:gradFill rotWithShape="0">
            <a:gsLst>
              <a:gs pos="0">
                <a:srgbClr val="760000"/>
              </a:gs>
              <a:gs pos="100000">
                <a:srgbClr val="ff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13"/>
          <p:cNvSpPr/>
          <p:nvPr/>
        </p:nvSpPr>
        <p:spPr>
          <a:xfrm>
            <a:off x="0" y="0"/>
            <a:ext cx="9144000" cy="1052640"/>
          </a:xfrm>
          <a:prstGeom prst="rect">
            <a:avLst/>
          </a:prstGeom>
          <a:gradFill rotWithShape="0">
            <a:gsLst>
              <a:gs pos="0">
                <a:srgbClr val="7f7f7f">
                  <a:alpha val="90196"/>
                </a:srgbClr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19" descr=""/>
          <p:cNvPicPr/>
          <p:nvPr/>
        </p:nvPicPr>
        <p:blipFill>
          <a:blip r:embed="rId2"/>
          <a:stretch/>
        </p:blipFill>
        <p:spPr>
          <a:xfrm>
            <a:off x="0" y="44280"/>
            <a:ext cx="604800" cy="84780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21" descr=""/>
          <p:cNvPicPr/>
          <p:nvPr/>
        </p:nvPicPr>
        <p:blipFill>
          <a:blip r:embed="rId3"/>
          <a:stretch/>
        </p:blipFill>
        <p:spPr>
          <a:xfrm>
            <a:off x="8572680" y="333360"/>
            <a:ext cx="571320" cy="542880"/>
          </a:xfrm>
          <a:prstGeom prst="rect">
            <a:avLst/>
          </a:prstGeom>
          <a:ln w="0">
            <a:noFill/>
          </a:ln>
        </p:spPr>
      </p:pic>
      <p:sp>
        <p:nvSpPr>
          <p:cNvPr id="333" name="Text Box 22"/>
          <p:cNvSpPr/>
          <p:nvPr/>
        </p:nvSpPr>
        <p:spPr>
          <a:xfrm>
            <a:off x="73080" y="80316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ffffff"/>
                </a:solidFill>
                <a:latin typeface="Verdana"/>
              </a:rPr>
              <a:t>UB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24"/>
          <p:cNvSpPr/>
          <p:nvPr/>
        </p:nvSpPr>
        <p:spPr>
          <a:xfrm>
            <a:off x="-844560" y="6346800"/>
            <a:ext cx="2895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ffffff"/>
                </a:solidFill>
                <a:latin typeface="Verdana"/>
              </a:rPr>
              <a:t>&gt;&gt;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6836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sldNum" idx="23"/>
          </p:nvPr>
        </p:nvSpPr>
        <p:spPr>
          <a:xfrm>
            <a:off x="6587640" y="6481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DDFD8-0AD8-4756-8EB4-5877D5477307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 type="ftr" idx="24"/>
          </p:nvPr>
        </p:nvSpPr>
        <p:spPr>
          <a:xfrm>
            <a:off x="316044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PT" sz="6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6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6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14"/>
          <p:cNvSpPr/>
          <p:nvPr/>
        </p:nvSpPr>
        <p:spPr>
          <a:xfrm>
            <a:off x="0" y="6381720"/>
            <a:ext cx="9144000" cy="476280"/>
          </a:xfrm>
          <a:prstGeom prst="rect">
            <a:avLst/>
          </a:prstGeom>
          <a:gradFill rotWithShape="0">
            <a:gsLst>
              <a:gs pos="0">
                <a:srgbClr val="760000"/>
              </a:gs>
              <a:gs pos="100000">
                <a:srgbClr val="ff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13"/>
          <p:cNvSpPr/>
          <p:nvPr/>
        </p:nvSpPr>
        <p:spPr>
          <a:xfrm>
            <a:off x="0" y="0"/>
            <a:ext cx="9144000" cy="1052640"/>
          </a:xfrm>
          <a:prstGeom prst="rect">
            <a:avLst/>
          </a:prstGeom>
          <a:gradFill rotWithShape="0">
            <a:gsLst>
              <a:gs pos="0">
                <a:srgbClr val="7f7f7f">
                  <a:alpha val="90196"/>
                </a:srgbClr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19" descr=""/>
          <p:cNvPicPr/>
          <p:nvPr/>
        </p:nvPicPr>
        <p:blipFill>
          <a:blip r:embed="rId2"/>
          <a:stretch/>
        </p:blipFill>
        <p:spPr>
          <a:xfrm>
            <a:off x="0" y="44280"/>
            <a:ext cx="604800" cy="84780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21" descr=""/>
          <p:cNvPicPr/>
          <p:nvPr/>
        </p:nvPicPr>
        <p:blipFill>
          <a:blip r:embed="rId3"/>
          <a:stretch/>
        </p:blipFill>
        <p:spPr>
          <a:xfrm>
            <a:off x="8572680" y="333360"/>
            <a:ext cx="571320" cy="542880"/>
          </a:xfrm>
          <a:prstGeom prst="rect">
            <a:avLst/>
          </a:prstGeom>
          <a:ln w="0">
            <a:noFill/>
          </a:ln>
        </p:spPr>
      </p:pic>
      <p:sp>
        <p:nvSpPr>
          <p:cNvPr id="380" name="Text Box 22"/>
          <p:cNvSpPr/>
          <p:nvPr/>
        </p:nvSpPr>
        <p:spPr>
          <a:xfrm>
            <a:off x="73080" y="80316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ffffff"/>
                </a:solidFill>
                <a:latin typeface="Verdana"/>
              </a:rPr>
              <a:t>UB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24"/>
          <p:cNvSpPr/>
          <p:nvPr/>
        </p:nvSpPr>
        <p:spPr>
          <a:xfrm>
            <a:off x="-844560" y="6346800"/>
            <a:ext cx="2895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ffffff"/>
                </a:solidFill>
                <a:latin typeface="Verdana"/>
              </a:rPr>
              <a:t>&gt;&gt;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46836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sldNum" idx="26"/>
          </p:nvPr>
        </p:nvSpPr>
        <p:spPr>
          <a:xfrm>
            <a:off x="6587640" y="6481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26894-DDBF-4180-85FC-074AC38360AA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ftr" idx="27"/>
          </p:nvPr>
        </p:nvSpPr>
        <p:spPr>
          <a:xfrm>
            <a:off x="316044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PT" sz="6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6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6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000" spc="-1" strike="noStrike">
                <a:solidFill>
                  <a:srgbClr val="000000"/>
                </a:solidFill>
                <a:latin typeface="Verdana"/>
              </a:rPr>
              <a:t>Chapter 15</a:t>
            </a:r>
            <a:br>
              <a:rPr sz="3000"/>
            </a:br>
            <a:r>
              <a:rPr b="1" lang="pt-PT" sz="3000" spc="-1" strike="noStrike">
                <a:solidFill>
                  <a:srgbClr val="000000"/>
                </a:solidFill>
                <a:latin typeface="Verdana"/>
              </a:rPr>
              <a:t>Advanced Laboratories</a:t>
            </a:r>
            <a:br>
              <a:rPr sz="3000"/>
            </a:b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RF link using the eZ430-RF2500</a:t>
            </a: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6" name="Rectangle 4"/>
          <p:cNvSpPr/>
          <p:nvPr/>
        </p:nvSpPr>
        <p:spPr>
          <a:xfrm>
            <a:off x="0" y="-100080"/>
            <a:ext cx="91440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900" spc="-1" strike="noStrike">
                <a:solidFill>
                  <a:srgbClr val="ffffff"/>
                </a:solidFill>
                <a:latin typeface="Verdana"/>
              </a:rPr>
              <a:t>MSP430 Teaching Material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7" name="Picture 6" descr="brasao a cores"/>
          <p:cNvPicPr/>
          <p:nvPr/>
        </p:nvPicPr>
        <p:blipFill>
          <a:blip r:embed="rId1"/>
          <a:stretch/>
        </p:blipFill>
        <p:spPr>
          <a:xfrm>
            <a:off x="860400" y="4221000"/>
            <a:ext cx="687240" cy="952560"/>
          </a:xfrm>
          <a:prstGeom prst="rect">
            <a:avLst/>
          </a:prstGeom>
          <a:ln w="0">
            <a:noFill/>
          </a:ln>
        </p:spPr>
      </p:pic>
      <p:pic>
        <p:nvPicPr>
          <p:cNvPr id="668" name="Picture 8" descr=""/>
          <p:cNvPicPr/>
          <p:nvPr/>
        </p:nvPicPr>
        <p:blipFill>
          <a:blip r:embed="rId2"/>
          <a:stretch/>
        </p:blipFill>
        <p:spPr>
          <a:xfrm>
            <a:off x="7667640" y="4365720"/>
            <a:ext cx="752400" cy="723960"/>
          </a:xfrm>
          <a:prstGeom prst="rect">
            <a:avLst/>
          </a:prstGeom>
          <a:ln w="0">
            <a:noFill/>
          </a:ln>
        </p:spPr>
      </p:pic>
      <p:sp>
        <p:nvSpPr>
          <p:cNvPr id="669" name="PlaceHolder 2"/>
          <p:cNvSpPr>
            <a:spLocks noGrp="1"/>
          </p:cNvSpPr>
          <p:nvPr>
            <p:ph type="subTitle"/>
          </p:nvPr>
        </p:nvSpPr>
        <p:spPr>
          <a:xfrm>
            <a:off x="1115640" y="4220640"/>
            <a:ext cx="6769080" cy="22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pt-PT" sz="2400" spc="-1" strike="noStrike">
                <a:solidFill>
                  <a:srgbClr val="000000"/>
                </a:solidFill>
                <a:latin typeface="Verdana"/>
              </a:rPr>
              <a:t>Texas Instruments Incorporated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Verdana"/>
              </a:rPr>
              <a:t>University of Beira Interior (PT)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000000"/>
                </a:solidFill>
                <a:latin typeface="Verdana"/>
              </a:rPr>
              <a:t>Pedro Dinis Gaspar, António Espírito Santo, Bruno Ribeiro, Humberto Santos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000000"/>
                </a:solidFill>
                <a:latin typeface="Verdana"/>
              </a:rPr>
              <a:t>University of Beira Interior, Electromechanical Engineering Department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ww.msp430.ubi.pt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0" name="Rectangle 12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5" name="Picture 8" descr=""/>
          <p:cNvPicPr/>
          <p:nvPr/>
        </p:nvPicPr>
        <p:blipFill>
          <a:blip r:embed="rId1"/>
          <a:stretch/>
        </p:blipFill>
        <p:spPr>
          <a:xfrm>
            <a:off x="1285920" y="3500280"/>
            <a:ext cx="6521400" cy="2857680"/>
          </a:xfrm>
          <a:prstGeom prst="rect">
            <a:avLst/>
          </a:prstGeom>
          <a:ln w="0">
            <a:noFill/>
          </a:ln>
        </p:spPr>
      </p:pic>
      <p:sp>
        <p:nvSpPr>
          <p:cNvPr id="706" name="Marcador de Posição do Número do Diapositivo 4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B4401-F563-4705-A363-91EA3374BF65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Marcador de Posição do Rodapé 5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The hardware (1/4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178920" y="1196640"/>
            <a:ext cx="8734680" cy="408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The application is ready to run on the eZ430-RF2500 hardware development kit (see </a:t>
            </a:r>
            <a:r>
              <a:rPr b="1" i="1" lang="en-GB" sz="2000" spc="-1" strike="noStrike">
                <a:solidFill>
                  <a:srgbClr val="000000"/>
                </a:solidFill>
                <a:latin typeface="Verdana"/>
              </a:rPr>
              <a:t>Chapter 3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for details). The devices used are the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C2500 radio transceiver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SP430F2274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S232 interface, accessed through the USB interface, which is available for developmen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Marcador de Posição do Número do Diapositivo 4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8C521-6F4F-4544-92A7-0090BB3C161B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Marcador de Posição do Rodapé 5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The hardware (2/4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The CC2500 is a radio frequency transceiver operating in the widely used ISM/SRD (</a:t>
            </a: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Industrial-Scientific-Medical /Short-Range-Devices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) 2.4 GHz frequency band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It is a low-cost device with low power consumption, designed for consumer electronics applications.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14" name="Picture 6" descr=""/>
          <p:cNvPicPr/>
          <p:nvPr/>
        </p:nvPicPr>
        <p:blipFill>
          <a:blip r:embed="rId1"/>
          <a:stretch/>
        </p:blipFill>
        <p:spPr>
          <a:xfrm>
            <a:off x="1332000" y="3000240"/>
            <a:ext cx="6514920" cy="33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Marcador de Posição do Número do Diapositivo 4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92D89-0DA7-4A09-BE96-7446FCA06641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Marcador de Posição do Rodapé 5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The hardware (3/4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The communications protocol uses very little data formatting. It is up to the user to define the communications protocol that best suits their application and implement their own software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The CC2500 is a low pin-out device, because it integrates all the radio functions, except the antenna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This device is not sufficiently independent that it can operate without the aid of a microcontroller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When coupled to the MSP430, connection is made between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ccess to internal registers: SPI interface belongs to the USCIB0 uni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atus pins: GDO0 and GDO2 (P2.6 and P2.7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Marcador de Posição do Número do Diapositivo 4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A903A-03E9-42F8-808D-58ED497A9E81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Marcador de Posição do Rodapé 5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The hardware (4/4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178920" y="1196640"/>
            <a:ext cx="8734680" cy="430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CC250 RF transceiver</a:t>
            </a: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23" name="Picture 5" descr=""/>
          <p:cNvPicPr/>
          <p:nvPr/>
        </p:nvPicPr>
        <p:blipFill>
          <a:blip r:embed="rId1"/>
          <a:stretch/>
        </p:blipFill>
        <p:spPr>
          <a:xfrm>
            <a:off x="928800" y="1500120"/>
            <a:ext cx="7638840" cy="48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Marcador de Posição do Número do Diapositivo 4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B2E93-D118-4084-AD6E-925AA673B396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Marcador de Posição do Rodapé 5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The software (1/5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Internal structure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ructured in layer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Base layer: Hardware abstraction layer. Responsible for separating the higher layers of software from the hardwar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iddle SPI layer: Ensures the communication functions for the correct operation of CC2500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UART layer: Provides connection to the PC via RS232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C2500 layer: Access and control functions controlling the CC2500 (SPI and the GPIO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pplication layer: Uses the features offered by layers at a lower level to implement the tasks necessary for the correct operation of the applicat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Marcador de Posição do Número do Diapositivo 4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E3B1B-E54D-4854-93DC-1AE0CED51AE2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Marcador de Posição do Rodapé 5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The software (2/5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Software structure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32" name="Picture 5" descr=""/>
          <p:cNvPicPr/>
          <p:nvPr/>
        </p:nvPicPr>
        <p:blipFill>
          <a:blip r:embed="rId1"/>
          <a:stretch/>
        </p:blipFill>
        <p:spPr>
          <a:xfrm>
            <a:off x="826920" y="2097000"/>
            <a:ext cx="7848720" cy="25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Marcador de Posição do Número do Diapositivo 5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854E8-ACB9-41F9-B6FB-CEC5D7697172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Marcador de Posição do Rodapé 6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The software (3/5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7854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Each layer has different functional responsibilities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Hardware definition layer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737" name=""/>
          <p:cNvGraphicFramePr/>
          <p:nvPr/>
        </p:nvGraphicFramePr>
        <p:xfrm>
          <a:off x="0" y="2522520"/>
          <a:ext cx="9144000" cy="3718080"/>
        </p:xfrm>
        <a:graphic>
          <a:graphicData uri="http://schemas.openxmlformats.org/drawingml/2006/table">
            <a:tbl>
              <a:tblPr/>
              <a:tblGrid>
                <a:gridCol w="4624560"/>
                <a:gridCol w="45194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Fi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I_CC_CC1100-CC2500.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efinitions specific to the CC1100/2500 devices (Chipcon’s/TI SmartRF Studio software can assist in generating register content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I_CC_MSP430.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efinitions specific to the MSP430 dev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I_CC_hardware_board.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efinitions specific to the boar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(connections between MSP430 and</a:t>
                      </a:r>
                      <a:r>
                        <a:rPr b="0" lang="pt-PT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Cxxxx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Marcador de Posição do Número do Diapositivo 6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FC29F-944B-4B5B-8E17-15494C1AD876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Marcador de Posição do Rodapé 7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The software (4/5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7854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PI layer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C2500 layer</a:t>
            </a: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742" name=""/>
          <p:cNvGraphicFramePr/>
          <p:nvPr/>
        </p:nvGraphicFramePr>
        <p:xfrm>
          <a:off x="0" y="1700280"/>
          <a:ext cx="9144000" cy="1798560"/>
        </p:xfrm>
        <a:graphic>
          <a:graphicData uri="http://schemas.openxmlformats.org/drawingml/2006/table">
            <a:tbl>
              <a:tblPr/>
              <a:tblGrid>
                <a:gridCol w="4557600"/>
                <a:gridCol w="4586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Fi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I_CC_spi.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Function declarations for hal_spi.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I_CC_spi.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Functions for access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C1100/CC2500 registers via SP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from MSP4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43" name=""/>
          <p:cNvGraphicFramePr/>
          <p:nvPr/>
        </p:nvGraphicFramePr>
        <p:xfrm>
          <a:off x="0" y="4259160"/>
          <a:ext cx="9144000" cy="2103480"/>
        </p:xfrm>
        <a:graphic>
          <a:graphicData uri="http://schemas.openxmlformats.org/drawingml/2006/table">
            <a:tbl>
              <a:tblPr/>
              <a:tblGrid>
                <a:gridCol w="4586400"/>
                <a:gridCol w="45576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Fi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c1100-CC2500.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itialization of messages, transmission and reception functions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I_CC_CC1100-CC2500.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Function declarations for cc1100-CC2500.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Marcador de Posição do Número do Diapositivo 5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C1F18-722E-4A16-B03C-F3C642DEB163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Marcador de Posição do Rodapé 6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The software (5/5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7854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UART layer:</a:t>
            </a: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748" name=""/>
          <p:cNvGraphicFramePr/>
          <p:nvPr/>
        </p:nvGraphicFramePr>
        <p:xfrm>
          <a:off x="0" y="1908000"/>
          <a:ext cx="9144000" cy="2103480"/>
        </p:xfrm>
        <a:graphic>
          <a:graphicData uri="http://schemas.openxmlformats.org/drawingml/2006/table">
            <a:tbl>
              <a:tblPr/>
              <a:tblGrid>
                <a:gridCol w="4564080"/>
                <a:gridCol w="414360"/>
                <a:gridCol w="4165560"/>
              </a:tblGrid>
              <a:tr h="398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Fi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hal_uart.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itialization of messages and transmission functions via RS232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hal_uart.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Function declarations for hal_uart.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Marcador de Posição do Número do Diapositivo 4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7CF8B-DBCF-4AA9-AE33-229C2E96B527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Marcador de Posição do Rodapé 5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onfiguration (1/5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Clearly defined start-up of the multiple hardware modules and the various software modules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Important: The unit’s address needs to be changed during compilation, to allocate a unique address.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53" name="Picture 6" descr=""/>
          <p:cNvPicPr/>
          <p:nvPr/>
        </p:nvPicPr>
        <p:blipFill>
          <a:blip r:embed="rId1"/>
          <a:stretch/>
        </p:blipFill>
        <p:spPr>
          <a:xfrm>
            <a:off x="2266920" y="2908440"/>
            <a:ext cx="5473800" cy="36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Marcador de Posição do Número do Diapositivo 4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2B49E-51E9-4C0F-9EF0-0B6AD80626A9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Marcador de Posição do Rodapé 5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Contents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Verdana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Verdana"/>
              </a:rPr>
              <a:t>The applicatio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Verdana"/>
              </a:rPr>
              <a:t>The hardwar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Verdana"/>
              </a:rPr>
              <a:t>The softwar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Verdana"/>
              </a:rPr>
              <a:t>Configuratio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Verdana"/>
              </a:rPr>
              <a:t>Algorithm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Verdana"/>
              </a:rPr>
              <a:t>New challeng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Marcador de Posição do Número do Diapositivo 4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C9E91-7505-4B20-A28E-B70F3704543A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Marcador de Posição do Rodapé 5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onfiguration (2/5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51134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Base station code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wo interrupt service routines (ISR) and two buffer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58" name="Picture 1028" descr=""/>
          <p:cNvPicPr/>
          <p:nvPr/>
        </p:nvPicPr>
        <p:blipFill>
          <a:blip r:embed="rId1"/>
          <a:stretch/>
        </p:blipFill>
        <p:spPr>
          <a:xfrm>
            <a:off x="5268960" y="1268280"/>
            <a:ext cx="369576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Marcador de Posição do Número do Diapositivo 4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81DCD-D940-4D94-BE03-6AC9CF68BAB8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Marcador de Posição do Rodapé 5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onfiguration (3/5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7854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Base station code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ort2 ISR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nabled by GDO0, which causes a L-H transition when it receives a valid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Sync_Word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H-L transition at the end of a message reception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contents of the received messages are sent to the IO console via the RS232 connection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Timer_A service routine is used to send a message to check for correct reception from the remote stations (maximum of 15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two buffers are used to hold the message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transmit buffer is used to build the message for later transmission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receive buffer is used to hold the data read from the CC2500 FIFO when a message is receive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Marcador de Posição do Número do Diapositivo 4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E31C7-6348-41C8-A1BA-FA62D6A431BC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Marcador de Posição do Rodapé 5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onfiguration (4/5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4392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Remote station code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omposed of two interrupt service routines (ISR) and two buffer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67" name="Picture 1024" descr=""/>
          <p:cNvPicPr/>
          <p:nvPr/>
        </p:nvPicPr>
        <p:blipFill>
          <a:blip r:embed="rId1"/>
          <a:stretch/>
        </p:blipFill>
        <p:spPr>
          <a:xfrm>
            <a:off x="5286240" y="1143000"/>
            <a:ext cx="3714840" cy="516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Marcador de Posição do Número do Diapositivo 4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2D5AE-3AEC-40C2-A379-1990F5C071D6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Marcador de Posição do Rodapé 5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onfiguration (5/5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Remote station code: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ort2 ISR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nabled by the GDO0, which causes a L-H transition when it receives a valid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Sync_Word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H-L transition at the end of a message reception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ceived message contents to IO console (RS232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ort1 ISR: Generated when the button is pressed, sending the signal announcing the presence of the remote station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wo buffers used to hold the message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ransmit buffer is used to build the message for later transmission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receive buffer is used to hold the data read from the CC2500 FIFO after receiving a messag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Marcador de Posição do Número do Diapositivo 4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C4337-4B21-44CD-9967-8C2ACF9E6846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Marcador de Posição do Rodapé 5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lgorithms (1/2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Transmission algorithm implemented by Port1 ISR</a:t>
            </a: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76" name="Picture 5" descr=""/>
          <p:cNvPicPr/>
          <p:nvPr/>
        </p:nvPicPr>
        <p:blipFill>
          <a:blip r:embed="rId1"/>
          <a:stretch/>
        </p:blipFill>
        <p:spPr>
          <a:xfrm>
            <a:off x="3357720" y="1500120"/>
            <a:ext cx="293976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Marcador de Posição do Número do Diapositivo 4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A3A7B-646C-4017-8B3D-8DF73CA1D63B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Marcador de Posição do Rodapé 5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lgorithms (2/2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Reception algorithm used by the Port2 ISR in both </a:t>
            </a: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station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s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81" name="Picture 1030" descr=""/>
          <p:cNvPicPr/>
          <p:nvPr/>
        </p:nvPicPr>
        <p:blipFill>
          <a:blip r:embed="rId1"/>
          <a:stretch/>
        </p:blipFill>
        <p:spPr>
          <a:xfrm>
            <a:off x="3000240" y="1571760"/>
            <a:ext cx="2928960" cy="47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Marcador de Posição do Número do Diapositivo 4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415AD-0125-4C15-9457-B3CC0DC5EBB1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Marcador de Posição do Rodapé 5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New challenges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This laboratory has brought together the range of ideas and concepts taught in the CDROM. It can also be used as the basis for other and more exciting new challenges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Using the present laboratory as a starting point, develop an application to exchange written messages between a series of stations scattered inside a room, a kind of "wireless messenger“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The messages typed into the IO console for a particular address would be sent by wireless support to the console addressed.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Marcador de Posição do Número do Diapositivo 4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46E79-46BB-4DAA-808D-1C1D20311111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Marcador de Posição do Rodapé 5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New challenges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To achieve this objective, it is useful to define a small set of user-defined commands, such as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ddress allocation at the local station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ddress allocation at the remote station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ending a messag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eighbourhood screening of possible talking partner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mong others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Marcador de Posição do Número do Diapositivo 4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826A0-F481-42DE-BEBF-CB81CFF090CB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Marcador de Posição do Rodapé 5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Introduction (1/3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This laboratory demonstrates the operation of a small wireless communication application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The purpose of this laboratory is to send and receive text messages, making use of RF links between the central unit (base unit) and the various peripheral units (remote units).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It is an integrated application, using some peripherals of the MSP430, in particular, the USCIx communication modules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Additionally, it uses the CC2500 radio transceiver as an interface to external devices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Even though the application is simple, it is motivating to the user because the IO console allows easy interaction with the system;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Marcador de Posição do Número do Diapositivo 4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89D09-C8D3-41C1-9211-68A52F89DC98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Marcador de Posição do Rodapé 5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This laboratory has the following objectives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o demonstrate the importance of software organization as a fundamental part of an embedded systems project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o approach the problem using a top-down approach, applying the necessary abstraction to organize the software into functional layer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o give an example of the management of a complex project, integrating together more than one functional modul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o develop a modular structure so that several functional modules co-exist together within a single software projec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Introduction (2/3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Marcador de Posição do Número do Diapositivo 4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BC9E6-22B0-4270-B922-481BAA5EC9F1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Marcador de Posição do Rodapé 5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Introduction (3/3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This laboratory has the following objectives (continued):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ke use of the wireless communications capability of the MSP430, demonstrating its practical advantage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onsolidate knowledge acquired during the previous laboratories, namely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From the MSP430 communications interfaces laboratorie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PI mode to access the transceiver CC2500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UART mode to interface with the IO consol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Marcador de Posição do Número do Diapositivo 4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C15F1-C9E8-4AD9-B89F-AB402C0E5030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Marcador de Posição do Rodapé 5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The application (1/4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This laboratory establishes communications between various RF units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The stations are identified by an ID, i.e., the address for presentation to the network. When a station wants to communicate with another station, it must use the address of the target station in the message;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The CC2500 has several ways to communicate, which determine the size of the messages exchanged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In order to simplify the communication process, fixed-size address and data have been used (maximum message size 64 bytes). This corresponds to the size of the CC2500 FIFO.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Marcador de Posição do Número do Diapositivo 4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844ED-04CF-4B6B-A303-5422E22E9810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Marcador de Posição do Rodapé 5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The application (2/4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CC2500 packages format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95" name="Picture 11" descr=""/>
          <p:cNvPicPr/>
          <p:nvPr/>
        </p:nvPicPr>
        <p:blipFill>
          <a:blip r:embed="rId1"/>
          <a:stretch/>
        </p:blipFill>
        <p:spPr>
          <a:xfrm>
            <a:off x="0" y="2906640"/>
            <a:ext cx="914400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Marcador de Posição do Número do Diapositivo 4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E2BC0-3D9A-4BC7-992B-D7F765E3BDDE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Marcador de Posição do Rodapé 5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The application (3/4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This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laboratory has two units with distinct functional differences: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code differs between the two unit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One unit contains the base station functionality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-22392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ceives messages from all peripheral unit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-22392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Works as a radio beacon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-22392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ends to to all remote station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-22392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cknowledges messages receive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other unit acts as a remote station.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Marcador de Posição do Número do Diapositivo 4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87758-1346-45A2-A242-57097D191827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Marcador de Posição do Rodapé 5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The application (4/4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Block Diagram of the Application</a:t>
            </a: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04" name="Picture 5" descr=""/>
          <p:cNvPicPr/>
          <p:nvPr/>
        </p:nvPicPr>
        <p:blipFill>
          <a:blip r:embed="rId1"/>
          <a:stretch/>
        </p:blipFill>
        <p:spPr>
          <a:xfrm>
            <a:off x="755640" y="1538280"/>
            <a:ext cx="7775640" cy="48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3T12:17:19Z</dcterms:created>
  <dc:creator>Dinis</dc:creator>
  <dc:description/>
  <dc:language>en-US</dc:language>
  <cp:lastModifiedBy>Universidade Beira Interior</cp:lastModifiedBy>
  <dcterms:modified xsi:type="dcterms:W3CDTF">2009-02-18T17:19:53Z</dcterms:modified>
  <cp:revision>85</cp:revision>
  <dc:subject/>
  <dc:title>Diapositivo 1</dc:title>
</cp:coreProperties>
</file>