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3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E001-3A27-493C-91A1-0B7F360D226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D905-EDA5-4858-8D6F-553D25F87E4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31FA1-4886-4B0B-BA15-A7AF5953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44E3-0D40-405C-A31C-EBFC17F9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C727-CB8B-46C2-97F6-97BA8D9B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9F8C-EFB5-49C9-BA49-F19D8D1E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99C1-9206-4E47-906F-11F853BD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679B-6DD1-45D5-AFC2-FA3E5733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3DE5-6E9D-4235-AFBB-FE8BB12A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1B5F-37A5-43D2-B975-D914A240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4CCF-19AD-4A52-8AF3-01DA310A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5BBE-77B9-49C1-AC56-91B8B40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647D-55C3-47DD-A16D-B7D4BA09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8CD8-E039-4382-AA29-BC58DD6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A78B-BFEF-4E5F-A414-704F9F68643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2.xml"/><Relationship Id="rId6" Type="http://schemas.openxmlformats.org/officeDocument/2006/relationships/slide" Target="slide31.xml"/><Relationship Id="rId7" Type="http://schemas.openxmlformats.org/officeDocument/2006/relationships/slide" Target="slide38.xml"/><Relationship Id="rId8" Type="http://schemas.openxmlformats.org/officeDocument/2006/relationships/slide" Target="slide38.xml"/><Relationship Id="rId9" Type="http://schemas.openxmlformats.org/officeDocument/2006/relationships/slide" Target="slide39.xml"/><Relationship Id="rId10" Type="http://schemas.openxmlformats.org/officeDocument/2006/relationships/slide" Target="slide40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15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Advanced Laboratories</a:t>
            </a:r>
            <a:br>
              <a:rPr sz="30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SP430 assembly language tutorial: MSP430X CPU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brasao a cores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4495-DA57-45D7-904B-63850DCFF53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xploring the addressing modes of the MSP430 architectur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8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R4-R15 – General-purpose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Handling word data (16 bits) using the suffix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.W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57120" y="2071800"/>
            <a:ext cx="3857760" cy="4294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4929120" y="2143080"/>
            <a:ext cx="3799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6601-3A5C-4FA2-9547-8C189A7D14F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xploring the addressing modes of the MSP430 architectur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9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82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R4-R15 – General-purpose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anipulation of a 20-bit address using the suffix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.A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33200" y="2311560"/>
            <a:ext cx="4795920" cy="328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361040" y="2286000"/>
            <a:ext cx="47829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CAC6-70E7-4C6A-A604-2A3711455D5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struction format in the MSP430X CPU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82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e are three possibilities to choose between the instructions of the MSP430 CPU and MSP430X CPU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only the MSP430 CPU instructions.  The following rules must be followed, with the exception of the instruction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A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A, BR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t all the data in memory below 64 kB and access the data using 16-bit pointe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ce the routines at an address within the ran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C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2 k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20-bits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only the MSP430X CPU instructions. This causes a reduction in the application execution speed and an increase in the memory space occupied by the progra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an appropriate selection of the instruction ty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5533-599B-49B5-8B89-63CA96E5981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struction format in the MSP430X CPU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82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SP430X CPU supports all functions of the MSP430 CPU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 also offers a set of instructions that provide full access to the 20-bit addressing spac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 additional op-code word is added to some of the instructions. Therefore all addresses, indexes and immediate numbers have 20 bits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BF1E-0917-4B23-9E00-FC251050AE2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ension word for register addressing mode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82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 register mode, the extension word of an instruction of format type I (two operands) or format type II (single operand) is coded a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description of each fiel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4286160" cy="57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rcRect l="0" t="0" r="0" b="148"/>
          <a:stretch/>
        </p:blipFill>
        <p:spPr>
          <a:xfrm>
            <a:off x="5072040" y="1071720"/>
            <a:ext cx="40719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4FF5-AAFE-47C1-A60B-784041F44AE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ension word for register addressing mode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nlike the MSP430, the MSP430X CPU supports the repeated execution of the same instruction, provided that the operands are of the register typ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repetition is set by placing the repeat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P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instruction  before the instruction to be execut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assembler incorporates information in the extension word in the fields # (bit 7) and in the repetition counter (bits 3:0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 example of this feature will be provided later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2678-79D4-4E6E-B538-1F6DE0EA772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ension word for the other addressing mod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106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n a non-register addressing mode, the extension word of an instruction, whether  format I (double operands) or format II (single operand), is coded a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description of each fiel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4500720" y="1219320"/>
            <a:ext cx="4643280" cy="50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572000" y="2428920"/>
            <a:ext cx="4510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632A-106C-4AD5-BAD1-88FBF624DED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ended format I -Double operand- instructio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e are twelve extended instructions that use two operand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2058840" y="1596960"/>
            <a:ext cx="557244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D5AD-355C-4B54-B15E-080D1102C30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double operand instructions (1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register R5 to register R4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 R5,R4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1840 – 0x45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2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coding specifies that the CPU must perform the 16-bit data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using the contents of the source register R5 and the destination register R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-1440" y="2857680"/>
          <a:ext cx="9148680" cy="1676160"/>
        </p:xfrm>
        <a:graphic>
          <a:graphicData uri="http://schemas.openxmlformats.org/drawingml/2006/table">
            <a:tbl>
              <a:tblPr/>
              <a:tblGrid>
                <a:gridCol w="384120"/>
                <a:gridCol w="395280"/>
                <a:gridCol w="388800"/>
                <a:gridCol w="392040"/>
                <a:gridCol w="374760"/>
                <a:gridCol w="380880"/>
                <a:gridCol w="381240"/>
                <a:gridCol w="492120"/>
                <a:gridCol w="1487520"/>
                <a:gridCol w="1488960"/>
                <a:gridCol w="793800"/>
                <a:gridCol w="700200"/>
                <a:gridCol w="1488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-1/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49A5-4BDA-4933-8CC5-5ACDA28C903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double operand instructions (2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register R5 to the memory address TONI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X R5,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x184F – 0x45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3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3124080"/>
          <a:ext cx="9180360" cy="167652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6720"/>
                <a:gridCol w="401760"/>
                <a:gridCol w="792000"/>
                <a:gridCol w="1229040"/>
                <a:gridCol w="1076040"/>
                <a:gridCol w="1295640"/>
                <a:gridCol w="1295280"/>
                <a:gridCol w="1512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97EB-DD9F-435D-B249-F7C08DE71D1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Exploring the addressing modes of the MSP430X architectur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Main features of the MSP430X CPU archite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Organization of the MSP430X CP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MSP430X CPU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Instruction format in the MSP430X CP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Exceptions to the representation of the extended Format II instru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Extended </a:t>
            </a:r>
            <a:r>
              <a:rPr b="0" lang="pt-PT" sz="2000" spc="-1" strike="noStrike" u="sng">
                <a:solidFill>
                  <a:srgbClr val="009999"/>
                </a:solidFill>
                <a:uFillTx/>
                <a:latin typeface="Verdana"/>
                <a:hlinkClick r:id="rId8" action="ppaction://hlinksldjump"/>
              </a:rPr>
              <a:t>emulated instru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9" action="ppaction://hlinksldjump"/>
              </a:rPr>
              <a:t>MSP430X address instru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0" action="ppaction://hlinksldjump"/>
              </a:rPr>
              <a:t>MSP430X CPU addressing m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6897-EFE3-41B9-8CDA-6DC76E61916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double operand instructions (3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register R5 to the memory address TONI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X R5,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coding specifies that the CPU must perform the 16-bit data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the source being the contents of register R5 and the destination being the memory address pointed to by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: X1 + P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stored in the extension word and the valu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stored in the word follow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2276640"/>
          <a:ext cx="9180360" cy="167616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6720"/>
                <a:gridCol w="401760"/>
                <a:gridCol w="792000"/>
                <a:gridCol w="1152720"/>
                <a:gridCol w="1152360"/>
                <a:gridCol w="1295640"/>
                <a:gridCol w="1295280"/>
                <a:gridCol w="1512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B2ED-F61A-47D3-94AA-CC1B8B13390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double operand instructions (4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memory address TONI to  register R5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X TONI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x1FC0 – 0x4015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3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3200400"/>
          <a:ext cx="9144000" cy="1676520"/>
        </p:xfrm>
        <a:graphic>
          <a:graphicData uri="http://schemas.openxmlformats.org/drawingml/2006/table">
            <a:tbl>
              <a:tblPr/>
              <a:tblGrid>
                <a:gridCol w="395280"/>
                <a:gridCol w="395280"/>
                <a:gridCol w="395280"/>
                <a:gridCol w="398520"/>
                <a:gridCol w="401760"/>
                <a:gridCol w="579240"/>
                <a:gridCol w="1590840"/>
                <a:gridCol w="1590480"/>
                <a:gridCol w="1082880"/>
                <a:gridCol w="723600"/>
                <a:gridCol w="15908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09BE-E330-43C7-BF99-D54CD50D37E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double operand instructions (5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memory address TONI to  register R5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X TONI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coding specifies that the CPU must perform the 16-bit data function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X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, the source being the contents of memory address pointed to by (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rc 19:16: X1 + PC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) and the destination being register R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bits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dst 19:16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are stored in the extension word and the value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is stored in the word follow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2286000"/>
          <a:ext cx="9144000" cy="1674720"/>
        </p:xfrm>
        <a:graphic>
          <a:graphicData uri="http://schemas.openxmlformats.org/drawingml/2006/table">
            <a:tbl>
              <a:tblPr/>
              <a:tblGrid>
                <a:gridCol w="395280"/>
                <a:gridCol w="395280"/>
                <a:gridCol w="395280"/>
                <a:gridCol w="398520"/>
                <a:gridCol w="401760"/>
                <a:gridCol w="579240"/>
                <a:gridCol w="1590840"/>
                <a:gridCol w="1590480"/>
                <a:gridCol w="1082880"/>
                <a:gridCol w="723600"/>
                <a:gridCol w="15908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B47A-E9CB-49FE-B111-771DED1D370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double operand instructions (6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memory address TONI to the memory address EDE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X TONI,E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x1FCF – 0x4090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4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3068640"/>
          <a:ext cx="9180360" cy="1676520"/>
        </p:xfrm>
        <a:graphic>
          <a:graphicData uri="http://schemas.openxmlformats.org/drawingml/2006/table">
            <a:tbl>
              <a:tblPr/>
              <a:tblGrid>
                <a:gridCol w="396720"/>
                <a:gridCol w="397080"/>
                <a:gridCol w="398520"/>
                <a:gridCol w="395280"/>
                <a:gridCol w="501480"/>
                <a:gridCol w="723960"/>
                <a:gridCol w="1447920"/>
                <a:gridCol w="868320"/>
                <a:gridCol w="795240"/>
                <a:gridCol w="722520"/>
                <a:gridCol w="253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F1BC-7B8F-4E7A-997E-E6BEEACEE37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double operand instructions (7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memory address TONI to the address memory EDE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X TONI,E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ding specifies that the CPU must perform the 16-bit data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the source being the contents of the memory address pointed to by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rc 19:16: X1 + P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nd the destination being the contents of the memory address pointed to by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: X2 + P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rc 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tored in the extension word and the word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tored in the words follow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2133720"/>
          <a:ext cx="9180360" cy="1676160"/>
        </p:xfrm>
        <a:graphic>
          <a:graphicData uri="http://schemas.openxmlformats.org/drawingml/2006/table">
            <a:tbl>
              <a:tblPr/>
              <a:tblGrid>
                <a:gridCol w="396720"/>
                <a:gridCol w="397080"/>
                <a:gridCol w="398520"/>
                <a:gridCol w="395280"/>
                <a:gridCol w="501480"/>
                <a:gridCol w="723960"/>
                <a:gridCol w="1447920"/>
                <a:gridCol w="868320"/>
                <a:gridCol w="795240"/>
                <a:gridCol w="722520"/>
                <a:gridCol w="253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EE98-7AA5-4D93-9139-B13DEBE9581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ended format II - single operand- instructions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Extended instructions using format II a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1571760" y="1571760"/>
            <a:ext cx="621504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6CA-1ED4-4787-81B9-314FF18583B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ended format II - single operand- instructions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SP430X CPU has some additional capabilities in addition to those of the MSP430 CPU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bility to push/pop several registers on/off the data stack using only a singl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bility to rotate the contents of a register several times during the execution of a single instru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6366-1034-4368-B225-6C0671D92D6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single operand instructions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tate right the 20-bit contents of register R5 with the carry fla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RCX.A   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ruction code: 0x1800 – 0x10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2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ding specifies that the CPU must perform the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RC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using the 20-bit data contents of register R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3141720"/>
          <a:ext cx="9144000" cy="1676520"/>
        </p:xfrm>
        <a:graphic>
          <a:graphicData uri="http://schemas.openxmlformats.org/drawingml/2006/table">
            <a:tbl>
              <a:tblPr/>
              <a:tblGrid>
                <a:gridCol w="517680"/>
                <a:gridCol w="517320"/>
                <a:gridCol w="517680"/>
                <a:gridCol w="517320"/>
                <a:gridCol w="517680"/>
                <a:gridCol w="517320"/>
                <a:gridCol w="517680"/>
                <a:gridCol w="517680"/>
                <a:gridCol w="517320"/>
                <a:gridCol w="1492200"/>
                <a:gridCol w="797040"/>
                <a:gridCol w="704880"/>
                <a:gridCol w="14922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-1/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/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1 0 0 0 0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RC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718D-E30F-4108-9908-C9A96260CC2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single operand instructions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tate right the 20-bit contents of the memory address TONI with carry fla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RCX.A   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ruction code: 0x180F – 0x10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3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ding specifies that the CPU must perform the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RC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using the 20-bit data contents of the memory address pointed to by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: X1 + P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3048120"/>
          <a:ext cx="9145440" cy="167616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6720"/>
                <a:gridCol w="382680"/>
                <a:gridCol w="2698920"/>
                <a:gridCol w="1492200"/>
                <a:gridCol w="769680"/>
                <a:gridCol w="731880"/>
                <a:gridCol w="14922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/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1 0 0 0 0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RC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4B82-640C-4CCA-9ED4-7CC112AB243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single operand instructions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tate right the 20-bit contents of the memory address TONI with carry flag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RCX.A   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ruction code: 0x180F – 0x10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tored in the extension word and the valu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stored in the word followin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124080"/>
          <a:ext cx="9145440" cy="167508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6720"/>
                <a:gridCol w="382680"/>
                <a:gridCol w="2698920"/>
                <a:gridCol w="1492200"/>
                <a:gridCol w="769680"/>
                <a:gridCol w="731880"/>
                <a:gridCol w="14922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/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1 0 0 0 0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RC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C23D-2EDC-4873-ABA3-55AB07C6F33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xploring the addressing modes of the MSP430X architectur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1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in features of the MSP430X CPU architectu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SP430X CPU extends the addressing capabilities of the MSP430 family beyond 64 kB to 1 M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achieve this, some changes have been made to the addressing modes and two new types of instructions have been add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instruction type allows access to the entire address space, and the other is designed for address calcula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SP430X CPU address bus has 20 bits, although the data bus still has 16 bits. Memory accesses to 8-bit, 16-bit and 20-bit data are suppor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spite these changes, the MSP430X CPU remains compatible with the MSP430 CPU, having a similar number of regis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E970-F482-4D83-B297-C045824E075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 Extended single operand instructions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tate right the 20-bit contents of the memory address TONI with carry flag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RCX.A   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cause the instruction operand is located in memory rather than in a CPU register, two words are used to store the operand. The format is shown in the figure below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71680" y="4071960"/>
            <a:ext cx="7500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3E11-6AD5-4A7A-A35E-D3767FA444A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xceptions to the representation of the extended Format II instruction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ore the 20-bit registers R10, R9, R8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SHM.A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3,R1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SH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OP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coded according to the structure given in the figure below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142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1 wo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ding specifies that the CPU must perform the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SH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20-bit registers R10 to R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440" y="4343400"/>
          <a:ext cx="9145440" cy="1006560"/>
        </p:xfrm>
        <a:graphic>
          <a:graphicData uri="http://schemas.openxmlformats.org/drawingml/2006/table">
            <a:tbl>
              <a:tblPr/>
              <a:tblGrid>
                <a:gridCol w="6151320"/>
                <a:gridCol w="1230480"/>
                <a:gridCol w="1763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1 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0 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USHM.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28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7561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BC7E-A699-4652-98FB-66634D89FBE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xceptions to the representation of the extended Format II instruction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2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tate right three times the contents of the 20-bit register R5 with the carry fla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RCM.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3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RC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RA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RU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LA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coded according to the structure given in the figure below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914400" y="4143240"/>
            <a:ext cx="75866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F11F-2143-41EF-9A64-8757846DC13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xceptions to the representation of the extended Format II instruction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3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tate right three times the content of the 20-bit register R5 with the carry flag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RCM.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3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08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1 wo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ding specifies that the CPU must perform the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RC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using the contents of the 20-bit register R5 a total of 3 ti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3048120"/>
          <a:ext cx="9144000" cy="1006200"/>
        </p:xfrm>
        <a:graphic>
          <a:graphicData uri="http://schemas.openxmlformats.org/drawingml/2006/table">
            <a:tbl>
              <a:tblPr/>
              <a:tblGrid>
                <a:gridCol w="2000160"/>
                <a:gridCol w="1320840"/>
                <a:gridCol w="4330800"/>
                <a:gridCol w="14922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R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C015-512F-4B5E-BDC0-231EEC46D1C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xceptions to the representation of the extended Format II instruction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4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erform a branch in the program flo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   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type of instruction can be coded in three different formats, as shown in the figure below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327320" y="3000240"/>
            <a:ext cx="645948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7D4C-0FBD-4889-966B-64EAF438481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xceptions to the representation of the extended Format II instruction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5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erform a branch in the program flow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A   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05C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1 wo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ding specifies that the PC must be loaded with the value in register R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781360"/>
          <a:ext cx="9144000" cy="10065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(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C423-1194-4B4E-AE7C-490A0A1B79B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xceptions to the representation of the extended Format II instruction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6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all a routin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type of instruction can be coded in three different formats, as shown in the figure below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5008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C49F-6F60-4343-89BF-FFD41C4735A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xceptions to the representation of the extended Format II instruction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7/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all a routine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13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1 wo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ding specifies that the PC must be loaded with the value in register R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execution of this instruction saves the PC on the data stack, so the function can return at the end of execution of the rout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2708280"/>
          <a:ext cx="9144000" cy="1006560"/>
        </p:xfrm>
        <a:graphic>
          <a:graphicData uri="http://schemas.openxmlformats.org/drawingml/2006/table">
            <a:tbl>
              <a:tblPr/>
              <a:tblGrid>
                <a:gridCol w="6858000"/>
                <a:gridCol w="2286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1 0 0 1 1 0 1 0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31B9-7A34-456F-80EA-79FF63B624F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ended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mulated instructio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constant generator provide a set of extended emulated instructions, as shown in the following table: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357200" y="1830240"/>
            <a:ext cx="64296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55E5-AA55-4F12-A402-3683C49FF20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SP430X address instructio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dress instructions support 20-bit operands, but they have restrictions on the addressing modes they can us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ist of extended address instruc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2500200" y="2540160"/>
            <a:ext cx="44290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662E-87D8-410A-800C-5B494973DAA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619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rganization of the MSP430X CPU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lthough the MSP430X CPU structure is  similar to that of the MSP430 CPU, there are some differences that will now be highligh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ll the MSP430X registers have 20 bits, with the exception of the Status Register (SR) which has 16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MSP430X CPU can now process 20-bit or 16-bit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xploring the addressing modes of the MSP430 architectur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2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6561000" y="1098720"/>
            <a:ext cx="25005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0A23-73DB-4CF8-910C-ADEE109FDEB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SP430X CPU addressing modes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 with the MSP430 CPU, the MSP430X CPU supports seven addressing modes for the source operand and four addressing modes for the destination operan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oth the MSP430 CPU and MSP430X CPU instructions can be used throughout the 1 MB address spac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 the following sections we will explore the different addressing modes available to the MSP430X CPU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DBAA-0E5B-4C15-920B-43AAE33E3CF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Register mode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is addressing mode is identical to that of the MSP430 CPU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e are three different types of access to the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-bit access (Byte operatio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6-bit access (Word operatio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-bit access (Address-w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instru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X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is the only exception, as the sign of the value is extended to the other bits of the register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3A17-ABB3-4A87-954F-F6565EFAFB0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Register mode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20-bit contents of register R5 to register R4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.A  R5,R4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1800 – 0x45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uses 2 wo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20-bit contents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/W =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/L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of register R5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is transferred to register R4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-reg = 01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2895480"/>
          <a:ext cx="9145440" cy="1824120"/>
        </p:xfrm>
        <a:graphic>
          <a:graphicData uri="http://schemas.openxmlformats.org/drawingml/2006/table">
            <a:tbl>
              <a:tblPr/>
              <a:tblGrid>
                <a:gridCol w="384120"/>
                <a:gridCol w="393840"/>
                <a:gridCol w="388800"/>
                <a:gridCol w="393840"/>
                <a:gridCol w="374400"/>
                <a:gridCol w="381240"/>
                <a:gridCol w="380880"/>
                <a:gridCol w="492120"/>
                <a:gridCol w="1487520"/>
                <a:gridCol w="1487520"/>
                <a:gridCol w="793800"/>
                <a:gridCol w="700200"/>
                <a:gridCol w="1487160"/>
              </a:tblGrid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-1/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4473-B6DC-4585-9FF2-D3BCD4F9994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Register mode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20-bit contents of register R5 to register R4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.A  R5,R4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the execution of the instruction, the PC is incremented by 4 and pointed to the next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ddressing mode used for the source and destination operands is specified by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Register mode) a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s = 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Register m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3" descr=""/>
          <p:cNvPicPr/>
          <p:nvPr/>
        </p:nvPicPr>
        <p:blipFill>
          <a:blip r:embed="rId1"/>
          <a:stretch/>
        </p:blipFill>
        <p:spPr>
          <a:xfrm>
            <a:off x="611280" y="4416480"/>
            <a:ext cx="81010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D8BC-41B0-4B43-9477-DB029231F82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dexed mode can be used in three different situ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exed mode in the memory address space below 64 k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exed mode in the memory address space above 64 k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exed mode using a MSP430X CPU instru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69F3-9B13-4122-9448-F42CA9ACECE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: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low 64 kB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dexed mode in the memory address space below 64 kB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he CPU register Rn points to a memory address located below 64 kB, the address resulting from the sum of the index and the register Rn has the value zero in bits 19:16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ensures that the address is always located in memory below 64 k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3A4A-699B-481C-9771-D01F3900F95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: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low 64 kB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word pointed to by (R5 – 0x30) to the word pointed to by (R4 + 2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 0XFFD0(R5),2(R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45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3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coding specifies that the word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/W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pointed to by the sum of register R5 contents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nd 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hould be moved to the memory address pointed to by the sum of the register R4 cont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1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nd 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315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-3240" y="3086280"/>
          <a:ext cx="9150480" cy="10062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5680"/>
                <a:gridCol w="1525320"/>
                <a:gridCol w="1525680"/>
                <a:gridCol w="1525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15A1-37D7-4891-B9DA-03D59A8C2B9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: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low 64 kB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word pointed to by (R5 – 0x30) to the word pointed to by (R4 + 2)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 0XFFD0(R5),2(R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word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located in the memory addresses following th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ddressing mode used for the source and destination operands is specified by 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Indexed mode)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s = 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Indexed mode), becau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1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spective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this example, bits 19:16 are set to zero when the operand addresses are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alculat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2965-DAFF-4C88-9CB7-67022B2880F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: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low 64 kB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word pointed to by (R5 – 0x30) to the word pointed to by (R4 + 2)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 0XFFD0(R5),2(R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1"/>
          <a:stretch/>
        </p:blipFill>
        <p:spPr>
          <a:xfrm>
            <a:off x="857160" y="2286000"/>
            <a:ext cx="73580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ED7-449B-40CE-9A78-F551623E1CB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: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bove 64 kB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dexed mode in the memory address space above 64 kB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he CPU register Rn points to a memory address above  64 kB, bits 19:16 are used to calculate the operand of the addres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prerequisite is that the operand must be located in the range Rn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32KB, because the index is a signed 16-bit val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side this range, the operand address can overflow or underflow the memory address space below or above th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4 k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he registers now point to a memory address space above 64 kB, bits 19:16 are used to determine the address in the opera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B251-78CB-4E17-AE66-BD08239AAEC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xploring the addressing modes of the MSP430 architectur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3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SP430X CPU has 16 registers, some of which have special us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0 (PC) Program Coun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s the same function as the MSP430 CPU, although now it has 20 b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1 (SP) Stack Poin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s the same function as the MSP430 CPU, although now it has 20 b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2 (SR) Status Regis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s the same function as the MSP430 CPU, but it still has 16 b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FAED-6FE7-45A2-8868-0FF71BD3FFA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: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bove 64 kB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dexed mode in the memory address space above 64 kB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642960" y="1928880"/>
            <a:ext cx="79297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370B-89AD-4FEF-A832-2C6A56F12D5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: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SP430X CPU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dexed mode using a MSP430X CPU instruc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a MSP430X CPU instruction is used in indexed mode, the operand can reside anywhere in the range of addresses  Rn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9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erand address is calculated from the sum of the 20-bit contents of the register Rn and the signed 20-bit inde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1215-C38F-4743-BFED-CCD0FC632B7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: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SP430X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word pointed to by (R5 – 0x30) to the word pointed to by (R4 + 2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 0xFFFD0(R5),2(R4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1FC0 – 0x45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4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3141720"/>
          <a:ext cx="9109080" cy="1676520"/>
        </p:xfrm>
        <a:graphic>
          <a:graphicData uri="http://schemas.openxmlformats.org/drawingml/2006/table">
            <a:tbl>
              <a:tblPr/>
              <a:tblGrid>
                <a:gridCol w="395280"/>
                <a:gridCol w="360360"/>
                <a:gridCol w="431640"/>
                <a:gridCol w="360360"/>
                <a:gridCol w="1008360"/>
                <a:gridCol w="1511280"/>
                <a:gridCol w="1225440"/>
                <a:gridCol w="934920"/>
                <a:gridCol w="792360"/>
                <a:gridCol w="2089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9CAF-9A65-4CB1-AB9C-DFF1C6DC4C5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: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SP430X CPU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word pointed to by (R5 – 0x30) to the word pointed to by (R4 + 2)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 0xFFFD0(R5),2(R4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coding specifies that the word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/W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/L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pointed to by the sum of register R5 cont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nd 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hould be moved to the memory address pointed to by the sum of the register R4 contents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1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nd 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our MSB indices are placed in the extension word of the instruction and the other 16 bits are placed in the words following th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ddressing mode used for the source and destination operands is specified by 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Indexed mode)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s = 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Indexed mode), becau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1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spectiv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6D77-F065-4864-950E-4E1BD8A2C2B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exed mode: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SP430X CPU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word pointed to by (R5 – 0x30) to the word pointed to by (R4 + 2)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 0xFFFD0(R5),2(R4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9" descr=""/>
          <p:cNvPicPr/>
          <p:nvPr/>
        </p:nvPicPr>
        <p:blipFill>
          <a:blip r:embed="rId1"/>
          <a:stretch/>
        </p:blipFill>
        <p:spPr>
          <a:xfrm>
            <a:off x="928800" y="2214720"/>
            <a:ext cx="742932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1E17-E3BB-4E8E-87A5-28AB8D322AC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ymbolic addressing mode uses the register PC to determine the location of the operand based on an index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milar to the previous addressing mode, there are three different ways to use symbolic mode with the MSP30X CPU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mbolic mode in the memory address space below 64 k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mbolic mode in the memory address space above 64 k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mbolic mode using a MSP430X CPU instru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7702-6E34-4701-BE30-2B4DA790BC6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below 64 kB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 in the indexed addressing mode, if the PC register points to a memory address below 64 kB, the bits 19:16 of the address calculated from the sum of the PC register and the signed 16-bit index are set to zero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00200 to the address TONI located at 0x00202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EDEN,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ruction code: 0x40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-1440" y="5084640"/>
          <a:ext cx="9145440" cy="10065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  <a:gridCol w="1525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1C41-4376-4228-BCD1-B5899AC19BA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below 64 kB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00200 to the address TONI located at 0x00202 (cont.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EDEN,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3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decoding specifies that the word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/W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pointed to by the sum of the register PC cont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0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nd 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hould be moved to the memory address pointed to by the sum of the register PC contents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0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nd 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word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tored in the memory addresses following th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ddressing mode used for the source and destination operands is specified by 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Symbolic mode)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s = 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Symbolic mode), becau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0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0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D38E-7284-4DF7-8F12-026C82ABD57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below 64 kB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address the EDEN located at 0x00200 to the address TONI located at 0x00202 (cont.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EDEN,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10" descr=""/>
          <p:cNvPicPr/>
          <p:nvPr/>
        </p:nvPicPr>
        <p:blipFill>
          <a:blip r:embed="rId1"/>
          <a:stretch/>
        </p:blipFill>
        <p:spPr>
          <a:xfrm>
            <a:off x="785880" y="2214720"/>
            <a:ext cx="75722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585C-11A9-4561-A018-41F6177AFA7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above 64 kB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f the PC register points to a memory address above 64 kB, bits 19:16 of the PC are used to calculate the operand addres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operand must be located in the memory rang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C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32 kB, because the index is a signed 16-bit valu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f outside this range, there may be an overflow or underflow in the address space corresponding to memory below 64 kB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201D-6345-4A91-8D03-A67D6FD171D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xploring the addressing modes of the MSP430 architectur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4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2 (SR) Status Regis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on of the SR bi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4500720" y="1071720"/>
            <a:ext cx="4489200" cy="463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/>
          <a:srcRect l="0" t="26785" r="0" b="6276"/>
          <a:stretch/>
        </p:blipFill>
        <p:spPr>
          <a:xfrm>
            <a:off x="4538520" y="5643720"/>
            <a:ext cx="446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0DEE-E794-49C3-8C5E-0F434D75C33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above 64 kB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10200 to register R5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 EDEN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ruction code: 0x4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2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coding specifies that the word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/W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pointed to by the sum of the register PC cont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0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nd 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hould be moved to the register R5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3086280"/>
          <a:ext cx="9145440" cy="10062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5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93D0-99F7-490F-A9D7-1135B802C78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above 64 kB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10200 to register R5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 EDEN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in the memory address following th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ddressing mode used for the source and destination operands is specified by 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Register mode)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s = 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Symbolic mode), becau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0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3BF8-0F55-4DA3-921D-ECC3A41DB44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above 64 kB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10200 to register R5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 EDEN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2741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8D75-7503-46B7-B020-AF03B0B8EEC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MSP430X CPU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en a MSP430X CPU instruction is used in symbolic mode, the operand can be located anywhere in the range of the addresses PC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19 bit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operand address is calculated from the sum of the 20-bit contents of the PC register and the signed 20-bit index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9C03-D2CD-4B0E-9D77-03516808AAB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MSP430X CPU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00200 to register R5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 EDEN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1FC0 – 0x4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is instruction uses 3 word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0" y="3357720"/>
          <a:ext cx="9109080" cy="1676160"/>
        </p:xfrm>
        <a:graphic>
          <a:graphicData uri="http://schemas.openxmlformats.org/drawingml/2006/table">
            <a:tbl>
              <a:tblPr/>
              <a:tblGrid>
                <a:gridCol w="395280"/>
                <a:gridCol w="431640"/>
                <a:gridCol w="360360"/>
                <a:gridCol w="360360"/>
                <a:gridCol w="1368720"/>
                <a:gridCol w="1871640"/>
                <a:gridCol w="863640"/>
                <a:gridCol w="720720"/>
                <a:gridCol w="720720"/>
                <a:gridCol w="2016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 1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mb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533C-8825-4789-96BB-D88C1BCFF8F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MSP430X CPU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00200 to register R5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 EDEN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coding specifies that the CPU must perform the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16-bit data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/W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/L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, from the memory address contents pointed to b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r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9:16:X1 + P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to register R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its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rc 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are stored in the extension word and 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stored in the word following th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ddressing mode used for the source and destination operands is specified by 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Register mode)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s = 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Symbolic mode), becau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0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8A82-30EE-4012-8127-39639184BB4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mbolic mode: MSP430X CPU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00200 to register R5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 EDEN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9" descr=""/>
          <p:cNvPicPr/>
          <p:nvPr/>
        </p:nvPicPr>
        <p:blipFill>
          <a:blip r:embed="rId1"/>
          <a:stretch/>
        </p:blipFill>
        <p:spPr>
          <a:xfrm>
            <a:off x="642960" y="2286000"/>
            <a:ext cx="73580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2DE2-838B-42A0-B89A-3E9F0F1C21C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bsolute mo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bsolute mode uses the word contents following the instruction as the operand addres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e are two different ways to use absolute mode with the MSP30X CPU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solute mode in the memory address space below 64 kB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memory space below 64 kB, this instruction operates in the same way as the MSP430 CP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solute mode using a MSP430X CPU instru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59F8-01DE-4ABB-BB60-75596AC8A75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bsolute mode: MSP430X CPU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f a MSP430X CPU instruction is used with an address in absolute mode, the 20-bit absolute address of the operand is used with an index of zero (generated by the constant generators) to point to the operan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four MSBs of the indices are placed in the extension word of the instruction and the other 16 bits are placed in the words following the instruction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7374-740B-48E5-8F72-88819B32048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bsolute mode: MSP430X CPU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00200 to the address TONI located at 0x00202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   &amp;EDEN,&amp;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1840 – 0x429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4 words;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0" y="3213000"/>
          <a:ext cx="9109080" cy="1676520"/>
        </p:xfrm>
        <a:graphic>
          <a:graphicData uri="http://schemas.openxmlformats.org/drawingml/2006/table">
            <a:tbl>
              <a:tblPr/>
              <a:tblGrid>
                <a:gridCol w="395280"/>
                <a:gridCol w="431640"/>
                <a:gridCol w="432000"/>
                <a:gridCol w="433440"/>
                <a:gridCol w="1506600"/>
                <a:gridCol w="1949400"/>
                <a:gridCol w="936360"/>
                <a:gridCol w="503280"/>
                <a:gridCol w="576360"/>
                <a:gridCol w="1944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/C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ol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ol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/C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D1AE-8E63-4974-96B7-F75BA0221FD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xploring the addressing modes of the MSP430 architectur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5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2 (SR/CG1) and R3 (CG2) Constant Generato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isters R2 and R3 can be used to generate six different constants commonly used in programming, without adding an additional 16-bit word to th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stants are fixed and are selected by the (As) bits of the instruction. (As) selects the addressing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s of const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ed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753000" y="3733920"/>
            <a:ext cx="5391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67F0-D703-48FC-BA04-ACB4FB7A452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bsolute mode MSP430X CPU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00200 to the address TONI located at 0x00202 (cont.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   &amp;EDEN,&amp;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coding specifies that the CPU must perform the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16-bit data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/W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/L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from the memory address contents pointed to by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rc 19:16: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to the memory address contents pointed to b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:X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rc 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tored in the extension wo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word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tored following th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ddressing mode used for the source and destination operands is specified by 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Absolute mode)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s = 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Absolute mode), becau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0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0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1F22-728E-475E-95FD-74EA5930FE3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bsolute mode: MSP430X CPU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tents of the address EDEN located at 0x00200 to the address TONI located at 0x00202 (cont.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   &amp;EDEN,&amp;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Picture 9" descr=""/>
          <p:cNvPicPr/>
          <p:nvPr/>
        </p:nvPicPr>
        <p:blipFill>
          <a:blip r:embed="rId1"/>
          <a:stretch/>
        </p:blipFill>
        <p:spPr>
          <a:xfrm>
            <a:off x="857160" y="2214720"/>
            <a:ext cx="75009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880F-BC32-4109-9902-A6E0F72FC79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irect register mode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direct addressing mode uses the contents of register Rn to point to the 20-bit operan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 can only be used to point to the source operand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operand pointed to by the contents of register R5 to the memory address TONI located at 0x00202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MOVX   @R5,&amp;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1840 – 0x45A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0" y="4653000"/>
          <a:ext cx="9180360" cy="1676520"/>
        </p:xfrm>
        <a:graphic>
          <a:graphicData uri="http://schemas.openxmlformats.org/drawingml/2006/table">
            <a:tbl>
              <a:tblPr/>
              <a:tblGrid>
                <a:gridCol w="395280"/>
                <a:gridCol w="431640"/>
                <a:gridCol w="432000"/>
                <a:gridCol w="490680"/>
                <a:gridCol w="1636560"/>
                <a:gridCol w="1690560"/>
                <a:gridCol w="863640"/>
                <a:gridCol w="576360"/>
                <a:gridCol w="576360"/>
                <a:gridCol w="2087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ol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/C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BBE0-017C-48D7-897A-4F717B37C12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irect register mode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operand pointed to by the contents of register R5 to the memory address TONI located at 0x00202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MOVX   @R5,&amp;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3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coding specifies that the CPU must perform the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16-bit data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/W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/L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, from the memory address contents pointed to by the register R5 to the memory address contents pointed to b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: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tored in the extension wo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word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stored following th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ddressing mode used for the source and destination operands is specified by 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Absolute mode)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s = 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Indirect mode), becau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0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78A9-C694-473D-BBEB-66CE57ECEB8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irect register mode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operand pointed to by the contents of register R5 to the memory address TONI located at 0x00202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MOVX   @R5,&amp;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10" descr=""/>
          <p:cNvPicPr/>
          <p:nvPr/>
        </p:nvPicPr>
        <p:blipFill>
          <a:blip r:embed="rId1"/>
          <a:stretch/>
        </p:blipFill>
        <p:spPr>
          <a:xfrm>
            <a:off x="887400" y="2286000"/>
            <a:ext cx="73278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CCCC-2858-45CE-9942-447FE64544C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irect auto-increment mode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is addressing mode uses the contents of register Rn to point to the 20-bit source operan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register Rn is automatically incremented by 1 for a byte operand, by 2 for a word operand and by 4 for an address operand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F434-AB8C-47F9-B0DF-0C636960A51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irect auto-increment mode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word pointed to by register R5 to the memory address TONI located at 0x00202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@R5+,&amp;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1840 – 0x45B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3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3429000"/>
          <a:ext cx="9180360" cy="1676520"/>
        </p:xfrm>
        <a:graphic>
          <a:graphicData uri="http://schemas.openxmlformats.org/drawingml/2006/table">
            <a:tbl>
              <a:tblPr/>
              <a:tblGrid>
                <a:gridCol w="395280"/>
                <a:gridCol w="431640"/>
                <a:gridCol w="360360"/>
                <a:gridCol w="505080"/>
                <a:gridCol w="1506600"/>
                <a:gridCol w="1660320"/>
                <a:gridCol w="1008000"/>
                <a:gridCol w="720720"/>
                <a:gridCol w="792360"/>
                <a:gridCol w="1800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1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ol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. aut. i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/C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D2FD-08DE-421F-8992-BF341FC79C4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irect auto-increment mode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word pointed to by register R5 to the memory address TONI located at 0x00202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@R5+,&amp;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coding specifies that the CPU must perform the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16-bit data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/W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/L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, from the memory address contents pointed to by the register R5 to the memory address contents pointed to b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: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st 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tored in the extension wo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stored following th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ddressing modes used for the source and destination operands are specified by 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Absolute mode)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s = 1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Indirect auto-increment mode), becau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01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8621-A91F-4FEA-8123-EBD7963688E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direct auto-increment mode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word pointed to by register R5 to the memory address TONI located at 0x00202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@R5+,&amp;TO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10" descr=""/>
          <p:cNvPicPr/>
          <p:nvPr/>
        </p:nvPicPr>
        <p:blipFill>
          <a:blip r:embed="rId1"/>
          <a:stretch/>
        </p:blipFill>
        <p:spPr>
          <a:xfrm>
            <a:off x="857160" y="2286000"/>
            <a:ext cx="73580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0CE7-1F04-4AC1-AFD3-A5FA53878F4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mmediate mo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immediate addressing mode allows constants to be placed after the instruction and use them as source operand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e are two ways to use immediate mo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8-bit or 16-bit constant with a MSP430 CPU instr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eration in this situation is similar to that of the MSP430 CP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20-bit constant with a MSP430X CPU instr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 MSP430X CPU instruction is used in immediate addressing mode, the constant has a 20-bit val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tored in the extension word and the remaining bits are stored following the instru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276F-F858-49F1-8C2C-88DCAD75590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xploring the addressing modes of the MSP430 architectur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6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2 (SR/CG1) and R3 (CG2) Constant Generato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Whenever the operand is one of the six constants, the registers are selected automatical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refore, when used in constant mode, registers R2 and R3 cannot be used as source regis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R4-R15 – General-purpose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Have the same function as in the MSP430 CPU, although they now have 20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se registers can process 8-bit, 16-bit or 20-bit d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byte is written to one of these registers it takes bits 7:0, the bits 19:8 are filled with zero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word is written to one of these registers it takes bits 15:0, the bits 19:16 are filled with zero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9295-BEFC-4EE2-8C17-4F30F141ABE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mmediate mode: MSP430X CPU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stant #0x12345 to register R5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X.A #0x12345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struction code: 0x1880 – 0x407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struction uses 3 wor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240" y="2857680"/>
          <a:ext cx="9105840" cy="1676160"/>
        </p:xfrm>
        <a:graphic>
          <a:graphicData uri="http://schemas.openxmlformats.org/drawingml/2006/table">
            <a:tbl>
              <a:tblPr/>
              <a:tblGrid>
                <a:gridCol w="392040"/>
                <a:gridCol w="504720"/>
                <a:gridCol w="432000"/>
                <a:gridCol w="360360"/>
                <a:gridCol w="1655640"/>
                <a:gridCol w="1368360"/>
                <a:gridCol w="935280"/>
                <a:gridCol w="649080"/>
                <a:gridCol w="719280"/>
                <a:gridCol w="2089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c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st 19: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-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/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-r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0 0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1 0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V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-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me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C5BC-BB49-4484-B4F4-4F0F776445B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mmediate mode: MSP430X CPU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stant #0x12345 to register R5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.A #0x12345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struction coding specifies that the CPU must perform the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using 20-bit data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/W =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/L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, from the loca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rc 19:16: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 register R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rc 19:1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tored in the extension wo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wor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stored following the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ddressing mode used for the source and destination operands is specified by the bit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 =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Register mode)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s = 1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Immediate mode), becau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-reg = 010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-reg = 000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FCDD-7CBD-46C8-B1FA-A607FB9FFBF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mmediate mode: MSP430X CPU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ve the constant #0x12345 to register R5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#0x12345,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Picture 6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7138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60A8-3BDA-4331-BA3B-25FBB6E6C58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xploring the addressing modes of the MSP430 architectur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7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R4-R15 – General-purpose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Handling byte data (8 bits) using the suffix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.B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681120" y="2120760"/>
            <a:ext cx="75564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8T12:38:42Z</dcterms:modified>
  <cp:revision>144</cp:revision>
  <dc:subject/>
  <dc:title>Diapositivo 1</dc:title>
</cp:coreProperties>
</file>