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BADB-25C6-4413-9A97-1D0E65E9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A329-F4FD-427C-8D35-4F67A85B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43BA-FF4D-40AE-BD00-13A80125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3D05C-E790-408A-86A9-BBBE6901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CFE6-E933-4105-AA3E-C3B987CB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E479-5970-481B-9822-8AB3CB27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84A0-1DDE-4345-9797-BB4898C4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5AB3-D946-4195-AD38-63004472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1D2E-D03F-4444-B8CB-1E4A5070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85B2-F8C8-4B44-A870-073683FF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64BE-DC02-48A7-8D1A-30864456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C3784-10C1-4C98-BAD5-CFFA2319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e7e7e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61CE-9E1D-4679-A28A-4B172F2B330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2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Software Development tools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IAR Embedded Workbench™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(3/3) 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2: Creating the new projec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ave A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dialog box specify the location of the project file (newly created projects directory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Project1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in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File nam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box, and click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av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to create the new project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project will appear in th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orkspace window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80149" b="68182"/>
          <a:stretch/>
        </p:blipFill>
        <p:spPr>
          <a:xfrm>
            <a:off x="5724360" y="3068640"/>
            <a:ext cx="302436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869E-7026-4C6E-BEA5-E54189276F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3: Adding files to the projec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In the Workspace window, select the destination to which you want to add a source file (directly to the project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o create new source files, choo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File&gt;New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 and select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Source/Text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hoos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Project&gt;Add File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Locate the file in the CD’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hapter 2 &gt; Lab1_IAR and clic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Open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to add it to the Project1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68229" b="39590"/>
          <a:stretch/>
        </p:blipFill>
        <p:spPr>
          <a:xfrm>
            <a:off x="5832360" y="2108160"/>
            <a:ext cx="326880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F537-4723-4285-B28A-D4DBF6193B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Integrated Development Enviromnen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3 window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Workspace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Project and associates fi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Text editor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Source code file(s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Debug Log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Compilation inform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0" b="4342"/>
          <a:stretch/>
        </p:blipFill>
        <p:spPr>
          <a:xfrm>
            <a:off x="2843280" y="2637000"/>
            <a:ext cx="6113520" cy="366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21C7-386F-4333-8526-50F35F2C85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(1/4)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4: Setting project option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elect the project folder icon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Project1 - Debug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in th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Workspace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window and choos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Project &gt; Option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Target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options page in th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General Option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category is display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etting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MSP430 device: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MSP430FG461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Output file: Executa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Library: CLI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8937" t="18425" r="28937" b="23149"/>
          <a:stretch/>
        </p:blipFill>
        <p:spPr>
          <a:xfrm>
            <a:off x="5672160" y="2421000"/>
            <a:ext cx="3363840" cy="2911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0" t="0" r="68229" b="39590"/>
          <a:stretch/>
        </p:blipFill>
        <p:spPr>
          <a:xfrm>
            <a:off x="2843280" y="3716280"/>
            <a:ext cx="2119320" cy="25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3CD6-E8EE-4D7A-9FBA-11C4F7F8E9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(2/4)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4: Setting project option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elect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C/C++ Compiler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in the Category list to display the compiler option pag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Language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Details specifications for the C language interpret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Code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Code optimization options configur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Output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Output files type configur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List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List files configuration created by the compi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9F70-E6EC-43DE-ABED-E8F4AEABEF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(3/4)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4: Setting project option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8937" t="19134" r="28937" b="22677"/>
          <a:stretch/>
        </p:blipFill>
        <p:spPr>
          <a:xfrm>
            <a:off x="1692360" y="1179360"/>
            <a:ext cx="5832360" cy="50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2F0E-FB87-4B77-BB31-9E5C75BF60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(4/4)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4: Setting project option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elect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Debugger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in the Category list to display the debugger the option pag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imulate in the PC: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Setup -&gt; Simulator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esting the application on the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: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Setup -&gt; FET Debugger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fter choosing one of the options, click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OK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7877" t="19134" r="27756" b="23050"/>
          <a:stretch/>
        </p:blipFill>
        <p:spPr>
          <a:xfrm>
            <a:off x="2844720" y="3411360"/>
            <a:ext cx="3456000" cy="28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707E-3F46-46F0-BD85-F8BBE1A785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(1/2)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5: Compiling and linking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o compile the file Lab1.c, select it in th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Workspace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window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hoos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Project&gt;Compile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progress will be displayed in th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Build message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window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60429" r="74190" b="4252"/>
          <a:stretch/>
        </p:blipFill>
        <p:spPr>
          <a:xfrm>
            <a:off x="4572000" y="3395520"/>
            <a:ext cx="3384720" cy="29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30E9-7F4D-4FE7-8BD9-172E08ED6A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(2/2)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5: Compiling and linking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reation of new directories at th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Debug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directory has been created containing the directories List, Obj, and Ex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List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destination directory for the list files (.ls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Obj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destination directory for the object files (.r43) from the compiler and the assembler (input to the IAR Link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Exe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destination directory for 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xecutable file (.d43) that will 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sed as an input to the IAR Debugg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9590" r="81498" b="56697"/>
          <a:stretch/>
        </p:blipFill>
        <p:spPr>
          <a:xfrm>
            <a:off x="6804000" y="3573360"/>
            <a:ext cx="2155680" cy="241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09AE-E8EC-48C7-9AC3-FF1DF1C2EC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(1/2)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6: Debugging the applicati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70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hoose 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Project &gt; Debug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Workspace configuration is changed to the project execution mod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0" b="4644"/>
          <a:stretch/>
        </p:blipFill>
        <p:spPr>
          <a:xfrm>
            <a:off x="1676520" y="2209680"/>
            <a:ext cx="6980040" cy="416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3E2F-6534-407E-ACEE-2124FB145E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IAR Embedded Workbench™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Setting up a new project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3" action="ppaction://hlinksldjump"/>
              </a:rPr>
              <a:t>Step 1: Creating a workspace wind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Step 2: Creating the new pro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Step 3: Adding files to the pro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6" action="ppaction://hlinksldjump"/>
              </a:rPr>
              <a:t>Step 4: Setting project op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7" action="ppaction://hlinksldjump"/>
              </a:rPr>
              <a:t>Step 5: Compiling and link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8" action="ppaction://hlinksldjump"/>
              </a:rPr>
              <a:t>Step 6: Debugging the applic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9" action="ppaction://hlinksldjump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4016-B25B-4202-BA45-F5A931DAF5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(2/2)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6: Debugging the applicati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Workspace configuration for inspection (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View &gt;)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of the windows of interest to the user: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Disassembly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Hexadecimal format of the memory content interleaved with the C source c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Memory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Memory mapping with several data inspection op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Register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Monitor CPU and SFRs registers in the RA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Watch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Inspect expressions or variab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Locals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Local variables inside a routine or fun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Live Watch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Expressions or real-time monitoring of variab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Call Stack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Stack cont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erminal I/O: Monitoring the I/O ports st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108A4-44F1-4521-B34C-520DF0DC8E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Brief presentation of the IAR EWB ID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Initial overview how to create a project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Recommend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Read and do the tutorials included in the manual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“MSP430 IAR Embedded Workbench™ - IDE User Guide for Texas Instruments’ MSP430 Microcontroller Family”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for a detailed description of the IAR IDE.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9D72-6681-4D8A-A493-1558D56ADF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AR Embedded Workbench™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Kickstart Version (Free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4KB Limit on C code size for 430 devic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8KB Limit on C code size for 430X devic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nlimited assembly language code siz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vailable from MSP430 web p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upported by TI PI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ble to use SimpliciTI libraries in pro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Baseline Version (~$995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12KB Limit on C code siz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nlimited assembler code siz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vailable and supported by I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Full Version (~$2695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nlimited code siz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vailable and supported by I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ll versions support all available MSP430 devic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244800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45CD-348F-462C-8E6F-184B80773B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AR Embedded Workbench™ (2/2)</a:t>
            </a:r>
            <a:r>
              <a:rPr b="1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vailable for a range of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 and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(8, 16 and 32 bits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grated tools in this IDE a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iler IAR MSP430 C/C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embler IAR MSP4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AR XLINK Linker™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AR XAR Library Builder™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xt edi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ject manage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and lines utilit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AR C-SPY™ debugg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ives the us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highly efficient I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ctional workspace methodolog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duced development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209F-6100-4F16-8CCC-F87D552E24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663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IDE uses a methodology based on a workspace concept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Modules can contain one or more project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projects are made up of one or more source code files used to generate the binary file for simulation and/or programming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Before creating a project, a workspace must first be creat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When IAR EWB starts for the first time, it creates a default workspac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6F84-7F10-454C-B73A-B8E2A287D3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(1/2)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1: Creating a workspace window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hoos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File &gt; New &gt; Workspace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Pressing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OK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will display a window with an empty workspac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44294" b="37799"/>
          <a:stretch/>
        </p:blipFill>
        <p:spPr>
          <a:xfrm>
            <a:off x="2987640" y="2314440"/>
            <a:ext cx="5761080" cy="402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C42D-96AA-4DF0-8D4B-EBAB5F59A6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(2/2) 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1: Creating a workspace window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ave workspace: Choos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File &gt; Save Workspace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pecify where th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workspace file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hould be saved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Name: HelloWorld in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File name &gt; Save to create the new workspace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(file extension: .eww)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D5A7-3E77-41BE-B6B4-20D2F82EA3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(1/3) 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2: Creating the new projec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hoos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Project &gt; Create New Project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Create New Project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dialogue box allows a new project to be based on a project templat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elect the project templat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Empty project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(creates an empty project that uses default project settings)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34550" t="26456" r="34550" b="30708"/>
          <a:stretch/>
        </p:blipFill>
        <p:spPr>
          <a:xfrm>
            <a:off x="4788000" y="2965320"/>
            <a:ext cx="3887640" cy="335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0" r="68229" b="39609"/>
          <a:stretch/>
        </p:blipFill>
        <p:spPr>
          <a:xfrm>
            <a:off x="1116000" y="2924280"/>
            <a:ext cx="2847960" cy="33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D558-70FD-4552-9A8D-9332A38101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tting up a new project (2/3) </a:t>
            </a:r>
            <a:br>
              <a:rPr sz="2400"/>
            </a:br>
            <a:r>
              <a:rPr b="1" lang="pt-PT" sz="2000" spc="-1" strike="noStrike">
                <a:solidFill>
                  <a:srgbClr val="dddddd"/>
                </a:solidFill>
                <a:latin typeface="Verdana"/>
              </a:rPr>
              <a:t>Step 2: Creating the new projec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Tool chain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must be set to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MSP430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, and click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OK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34550" t="26456" r="34550" b="30708"/>
          <a:stretch/>
        </p:blipFill>
        <p:spPr>
          <a:xfrm>
            <a:off x="2057400" y="1752480"/>
            <a:ext cx="4956120" cy="427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54F3-6FE8-4689-B6D7-62B7378425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3T18:10:58Z</dcterms:modified>
  <cp:revision>36</cp:revision>
  <dc:subject/>
  <dc:title>Diapositivo 1</dc:title>
</cp:coreProperties>
</file>