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69CB-AE4C-4A89-BC75-47B14C2E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BB69-D011-406D-A2E9-BA214699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0504-A54C-42AB-B8C5-0EAB2EE6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AA9F-356E-4F09-A7BB-B8C298A7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1D89-E900-4DE2-B56A-15B02F75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2794-7E61-4C87-BF4F-0EDF9426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3D598-AB35-4D65-91FD-875762F7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BAD2E-26E8-4734-BA12-5638BF6C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BCE0-17CE-4F4B-8D4F-FECFF600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3DE6-709C-4CD1-A2A3-CDE57B72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54D82-2D89-4D38-A194-4564AA1C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87E1-A36E-43FB-B06B-96F04ECC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e7e7e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B2D1-2857-4534-9F89-AA76AAE0B89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clipseplugincentral.com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2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Software Development Tools</a:t>
            </a:r>
            <a:br>
              <a:rPr sz="3000"/>
            </a:b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Code Composer Essentials v3: Overview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clipse  (4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re are three types of Eclipse communiti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itters: Community responsible for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icial tool’s developmen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ug-in developers: Community which expands the capabilities of the tool through the development of plug-i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rs: Community that uses the tool developed by the two previous communit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908E-3BEC-470B-86BB-E4DD4ADA4E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clipse (5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Code Composer Essentials (CCE) version 3 is based on Eclipse release 3.2 (Callisto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undreds of plug-ins to optimize CC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vailable repository for plug-ins developed for the Eclipse: </a:t>
            </a: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clipseplugincentral.com/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vanced capabiliti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upports all elements of the MSP430 and MSP430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ows use of hardware or software breakpoi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de debugging activities (code step-by-step execution, or fast and efficient access to registers and memory location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lete compatibility between the C programming language syntax us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rge range of code examples is avail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9B6E-16E9-494A-9EAF-AAFDEB8C45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CE Installation (1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utomated installa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Needs some user interaction as to how the program installation should progress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9046" t="27067" r="19452" b="19193"/>
          <a:stretch/>
        </p:blipFill>
        <p:spPr>
          <a:xfrm>
            <a:off x="1908000" y="2708280"/>
            <a:ext cx="547236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4418-840D-43B4-A332-3C82F93004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CE Installation (2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installation process starts with the acceptance of the Software License Agreement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71760" y="2063880"/>
            <a:ext cx="6000480" cy="402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2D29-A5A6-4864-BE05-8B9634A28E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CE Installation (3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stall the software into a local disc directory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 is recommended to accept the directory suggested by the applic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7640" y="2413080"/>
            <a:ext cx="6010560" cy="38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60C1-B6FB-4C13-9D7D-035393F20E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CE Installation (4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wo different installation procedur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ypical installation: Installed with all the default op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ustom installation: Allows user-selection of components.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47640" y="2400480"/>
            <a:ext cx="6010560" cy="39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870F-C6D7-4C79-AF27-7E47046BE5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CE Installation (5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For either type of installation, the installed components are listed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019920" cy="40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63EB-8951-40F7-AB0C-79D23DB57E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 to CCE (1/6)</a:t>
            </a:r>
            <a:br>
              <a:rPr sz="2400"/>
            </a:br>
            <a:r>
              <a:rPr b="1" lang="pt-P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dddddd"/>
                </a:solidFill>
                <a:latin typeface="Verdana"/>
              </a:rPr>
              <a:t>Launching the workbench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Workbench”: IDE containing all tools necessary for the development and management of project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When CCE starts, it asks where to locate the working directory (workspace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is question can be inhibited in future openings of CCE 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o change the location of the workspace in future projects, select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Window &gt; Preference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is menu allows access to the CCE’s preferences configuration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89AC-5975-4C43-8E03-DE8DD2909B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 to CCE (2/6)</a:t>
            </a:r>
            <a:r>
              <a:rPr b="1" lang="pt-PT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dddddd"/>
                </a:solidFill>
                <a:latin typeface="Verdana"/>
              </a:rPr>
              <a:t>Launching the workbench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63640" y="1255680"/>
            <a:ext cx="5553000" cy="498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FDECA-80D9-4BC9-8DF9-1795AAD974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 to CCE (3/6)</a:t>
            </a:r>
            <a:br>
              <a:rPr sz="2400"/>
            </a:br>
            <a:r>
              <a:rPr b="1" lang="pt-P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dddddd"/>
                </a:solidFill>
                <a:latin typeface="Verdana"/>
              </a:rPr>
              <a:t>Launching the workbench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CCE’s start and stop can be configured in the </a:t>
            </a:r>
            <a:r>
              <a:rPr b="1" i="1" lang="pt-PT" sz="2000" spc="-1" strike="noStrike" u="sng">
                <a:solidFill>
                  <a:srgbClr val="000000"/>
                </a:solidFill>
                <a:uFillTx/>
                <a:latin typeface="Verdana"/>
              </a:rPr>
              <a:t>General &gt; Start and Shutdown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op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organization of the different configuration options is related to the modules install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ome time should be spent here, opening the various options and identifying where to set general aspects of the tool such a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General appearan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di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hortcut key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tc…</a:t>
            </a: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A715-9D6E-478A-A366-070C61FC03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MSP430 Integrated Development Environments (IDEs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Code Composer Essentials (CCE) v3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Eclip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CCE instal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Introduction to CC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Launching the workben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7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8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B1D8-4756-4CB4-BD53-7AF10DA9F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 to CCE (4/6)</a:t>
            </a:r>
            <a:br>
              <a:rPr sz="2400"/>
            </a:br>
            <a:r>
              <a:rPr b="1" lang="pt-P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dddddd"/>
                </a:solidFill>
                <a:latin typeface="Verdana"/>
              </a:rPr>
              <a:t>Launching the workbench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fault project construction perspectiv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erspective concept is important for the correct understanding of CCE oper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vides that for a given task, there is an organization of windows that best suit the user, appropriate to its realiz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ging perspective involves reformulating the workspace for a new Windows configuration that promotes the development of particular tas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are two major persp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/C++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for editing, management and compilation of projec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bu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for debugging the appli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CD51-1823-4051-B400-5C53D96078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 to CCE (5/6)</a:t>
            </a:r>
            <a:br>
              <a:rPr sz="2400"/>
            </a:br>
            <a:r>
              <a:rPr b="1" lang="pt-P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dddddd"/>
                </a:solidFill>
                <a:latin typeface="Verdana"/>
              </a:rPr>
              <a:t>Launching the workbench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/C++ perspective window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/C++ Projec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facilitates management of the projec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dito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allows editing of fi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utlin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allows viewing of da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so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allows the console to send messag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blem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highlights problems found in the pro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1DB8-B747-47BE-9150-2DA0B9D1D2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 to CCE (6/6)</a:t>
            </a:r>
            <a:br>
              <a:rPr sz="2400"/>
            </a:br>
            <a:r>
              <a:rPr b="1" lang="pt-P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dddddd"/>
                </a:solidFill>
                <a:latin typeface="Verdana"/>
              </a:rPr>
              <a:t>Launching the workbench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bug perspective window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Debug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provides information concerning the debug proces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Editor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allows editing of fi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Variables/Expressions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allows the evaluation of variables and expressions during debu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onsole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allows the console to send messag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Registers/Breakpoints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allows the evaluation of register registers contents and to define code breakpoi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Disassembly/Memory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 allows evaluation of the assembly code and memory map usag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790C-682A-4873-954C-7A1BCDF140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SP430 IDEs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in characteristics of the MSP430 Integrated Development Environments (IDEs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vailable both from TI and third partie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ecial attention will be given to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de Composer Essentials v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AR Embedded Workbench (EWB) 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ing an I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ic func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 by step project develop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 and management (source files; compiling, assembling and linking operations) of projects developed both in C and/or Assembly langu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3D4F-E50A-40BB-AA70-B14035AADA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SP430 IDEs 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 range of software tools are available for the generation of MSP430 source co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ode Composer Essentials (T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IAR EWB - Kickstart ed. (IAR System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rossStudio (Rowley Associat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MSPGCC (</a:t>
            </a:r>
            <a:r>
              <a:rPr b="0" i="1" lang="pt-PT" sz="2000" spc="-1" strike="noStrike">
                <a:solidFill>
                  <a:srgbClr val="000000"/>
                </a:solidFill>
                <a:latin typeface="Verdana"/>
              </a:rPr>
              <a:t>open-source comunity)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wiftX (Forth, Inc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HI-TECH (HI-TECH softwar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NSI C (ImageCraf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roject-430 (Phyton, Inc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Q430 (Quadravo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08720" y="3573360"/>
            <a:ext cx="1657440" cy="876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58436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27912" t="30533" r="28252" b="29414"/>
          <a:stretch/>
        </p:blipFill>
        <p:spPr>
          <a:xfrm>
            <a:off x="7380360" y="1773360"/>
            <a:ext cx="1552680" cy="88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55F9-E9E3-4F24-9BC9-9D665250A4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de Composer Essentials v3 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663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I’s MSP430 I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 is available a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free upgrade for existing v2 user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fessional version ($499), the main features be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limited code siz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ordered from the MSP430 web p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rted by TI Software Supp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valuation Version (Fre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6 kB Limit on C/ASM code siz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wnload from MSP430 web p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rted by TI Software Supp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16560" y="1112760"/>
            <a:ext cx="2783160" cy="16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CC05-A980-4180-B962-222D3889DC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de Composer Essentials v3  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ew features inclu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e 16 kB code-limited vers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rt for large memory model (Place data &gt;64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hanced Compatibility with IAR C-co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pragm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ISR declarations), most intrinsic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DB Debugger replaced by TI proprietary debugger that allows faster single steppin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rdware Multiplier libraries (16 bits and 32 bit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CE v2 project support (auto conver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reakpoi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EM support via unified breakpoint manag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of Enhanced Emulation Module (EEM), with predefined Use Cas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limited Breakpoi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437D-1EA7-4F70-95C3-0DC160F96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clipse (1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lipse is a software development platform, built in Java, which allows it to be used on different operating system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in feature: fully based on plug-ins, which gives it great versatility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ol originally developed by IBM, with considerable financial resources, and afterwards, released to the Open Source community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 is one of the most universal software development tool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rge number of institutions, whether public or private, support its development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CAC2-213D-4E03-AD5D-83A6C63091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clipse (2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typical release of Eclipse comes with the components needed for the development of JAVA applications (JDT - Java Development Tools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ther plug-ins are also part of the default version, the most important being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current Version System (CVS): For control of code versions in prod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ug-in Development Environment (PDE): Relevant for those who want to expand the functionality of the IDE through plug-i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Unit: Framework for code validation and t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51DEA-98C3-40FE-A2F9-27DFC46A1F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clipse  (3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lipse allows the development of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ava applica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ther programming languages, by installing their plug-ins or, alternatively, choosing a release that already includes the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ug-in CDT (C/C++ Development Tools) enables the development of C/C++ c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ther extensions for Python or Cobol programming langua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modular feature of Eclipse encourages its use as a basis for rapid and effective development of other tool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ng a common platform, the learning curve is rapid and simultaneously provides the reuse of modules already developed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3CB9-5573-4670-B99C-E2005ED03D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3T18:09:57Z</dcterms:modified>
  <cp:revision>73</cp:revision>
  <dc:subject/>
  <dc:title>Diapositivo 1</dc:title>
</cp:coreProperties>
</file>