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0.wmf" ContentType="image/x-wmf"/>
  <Override PartName="/ppt/media/image11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B923-77D2-43BA-B213-71F005C1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BB108-3294-403B-AE52-926FE566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1686-DD5D-447B-B253-C4B78413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EDCBC-AE6D-4526-B757-9B771A72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2C890-2E69-4901-8918-1595F4FA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9342-4BB4-4C98-996B-73CA377A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CEDB-6D14-4A20-8825-0572CD34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D59ED-D139-4634-ABC2-61F12705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B9401-5332-4765-8014-2AEA6FD3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7D9F-87B0-4CA7-A80E-99C4234A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6A9FB-689A-4A73-84F5-55DDDD62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6F24-9659-4CE5-B026-E966A8BC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7e7e7e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9145-3CAB-43D3-A7CE-C8243B549AD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&gt;&gt; </a:t>
            </a:r>
            <a:r>
              <a:rPr b="0" lang="pt-PT" sz="12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" Target="slide33.xml"/><Relationship Id="rId5" Type="http://schemas.openxmlformats.org/officeDocument/2006/relationships/slide" Target="slide41.xml"/><Relationship Id="rId6" Type="http://schemas.openxmlformats.org/officeDocument/2006/relationships/slide" Target="slide45.xml"/><Relationship Id="rId7" Type="http://schemas.openxmlformats.org/officeDocument/2006/relationships/slide" Target="slide47.xml"/><Relationship Id="rId8" Type="http://schemas.openxmlformats.org/officeDocument/2006/relationships/slide" Target="slide58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hapter 5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Device Systems and Operating Mode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1000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900" spc="-1" strike="noStrike">
                <a:solidFill>
                  <a:srgbClr val="ffffff"/>
                </a:solidFill>
                <a:latin typeface="Verdana"/>
              </a:rPr>
              <a:t>MSP430 Teaching Material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60400" y="422100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67640" y="4365720"/>
            <a:ext cx="752400" cy="723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67690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exas Instruments Incorporat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niversity of Beira Interior (P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Pedro Dinis Gaspar, António Espírito Santo, Bruno Ribeiro, Humberto San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University of Beira Interior, Electromechanical Engineering Departmen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msp430.ubi.p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92360" y="1684440"/>
            <a:ext cx="5724360" cy="4552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2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SP430x2x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sic Clock+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91A91-BD75-4AF1-B525-DF58C1CA95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3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SP430x4x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quency Locked Loop (FLL+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or two oscillators (depending on the devic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pable of working with external crystals or resonator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digitally controlled oscillator (DCO), adjusted and controlled by hardwa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ynchronized to a high-frequency internal clock from a low frequency external oscillat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5FC93-BA71-439A-B14A-2A659AB5A7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4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SP430x4x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LL+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0" y="1052640"/>
            <a:ext cx="3859200" cy="53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7563B-E1F5-410E-95B6-EE8847D46B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5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clock sources from these oscillators can be selected to generate different clock signal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ster cloc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MCLK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nerated by DCO (bu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also be fed by the crystal oscillator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tivate and stable in less than 6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d by the CPU and high-speed periphera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ubsystem main cloc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SMCLK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d as alternative clock source for periphera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uxiliary cloc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ACLK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TC self wake-up function from low power modes (32.768 kH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ways fed by the crystal oscillat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ch clock can be internally divided by a factor of 1, 2, 4 or 8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A2402-6316-46F4-AA0C-EC881AB8F5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6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ow/High frequency oscillator (LFXT1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plemented in all MSP430 devic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d with eith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-frequency 32.768 kHz watch crystals (RTC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 crystals, resonators, or external clock sources in range 450 kHz to 8 MHz (16 MHz in 2xx family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erating mode selection (one bit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(=0) -&gt; LF clo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(=1) -&gt; HF clo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XTS: located at the BCSCTL1 register (2xx famil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XTS_FLL: located at the FLL_CTL0 register (4xx family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CF1F-CBB6-4659-94FB-4023F7D6A1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7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4963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cond crystal oscillator (XT2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urces of XT2CLK and its characteristics are identical to LFXT1 in HF mode (range 450 kHz to 8 MHz, or 16 MHz in the 2xx famil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ad capacitance for the high frequency crystal or resonator must be provided external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is oscillator can be disabled by the XT2OFF bi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BCSCTL1 register in 2xx fami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FLL_CTL1 register in 4xx family (if XT2CLK is unused for source the MCLK and SMCLK clock signal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18B6C-B61D-43B3-989A-C9C11930A1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8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gitally-controlled oscillator (DCO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grated ring oscillator with RC-type characteristic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vide a wide, software-controllable frequency ran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CO frequency is synchronized to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L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quency modulation method provided by FLL functionalit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xx famil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es not have full FLL functionalit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CO generates an internal signal (DCOCLK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2096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ammed internally or externally (DCOR bi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2096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led by a resistor connected to the R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OS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i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4C5F-B99B-4311-BA29-600572D481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9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xx famil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CO control bi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SELx: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DC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ange sele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COx: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DC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efined by the RSEL bits. The step size is defined by the parameter SDC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Dx: Modulation bits select how often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DC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RSEL, DCO+1) is used within the period of 32 DCOCLK cyc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requency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DC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RSEL, DCO) is used for the remaining cyc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ecific frequency ranges and values vary by devi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330280" y="5383080"/>
                <a:ext cx="65707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O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SEL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CO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O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SEL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CO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O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SEL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CO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D</m:t>
                            </m:r>
                          </m:e>
                        </m: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O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SEL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CO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D303-70E3-4920-BDD4-A0C518772A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10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xx famil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sic Clock Module+ (BCM+) registers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COCTL: DCO Control Regi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2284560"/>
          <a:ext cx="9144000" cy="6094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79280" y="3432240"/>
          <a:ext cx="8713800" cy="909720"/>
        </p:xfrm>
        <a:graphic>
          <a:graphicData uri="http://schemas.openxmlformats.org/drawingml/2006/table">
            <a:tbl>
              <a:tblPr/>
              <a:tblGrid>
                <a:gridCol w="588960"/>
                <a:gridCol w="924120"/>
                <a:gridCol w="7200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crete DCO frequency selection step (depends on RSELx bits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ator sele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5F74-DAEE-42D8-9D82-8D3F8406E9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11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xx famil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sic Clock Module+ (BCM+) registers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CSCTL1: Basic Clock System Control Reg.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2349360"/>
          <a:ext cx="9145440" cy="631800"/>
        </p:xfrm>
        <a:graphic>
          <a:graphicData uri="http://schemas.openxmlformats.org/drawingml/2006/table">
            <a:tbl>
              <a:tblPr/>
              <a:tblGrid>
                <a:gridCol w="1212840"/>
                <a:gridCol w="1276200"/>
                <a:gridCol w="1046160"/>
                <a:gridCol w="1308240"/>
                <a:gridCol w="1308240"/>
                <a:gridCol w="1122120"/>
                <a:gridCol w="936720"/>
                <a:gridCol w="934920"/>
              </a:tblGrid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SEL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0" y="231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3068640"/>
          <a:ext cx="9144000" cy="3274920"/>
        </p:xfrm>
        <a:graphic>
          <a:graphicData uri="http://schemas.openxmlformats.org/drawingml/2006/table">
            <a:tbl>
              <a:tblPr/>
              <a:tblGrid>
                <a:gridCol w="617400"/>
                <a:gridCol w="1498680"/>
                <a:gridCol w="7027920"/>
              </a:tblGrid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 oscillator faul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 = 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 normal op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 = 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 fault cond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XT1 oscillator operating mod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S = 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 mode (low frequenc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S = 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F mode (high frequenc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LK frequency divide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A1 DIVA0 = 0 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A1 DIVA0 = 0 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A1 DIVA0 = 1 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A1 DIVA0 = 1 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SEL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ge select. Sixteen different frequency ranges are availabl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0" y="53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3ADBC-413B-46D0-863B-A5AC34BF9A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2" action="ppaction://hlinksldjump"/>
              </a:rPr>
              <a:t>Internal system res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3" action="ppaction://hlinksldjump"/>
              </a:rPr>
              <a:t>System clock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Interrupt manag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Watchdog Tim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6" action="ppaction://hlinksldjump"/>
              </a:rPr>
              <a:t>Supervisory voltage syste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7" action="ppaction://hlinksldjump"/>
              </a:rPr>
              <a:t>Low-power operating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9999"/>
                </a:solidFill>
                <a:uFillTx/>
                <a:latin typeface="Verdana"/>
                <a:hlinkClick r:id="rId8" action="ppaction://hlinksldjump"/>
              </a:rPr>
              <a:t>Qui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B720D-CEC3-4ECC-87B1-C9F191378E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12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xx famil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sic Clock Module+ (BCM+) registers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CSCTL2: Basic Clock System Control Reg.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-3240" y="2381400"/>
          <a:ext cx="9150480" cy="942840"/>
        </p:xfrm>
        <a:graphic>
          <a:graphicData uri="http://schemas.openxmlformats.org/drawingml/2006/table">
            <a:tbl>
              <a:tblPr/>
              <a:tblGrid>
                <a:gridCol w="1194480"/>
                <a:gridCol w="1260360"/>
                <a:gridCol w="968040"/>
                <a:gridCol w="1325520"/>
                <a:gridCol w="216000"/>
                <a:gridCol w="1127880"/>
                <a:gridCol w="1105920"/>
                <a:gridCol w="1039320"/>
                <a:gridCol w="91296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S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-3240" y="3048120"/>
          <a:ext cx="9147240" cy="3240000"/>
        </p:xfrm>
        <a:graphic>
          <a:graphicData uri="http://schemas.openxmlformats.org/drawingml/2006/table">
            <a:tbl>
              <a:tblPr/>
              <a:tblGrid>
                <a:gridCol w="617760"/>
                <a:gridCol w="1498320"/>
                <a:gridCol w="70311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M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CLK source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M1 SELM0 = 0 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M1 SELM0 = 0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M1 SELM0 = 1 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M1 SELM0 = 1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XT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M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CLK frequency divider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M1 DIVM0 = 0 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M1 DIVM0 = 0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M1 DIVM0 = 1 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M1 DIVM0 = 1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MCLK source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S =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S =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S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MCLK frequency divider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S1 DIVS0 = 0 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S1 DIVS0 = 0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S1 DIVS0 = 1 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VS1 DIVS0 = 1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 resistor selector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R =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ernal resis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R =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ternal resis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5B200-1534-4610-8A12-817184AC1D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13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xx famil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sic Clock Module+ (BCM+) registers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CSCTL3: Basic Clock System Control Reg.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-4680" y="2421000"/>
          <a:ext cx="9155160" cy="546120"/>
        </p:xfrm>
        <a:graphic>
          <a:graphicData uri="http://schemas.openxmlformats.org/drawingml/2006/table">
            <a:tbl>
              <a:tblPr/>
              <a:tblGrid>
                <a:gridCol w="1189080"/>
                <a:gridCol w="1258920"/>
                <a:gridCol w="1204920"/>
                <a:gridCol w="1081080"/>
                <a:gridCol w="1290600"/>
                <a:gridCol w="1101600"/>
                <a:gridCol w="1035000"/>
                <a:gridCol w="99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S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XT1S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CAP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XT1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-4680" y="9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4680" y="2971800"/>
          <a:ext cx="9148680" cy="3343320"/>
        </p:xfrm>
        <a:graphic>
          <a:graphicData uri="http://schemas.openxmlformats.org/drawingml/2006/table">
            <a:tbl>
              <a:tblPr/>
              <a:tblGrid>
                <a:gridCol w="617400"/>
                <a:gridCol w="1498680"/>
                <a:gridCol w="7032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S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 range select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S1 XT2S0 = 0 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4 – 1 M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S1 XT2S0 = 0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– 3 M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S1 XT2S0 = 1 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 – 16 M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S1 XT2S0 = 1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4 – 16-MHz (Digital extern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XT1S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-frequency clock select and LFXT1 range select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S=0: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S=1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XT1S1 LFXT1S0 = 0 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768 Hz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4 - 1-M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XT1S1 LFXT1S0 = 0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erved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- 3-M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XT1S1 LFXT1S0 = 1 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OCLK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 - 16-M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XT1S1 LFXT1S0 = 1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ternal      0.4 - 16-M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CAP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scillator capacitor selection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CAP1 XCAP0 = 0 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~1 p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CAP1 XCAP0 = 0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~6 p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CAP1 XCAP0 = 1 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~10 p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CAP1 XCAP0 = 1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~12.5 p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 oscillator fault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F =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 fault cond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F =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ult cond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XT1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XT1OF oscillator fault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XT1OF =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 fault cond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XT1OF =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ult cond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3CE6-B457-4DDF-837E-B90ACF0970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14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xx famil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CO generates the signal: (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DCOCL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=ACLK x D x (N+1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COPLUS bit sets the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DCOCL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frequency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99548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DC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99548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DC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/D: The FLLDx bits configure D=1, 2, 4 or 8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y default, DCOPLUS = 0, D = 2 provid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99548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DC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/2 on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DCOCL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99548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ultiplier (N+1) and D set the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DCOCL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99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COPLUS = 0: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DCOCL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(N + 1) x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ACL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COPLUS = 1: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DCOCL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D x (N + 1) x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ACL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DC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ange selected by FNx bits (register SCFI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7D932-B83C-428B-B845-B94CDD638D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15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requency Locked Loop (FLL) - 4xx family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tomatically modulates the DCO frequenc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reater precision and contro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xes the programmed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DC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th the next higher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DC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pe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CO signal is divided by D and divided by N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ignal obtained is continuously applied to the count down input of a 10-bit up/down counter (frequency integrat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LK (LFXT1) is applied to the count up input of the coun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unter output is fed back to the DCO modulator, correcting and synchronizing the operating frequenc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utput of the frequency integrator can be read in SCFI1 and SCFI0 register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unt is adjusted by +1 each ACLK (xtal) period, by -1 each period of the divided DCO sig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FE0A-9F97-48E5-9E87-CB9CAEB8C3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16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requency Locked Loop (FLL) - 4xx famil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9 f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DC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aps are set by 5 of the integrator bits, SCFI1 bits 7 to 3 (28, 29, 30, and 31 are equivalen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ch tap is approximately 10% higher than the previou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odulator mixes two adjacent DCO frequencies to produce fractional tap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CFI1 register bits 2 to 0 and SCFI0 register bits 1 to 0 are used for the digital modulat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ethod of FLL can be described as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witching between the two most close neighbour frequencies to our frequency asked for to achieve the frequency requested as a time-weighted average of both frequencies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CC6D7-9277-4E0F-87BB-B213978E01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17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requency Locked Loop (FLL) - 4xx famil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FLL+ clock module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CFQCTL: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ystem Clock Control Register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2058840"/>
          <a:ext cx="9145440" cy="546120"/>
        </p:xfrm>
        <a:graphic>
          <a:graphicData uri="http://schemas.openxmlformats.org/drawingml/2006/table">
            <a:tbl>
              <a:tblPr/>
              <a:tblGrid>
                <a:gridCol w="1212840"/>
                <a:gridCol w="1276200"/>
                <a:gridCol w="1046160"/>
                <a:gridCol w="1308240"/>
                <a:gridCol w="1308240"/>
                <a:gridCol w="1122120"/>
                <a:gridCol w="936720"/>
                <a:gridCol w="934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CFQ_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3519360"/>
          <a:ext cx="9144000" cy="1760760"/>
        </p:xfrm>
        <a:graphic>
          <a:graphicData uri="http://schemas.openxmlformats.org/drawingml/2006/table">
            <a:tbl>
              <a:tblPr/>
              <a:tblGrid>
                <a:gridCol w="617400"/>
                <a:gridCol w="1506600"/>
                <a:gridCol w="702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CFQ_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ation contro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CFQ_M = 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 modulation enab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CFQ_M = 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 modulation dis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 frequency multiplier facto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PLUS = 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CLK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(N +1) f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ys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PLUS = 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CLK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= D (N +1) f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ys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015E-67C9-48E8-B843-85A96D5B17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18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requency Locked Loop (FLL) - 4xx famil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FLL+ clock module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CFI0: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System Clock Frequency Integrator Reg. 0</a:t>
            </a:r>
            <a:r>
              <a:rPr b="1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2162160"/>
          <a:ext cx="9145440" cy="546120"/>
        </p:xfrm>
        <a:graphic>
          <a:graphicData uri="http://schemas.openxmlformats.org/drawingml/2006/table">
            <a:tbl>
              <a:tblPr/>
              <a:tblGrid>
                <a:gridCol w="1212840"/>
                <a:gridCol w="1278000"/>
                <a:gridCol w="1046160"/>
                <a:gridCol w="1307880"/>
                <a:gridCol w="1308240"/>
                <a:gridCol w="1122480"/>
                <a:gridCol w="936360"/>
                <a:gridCol w="9334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N_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x (LSB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0" y="2997360"/>
          <a:ext cx="9144000" cy="3127320"/>
        </p:xfrm>
        <a:graphic>
          <a:graphicData uri="http://schemas.openxmlformats.org/drawingml/2006/table">
            <a:tbl>
              <a:tblPr/>
              <a:tblGrid>
                <a:gridCol w="617400"/>
                <a:gridCol w="1506600"/>
                <a:gridCol w="702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D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+ feedback loop f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CLK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divide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D1 FLLD0 = 0 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D1 FLLD0 = 0 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D1 FLLD0 = 1 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D1 FLLD0 = 1 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141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N_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r>
                        <a:rPr b="0" lang="en-GB" sz="14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perating rang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00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65 – 6.1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00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3 – 12.1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01x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0 – 17.9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1xx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8 – 26.6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xxx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2 – 46.0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SB modulator bits modified by the FLL+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26FFF-EFA9-49DB-B1E1-A9F358977E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19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requency Locked Loop (FLL) - 4xx famil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FLL+ clock module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CFI1: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ystem Clock Frequency Integrator Reg. 1</a:t>
            </a:r>
            <a:r>
              <a:rPr b="1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451240"/>
          <a:ext cx="9144000" cy="54612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x (MSB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3500280"/>
          <a:ext cx="9144000" cy="909720"/>
        </p:xfrm>
        <a:graphic>
          <a:graphicData uri="http://schemas.openxmlformats.org/drawingml/2006/table">
            <a:tbl>
              <a:tblPr/>
              <a:tblGrid>
                <a:gridCol w="617400"/>
                <a:gridCol w="1506600"/>
                <a:gridCol w="702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 tap selection modified by the FLL+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SB modulator bits modified by the FLL+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9B0C6-5805-4D61-B55D-63C18D2EA5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20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requency Locked Loop (FLL) - 4xx famil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FLL+ clock module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FLL_CTL0: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LL+ Control Register 0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2276640"/>
          <a:ext cx="9145440" cy="545760"/>
        </p:xfrm>
        <a:graphic>
          <a:graphicData uri="http://schemas.openxmlformats.org/drawingml/2006/table">
            <a:tbl>
              <a:tblPr/>
              <a:tblGrid>
                <a:gridCol w="1212840"/>
                <a:gridCol w="1276200"/>
                <a:gridCol w="1046160"/>
                <a:gridCol w="1308240"/>
                <a:gridCol w="1308240"/>
                <a:gridCol w="1122120"/>
                <a:gridCol w="936720"/>
                <a:gridCol w="934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PL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S_F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CAPxP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1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2997360"/>
          <a:ext cx="9144000" cy="3314520"/>
        </p:xfrm>
        <a:graphic>
          <a:graphicData uri="http://schemas.openxmlformats.org/drawingml/2006/table">
            <a:tbl>
              <a:tblPr/>
              <a:tblGrid>
                <a:gridCol w="617400"/>
                <a:gridCol w="1497240"/>
                <a:gridCol w="70293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PL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31f20"/>
                          </a:solidFill>
                          <a:latin typeface="Verdana"/>
                          <a:ea typeface="Times New Roman"/>
                        </a:rPr>
                        <a:t>DCO output pre-divide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PLUS = 0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Divider en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PLUS = 1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Divider dis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S_F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XT1 oscillator operating mode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S_FLL = 0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LF mode (low frequenc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S_FLL = 1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HF mode (high frequenc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CAPxP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XT1 oscillator load capacitance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CAP1PF XCAP0PF = 0 0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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 p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CAP1PF XCAP0PF = 0 1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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6 p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CAP1PF XCAP0PF = 1 0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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8 p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CAP1PF XCAP0PF = 1 1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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0 p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 oscillator fault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 = 0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XT2 normal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 = 1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XT2 fault cond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1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F mode LFXT1 oscillator fault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1OF = 0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LFXT1 normal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1OF = 1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LFXT1 fault cond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 mode LFXT1 oscillator fault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OF = 0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LFXT1 normal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OF = 1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LFXT1 fault cond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 oscillator fault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F = 0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DCO normal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F = 1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DCO fault cond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6E74C-9A88-4775-A89A-C144CB899C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21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requency Locked Loop (FLL) - 4xx famil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FLL+ clock module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FLL_CTL1: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LL+ Control Register 0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2133720"/>
          <a:ext cx="9145440" cy="546120"/>
        </p:xfrm>
        <a:graphic>
          <a:graphicData uri="http://schemas.openxmlformats.org/drawingml/2006/table">
            <a:tbl>
              <a:tblPr/>
              <a:tblGrid>
                <a:gridCol w="1212840"/>
                <a:gridCol w="1276200"/>
                <a:gridCol w="984240"/>
                <a:gridCol w="1370160"/>
                <a:gridCol w="1308240"/>
                <a:gridCol w="1122120"/>
                <a:gridCol w="936720"/>
                <a:gridCol w="934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MCLK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M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_DIV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0" y="14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2924280"/>
          <a:ext cx="9144000" cy="3290760"/>
        </p:xfrm>
        <a:graphic>
          <a:graphicData uri="http://schemas.openxmlformats.org/drawingml/2006/table">
            <a:tbl>
              <a:tblPr/>
              <a:tblGrid>
                <a:gridCol w="617400"/>
                <a:gridCol w="1497240"/>
                <a:gridCol w="702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MCLK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MCLK disable: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MCLKOFF = 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MCLK en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MCLKOFF = 1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MCLK di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 disable: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F = 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 en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OFF = 1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 di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M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CLK source: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M1 SELM0 = 0 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M1 SELM0 = 0 1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M1 SELM0 = 1 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M1 SELM0 = 1 1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FX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MCLK source: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S = 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S = 1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_DIV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LK frequency divider: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_DIV_0 = 0 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1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_DIV_1 = 0 1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_DIV_2 = 1 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L_DIV_3 = 1 1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4A47-8D0C-4B40-8033-61ED0B5466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scription of the internal devices and systems of the MSP430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t includes descriptions of th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system res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ock sourc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rupt managem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-power operating mod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Quiz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4C748-C89E-485E-AACD-3394BED181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22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ernal clock signal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2xx family clock system = the basic clock module+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port for a 32768 Hz watch crystal oscillat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very-low-power low-frequency oscillat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digitally-controlled oscillator (DCO) stable &lt;1 μ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CM+ provides the following clock signal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xiliary clock (ACLK), sourced either fro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718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2768 Hz watch cryst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718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oscillator LFXT1CLK in LF mode with an internal load capacitance of 6 pF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7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in clock (MCLK), the system clock used by the CPU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b-Main clock (SMCLK), the sub-system clock used by the peripheral modu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9530B-C354-4F08-A91A-57253E20DBA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23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ernal clock signal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Both MCLK and SMCLK are sourced from DCOCLK at      ~1.1 MHz but can be sourced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up to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16 MHz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xx DCO calibration data (in flash info memory segment 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5120" y="3078000"/>
          <a:ext cx="8697960" cy="2367000"/>
        </p:xfrm>
        <a:graphic>
          <a:graphicData uri="http://schemas.openxmlformats.org/drawingml/2006/table">
            <a:tbl>
              <a:tblPr/>
              <a:tblGrid>
                <a:gridCol w="2175120"/>
                <a:gridCol w="2174760"/>
                <a:gridCol w="2173320"/>
                <a:gridCol w="2174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 frequ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libration regi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LBC1_1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LBC0_1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10FF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10FE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LBC1_8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LBC0_8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10FD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10F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LBC1_12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LBC0_12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10FB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10F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LBC1_16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LBC0_16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10F9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10F8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CEA7-3CAE-40B1-B314-057230F85F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24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ernal clock signal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ectrical characteristics vary over the recommended supply voltage range of between 2.2 V and 3.6 V. Higher DCO frequencies require higher supply volta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ypical characteristics in active mode supply current for the (2xx family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93880" y="2852640"/>
            <a:ext cx="7710480" cy="348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E211-3AEC-4A1D-91C8-D167708D0B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6A28-FBE4-4755-9409-9B32B437C6D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8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terrupt management (1/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errup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e events applied to the application program that force a detour in program flow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use CPU subprogram execution (IS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Interrupt Service Routine (ISR) ends, the program flow returns to the previous st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are three classes of interrup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8400" indent="-381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8400" indent="-381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rupts not maskable by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GI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8400" indent="-381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terrupts maskable by GI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57352-DC98-4061-BB02-D2931B385B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Marcador de Posição do Número do Diapositivo 5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0650-9E9B-4F48-83AF-1A9F8FA82C9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Marcador de Posição do Rodapé 6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8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terrupt management (2/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interrupts are used to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ow a CPU fast response to a specific ev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oiding continuous polling for rare eve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nimal disruption to the processing of other task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GIE-maskable interrupts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f both peripheral interrupt enable bit and GIE are set, when an interrupt is requested, it calls the ISR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interrupt latency ti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 between the event beginning and the ISR execu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rupt latency time starts with acceptance of IR and counting until starting of first instruction of IS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C4CA-CF37-44EF-B2DD-83C9CE44CBA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terrupt management (3/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uring an interrupt even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C of the next instruction and the SR are pushed onto the sta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terwards, the SR is cleared with exception of SCG0, along with the appropriate interrupt, disabling interrupts (reset the GIE flag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ther ISRs will not be call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RETI instruction at the end of the ISR will return to the original program flow, automatically popping the SR and PC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nsure tha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SR processing time is less than the interrupt’s request time interv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avoid stack overflow -&gt; application program collap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886A2-B9BD-49DF-9B0D-9406F278F0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292720" y="3252960"/>
            <a:ext cx="3851280" cy="3025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terrupt management (4/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ypes of interrupts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ernal and external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rupts not maskable by GIE: (non)-maskable interrupts (NM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rupts maskable by GI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rupts priority (The nearer a module is to the CPU/NMIRS, the higher the priority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E24C1-F9A9-4EE6-8163-89BFB7C9AC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terrupt management (5/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ypes of interrupts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ernal and external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in differences between non-maskable and maskable interrup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-maskable interrupts cannot be disabled by the GIE bit of the SR. Used for high priority events e.g. emergency shutdow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skable interrupts are recognized by the CPU’s interrupt control, so the GIE bit must be set. Can be switched off by softw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ystem reset interrupts (Oscillator/Flash and the Hard Reset) are treated as highest priority non-maskable interrupts, with their own interrupt v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DB553-4CA5-4BF1-89F0-F84AC5E4647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terrupt management (6/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ypes of interrupts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ernal and external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on Maskable Interrup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68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t masked by GI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68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abled by individual interrupt enable bi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68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pend on the event sour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6320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MII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Non-Maskable Interrupts Interrupt Enab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0672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ST/NMI is configured in NMI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0672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DTNMIES bit generates an NM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0672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ST/NMI flag NMIIFG is also 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63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6320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CCVI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ACCess Violation to the flash memory Interrupt Enab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0672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lash ACCVIFG flag is 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63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6320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FI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Oscillator Fault Interrupt Enab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0672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signal can be triggered by a PUC sig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FBF8-39B3-4317-A536-068EEA9C81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terrupt management (7/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ypes of interrupts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ernal and external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on Maskable Interrup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ACCVIE (2xx family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CV=1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CCVIFG=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CCVIFG=1 and ACCVIE=1 (set by software)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NMIRS=1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45416"/>
          <a:stretch/>
        </p:blipFill>
        <p:spPr>
          <a:xfrm>
            <a:off x="2160720" y="3068640"/>
            <a:ext cx="4787640" cy="32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5F14-EDF7-491D-818E-3AE014B10E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ystem reset (1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MSP430 families make use of two independent reset signal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rdware reset signal - POR (Power On Rese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ftware reset signal – PUC (Power Up Clea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fferent events determine which one of the reset signals is generated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ources that can generate a PO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itial device power u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 signal at the reset pin (RST/NMI) when this is configured in reset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 signal at the supervisory voltage system (SVS) when the register bit PORON is hig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388C-AEF9-4D2A-AA3A-F474D79387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terrupt management (8/8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ypes of interrupts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ernal and external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by GIE) Maskable Interrup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ipherals with interrupt capability or the watchdog timer overflow in interval timer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dividual enable/disable flag, located in peripheral registers or in the individual modu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be disabled by resetting the GIE bit in SR, either by software or by hardware/interrupt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C24A-31F5-44C3-855A-9ACCB138001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atchdog timer (WDT and WDT+)  (1/4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16-bit WDT module can be used i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upervision mo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sure the correct working of the software applic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form a PU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nerate an interrupt request after the counter overflow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erval tim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dependent interval timer to perform a “standard” interrupt upon counter overflow periodical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pper counter (WDTCNT) is not directly accessible by softwa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 and the interval time selecting WDTCTL regis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DTCNT: clock signal ACLK or SMCLK (WDTSSEL bi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75402-E06B-41B9-B5D9-5842D0F5D8A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atchdog timer (WDT and WDT+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WDT control is performed through th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WDTCTL, Watchdog Timer Control Register, WDTCT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ight MSBs (WDTPW): Password function, read as 0x69h, write as 0x5Ah unless the user want to force a PUC from softw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-1440" y="2738520"/>
          <a:ext cx="9148680" cy="546120"/>
        </p:xfrm>
        <a:graphic>
          <a:graphicData uri="http://schemas.openxmlformats.org/drawingml/2006/table">
            <a:tbl>
              <a:tblPr/>
              <a:tblGrid>
                <a:gridCol w="1249200"/>
                <a:gridCol w="1103400"/>
                <a:gridCol w="1103400"/>
                <a:gridCol w="1104840"/>
                <a:gridCol w="1104840"/>
                <a:gridCol w="1104840"/>
                <a:gridCol w="1104840"/>
                <a:gridCol w="12733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ad with the value 0x69h,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PW write with the value 0x5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6C8EA-CD8E-4D9E-A86A-AD1151A34FC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atchdog timer (WDT and WDT+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WDT control is performed through th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WDTCTL, Watchdog Timer Control Register, WDTCT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Eight LSBs: WDT config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240" y="2421000"/>
          <a:ext cx="9140760" cy="546120"/>
        </p:xfrm>
        <a:graphic>
          <a:graphicData uri="http://schemas.openxmlformats.org/drawingml/2006/table">
            <a:tbl>
              <a:tblPr/>
              <a:tblGrid>
                <a:gridCol w="1190520"/>
                <a:gridCol w="1278000"/>
                <a:gridCol w="1030320"/>
                <a:gridCol w="1278000"/>
                <a:gridCol w="1276200"/>
                <a:gridCol w="1131840"/>
                <a:gridCol w="978120"/>
                <a:gridCol w="977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NM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N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TM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CNT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S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I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IS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3068640"/>
          <a:ext cx="9144000" cy="3282840"/>
        </p:xfrm>
        <a:graphic>
          <a:graphicData uri="http://schemas.openxmlformats.org/drawingml/2006/table">
            <a:tbl>
              <a:tblPr/>
              <a:tblGrid>
                <a:gridCol w="601560"/>
                <a:gridCol w="1473480"/>
                <a:gridCol w="70689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HO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31f20"/>
                          </a:solidFill>
                          <a:latin typeface="Verdana"/>
                          <a:ea typeface="Times New Roman"/>
                        </a:rPr>
                        <a:t>WDT hold when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WDTHOLD = 1. Useful for energy econom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NM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ect the NMI interrupt edge when WDTNMI = 1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NMIES = 0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NMI on rising ed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NMIES = 1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NMI on falling ed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N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ect the RST/NMI pin function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NMI = 0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Reset fun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NMI = 1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NMI fun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TMS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ect the WDT mode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TMSEL = 0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Supervision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TMSEL = 1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Interval timer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CNT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 counter clear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CNTCL = 0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No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CNTCL = 1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Counter initialization at 0x0000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SS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ect the WDT clock signal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SSEL = 0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SMCL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SSEL =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ACL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IS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ect the WDT timer interval: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IS1 WDTIS0 = 0 0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Clock signal / 327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IS1 WDTIS0 = 0 1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Clock signal / 8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IS1 WDTIS0 = 1 0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Clock signal / 5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DTIS1 WDTIS0 = 1 1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Clock signal / 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5E65-2CC5-4E4F-863E-F518E60A38B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atchdog timer (WDT and WDT+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WDT uses two bits in the Special Function Registers (SFRs) for interrupt control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68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DTI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WDT interrupt enable (IE1.0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6320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ables the WDTIFG interrupt for interval timer mode when WDTIE=1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63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68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DTIF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WDT interrupt flag (IFG1.0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6320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Supervision mod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0672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DTIFG sources a reset vector interrup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0672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WDTIFG=1, the WDT initiates the reset condition (detectable reset sourc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06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6320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Interval mod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0672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DTIFG set after the selected time interval and requests a WDT interval timer interrup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0672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DTIE and GIE bits s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0672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DTIFG reset automatically (also can be reset by softwar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8CE5-212C-431C-8413-2CADF9303D4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upervisory Voltage System (SVS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sed to monito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upply volta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ternal voltage (located at the SVSIN inpu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hen AV</a:t>
            </a:r>
            <a:r>
              <a:rPr b="1" lang="en-GB" sz="2000" spc="-1" strike="noStrike" baseline="-15000">
                <a:solidFill>
                  <a:srgbClr val="000000"/>
                </a:solidFill>
                <a:latin typeface="Verdana"/>
              </a:rPr>
              <a:t>C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or SVSIN drops below selected threshold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s a flag generating an interrup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nerates a system reset (PO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s disabled after a BOR to conserve current consumptio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VS featur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 of SVS comparator accessible by softwa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-voltage condition latched (accessible by softwar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4 selectable threshold level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ternal channel to monitor external volt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59363-4D3D-4332-A4BC-882A388748C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upervisory Voltage System (SVS)  (2/2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VS control performed b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SVSCTL, SVS Control Regist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" y="1844640"/>
          <a:ext cx="9140760" cy="546120"/>
        </p:xfrm>
        <a:graphic>
          <a:graphicData uri="http://schemas.openxmlformats.org/drawingml/2006/table">
            <a:tbl>
              <a:tblPr/>
              <a:tblGrid>
                <a:gridCol w="1190520"/>
                <a:gridCol w="1278000"/>
                <a:gridCol w="1030320"/>
                <a:gridCol w="1278000"/>
                <a:gridCol w="1276200"/>
                <a:gridCol w="1131840"/>
                <a:gridCol w="978120"/>
                <a:gridCol w="977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V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VS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VS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2708280"/>
          <a:ext cx="9144000" cy="3646440"/>
        </p:xfrm>
        <a:graphic>
          <a:graphicData uri="http://schemas.openxmlformats.org/drawingml/2006/table">
            <a:tbl>
              <a:tblPr/>
              <a:tblGrid>
                <a:gridCol w="615960"/>
                <a:gridCol w="1503360"/>
                <a:gridCol w="70246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oltage level detect.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D3 VLD2 VLD1 VLD0 = 000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VS is 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D3 VLD2 VLD1 VLD0 = 0001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9 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D3 VLD2 VLD1 VLD0 = 001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1 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D3 VLD2 VLD1 VLD0 = 1101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5 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D3 VLD2 VLD1 VLD0 = 111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7 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LD3 VLD2 VLD1 VLD0 = 1111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VSIN to 1.25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n PORON = 1 enables the SVSFG flag to cause a POR device re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V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is bit reflects the status of SVS operation, being set (SVSON=1) when the SVS is 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VS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is bit reflects the output value of the SVS comparator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VSOP = 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SVS comparator output is 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VSOP = 1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SVS comparator output is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VS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n SVSFG=1 a low voltage condition occ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0" y="620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07F4-336E-44F4-81B1-DCA50B92AB2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ow power operating modes (1/11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ne of the main features of the MSP430 famili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 power consumption (about 1 mW/MIPS or les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portant in battery operated embedded syste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ow power consumption is only accomplished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ng low power operating modes desig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pends on several factors such 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ock frequenc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mbient temperatur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ply volta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ipheral selec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put/output usa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mory typ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6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20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3F0F-CBB9-48D4-AE50-A21545CF4ED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ow power operating modes (2/11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ow power modes (LPM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 operating mod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d by the SR bits: CPUOFF, OSCOFF, SCG1, SCG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ctive mode (AM) - highest power consump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d by disabling the SR bits described abov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PU is activ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enabled clocks are activ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urrent consumption: 250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oftware selection up to 5 LPM of oper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pe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terrupt event can wake up the CPU from any LP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 the interrupt reque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tore back to the LP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20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5061-22BA-4258-8E5B-D2F53DC3FA0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ow power operating modes (3/11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ow power modes (LPM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Example: Typical current consumption (41x family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6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20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11360" y="1989000"/>
            <a:ext cx="7719840" cy="426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B6B6-C465-4F78-B494-41C25189926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reset (2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ources that can generate a PUC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tive POR sign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atchdog timer (WDT) expired when it is configured in supervision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lash memory access control registers security key viol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84360" y="3029040"/>
            <a:ext cx="4535640" cy="329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286F6-F8FA-44E5-90CD-B7F2CF019E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ow power operating modes (4/11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ow power modes (LPM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43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20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1604880"/>
          <a:ext cx="9144000" cy="3006720"/>
        </p:xfrm>
        <a:graphic>
          <a:graphicData uri="http://schemas.openxmlformats.org/drawingml/2006/table">
            <a:tbl>
              <a:tblPr/>
              <a:tblGrid>
                <a:gridCol w="1908000"/>
                <a:gridCol w="935280"/>
                <a:gridCol w="865080"/>
                <a:gridCol w="876240"/>
                <a:gridCol w="628920"/>
                <a:gridCol w="628560"/>
                <a:gridCol w="606240"/>
                <a:gridCol w="719280"/>
                <a:gridCol w="627120"/>
                <a:gridCol w="552240"/>
                <a:gridCol w="797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rr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 bits config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lock sign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scill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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[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PU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SC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C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CG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L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MCL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CL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C ge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-power mode 0 (LPM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-power mode 1 (LP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-power mode 2 (LPM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-power mode 3 (LPM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-power mode 4 (LPM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3631320" y="4867920"/>
            <a:ext cx="50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*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CO’s DC generator is enabled if it is used by peripher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EBA4-F23F-45FF-87F7-3F6362933E0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ow power operating modes (5/11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ow power modes (LPM) characteristic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PM0 to LPM3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iodic processing based on a timer interrup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PM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Both DCO source signal and DCO’s DC gen.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PM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PM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Main difference between them is the condition of enable/disable the DCO’s DC generat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PM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DCO’s DC generator is active and DCO is disabl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PM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Only the ACLK is active (&lt; 2 μ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PM4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ternally generated interrup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clocks are active and available for periphera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duced current consumption (0.1 μ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20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7EA99-8440-48D6-867D-0886B7028C8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ow power operating modes (6/11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gram flow step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nter Low-power mo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68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able/disable CPUOFF, OSCOFF, SCG0, SCG1 bits in S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68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PM is active after writing to S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68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PU will suspend the program execu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68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abled peripheral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6320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erating with any disabled clo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6320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dividual control register setting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63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68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I/O port pins and RAM/registers are unchang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68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ake up is possible through any enabled interrup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20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6036-B7BE-4097-B145-B70797D2441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ow power operating modes (7/11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gram flow step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 enabled interrupt event wakes the MSP4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nter IS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erating mode is saved on the stack during IS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C and SR are stored on the sta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rupt vector is moved to the P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PUOFF, SCG1, and OSCOFF bits are automatically reset, enabling normal CPU opera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G flag cleared on single source flag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turning from the IS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riginal SR is popped from the stack, restoring the previous operating 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R bits stored in the stack are modified returning to a different operating mode after RETI instru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20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02185-4BBD-4B2E-8620-0D81DEDBBEE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ow power operating modes (8/11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Examples of applications development using the MSP430 with and without low power modes consideration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620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916280"/>
          <a:ext cx="9142560" cy="4466880"/>
        </p:xfrm>
        <a:graphic>
          <a:graphicData uri="http://schemas.openxmlformats.org/drawingml/2006/table">
            <a:tbl>
              <a:tblPr/>
              <a:tblGrid>
                <a:gridCol w="3046320"/>
                <a:gridCol w="3048120"/>
                <a:gridCol w="3048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am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ithout low power m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ith low power m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ggling the bit 0 of port 1 (P1.0) periodic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dless 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100 % CPU lo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PM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tchdog timer interru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to transmit the received message at a 9600 baud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ling UART rece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100 % CPU lo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ART receive interru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0.1 % CPU lo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81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t/reset during a time interval, periodically, of the peripheral connected to the bit 2 of port 1 (P1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dless 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100 % CPU lo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tup output 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Zero CPU lo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er manage external devices like Op-A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utting the OPA Quiesc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Average current: 1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utdown the Op-Amp between data acqui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Average current: 0.06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er manage internal devices like Comparato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ways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Average typical current: 35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able Comparator A between data acqui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pond to button-press interrupt in P1.0 and toggle LED on P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dless 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100 % CPU lo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ing LPMs while the LED is switch off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PM3: 1.4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PM4: 0.3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figure unused ports in output dir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1 interrupt service rout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0" y="529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AE43-AFB9-464C-8103-38D90F5EBE8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ow power operating modes (9/11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ules of thumb for the configuration of LP applica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tended ultra-low power standby mode. Maximize LPM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nimum active duty cyc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formance on-dema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interrupts to control program flow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lace software with on chip peripheral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 the power of external devic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unused pins properly, setting them as outputs to avoid floating gate curr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20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529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A0BEC-1281-483E-AF47-B448D2D4DA4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ow power operating modes (10/11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ules of thumb for LP applications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-power efficient coding techniqu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timize program flow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CPU registers for calculations and dedicated variab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ame code size for word or by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word operations whenever possib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the optimizer to reduce code size and cyc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local variable (CPU registers) instead of global variables (RA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bit mask instead of bit field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20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529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BDE19-9B9A-41B3-A758-B8D8A89BFFA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ow power operating modes (11/11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ules of thumb for LP applications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-power efficient coding techniqu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unsigned data types where possib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pointers to access structures and un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“static const” class to avoid run-time copying of structures, unions, and array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oid modul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oid floating point operation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unt down “for” loop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short IS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620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29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2A585-65A1-40D0-A1A6-52F79646E49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 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. The operating mode of the MSP430 i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Determined by the program counter (PC) regis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Determined by the state of the CPU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Determined by four control bits in the status register (S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All of abo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The MSP430 clock system control registers of the 2xx family hardware development tools (eZ430-F2013 and eZ430-RF2500) ar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Registers R4 to R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Register BCSCTL1, BCSCTL2 and DCOCT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Registers SCFQCTL, SCFI0, SCFI1 and FLL_CTL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Registers R13, R14 and R1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20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29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1DA3-80FB-48F4-9EBB-4327739AD0A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 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. If the XTS bit in the BCSCTL1 control register is enabled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The LFXT1 oscillator in the clock system can operate with a high-frequency cryst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The LFXT1 oscillator is OFF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The LFXT1 oscillator in the clock system can operate with a low-frequency cryst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The XT2 oscillator is enabl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. When the SELS bit in the FLL_CTL1 control register of the MSP430FG4618 is rese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The DCOCLK is OFF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The SMCLK is divided by 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The source for the SMCLK clock is LFXT1 oscillat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The source for the SMCLK clock is DCOCL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20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529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AED04-08FE-435E-8D2D-C1286B4FFBD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reset (3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dition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rdware reset signal (POR) is active th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R is res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C is loaded with the address in location 0FFFEh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ipheral registers all enter their power up st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ftware reset signal (PUC) is active th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R is res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C is loaded with either the reset vector (0FFFEh), or the PUC source interrupt vect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ly some peripheral registers are reset by PU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77F4-9013-402E-B357-96B4C2B3AD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 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In the MSP430, when the watchdog timer control bit WDTTMSEL is se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The watchdog timer is an interval t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The watchdog timer is inactiv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Clears the watchdog timer coun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Restarts the watchdog tim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6. The 16 bit WDTCTL control register must hav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All its high byte bits at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A 0x069h value in the high byte when WDTCTL is read and a 0x05Ah password must be written in the high byte to write to WDTC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A 0x05Ah password in the high byte to read and write to WDTC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All its bits of the high byte are 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-144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620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529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DA809-85B2-47F6-A3AE-B46D6554F44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 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9280" y="119520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sw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(c) Determined by four control bits in the status register (S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(b) Register BCSCTL1, BCSCTL2 and DCOCT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(a) The LFXT1 oscillator in the clock system can operate with a high-frequency cryst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. (d) The source for the SMCLK clock is DCOCL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. (a) The watchdog timer is an interval tim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. (b) A 0x069h value in the high byte when WDTCTL is read and a 0x05Ah password must be written in the high byte to write to WDTC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-144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-7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00" y="4204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693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620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529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00CD5-DF18-4D8D-8068-DC0C044DFE6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reset (4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ll 2xx and 4xx MSP430 devices possess a reset circuit by power source disturbance identified by Brown Out Reset (BOR)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is circuit is an enhanced POR syste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cludes a hysteresis circui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Device stays in reset mode until voltage is higher than the upper threshold (VB_IT+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BOR takes 2 msec to be inactive and allow the program execution by CPU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When voltage falls below the lower threshold (VB_IT-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BOR circuit will generate a reset sign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uspends processor operation until the voltage rises up above the lower threshold inferior value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016B-A058-4F18-9728-61B5F4E209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reset (5/5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Brownout timing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79440" y="1557360"/>
            <a:ext cx="6583320" cy="483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FBF2-B0BC-425C-A1B2-B1943DECE3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ystem clocks (1/2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llows the CPU and peripherals to operate from different clock source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system clocks depend on the device in the MSP430  famil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SP430x2x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asic Clock Module+ (BCM+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e or two oscillators (depending on the devic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pable of working with external crystals or resonator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digitally controlled oscillator (DCO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orking frequency to up 16 MHz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er power consump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er internal oscillator start-up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6F56-D5EA-45B2-8A95-7E200CCB24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17:19Z</dcterms:created>
  <dc:creator>Dinis</dc:creator>
  <dc:description/>
  <dc:language>en-US</dc:language>
  <cp:lastModifiedBy>Universidade Beira Interior</cp:lastModifiedBy>
  <dcterms:modified xsi:type="dcterms:W3CDTF">2009-02-16T17:27:21Z</dcterms:modified>
  <cp:revision>70</cp:revision>
  <dc:subject/>
  <dc:title>Diapositivo 1</dc:title>
</cp:coreProperties>
</file>