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680C-3DCA-439F-9C8D-86955AEE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E614-76E2-41A4-8D43-C008EB95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E4A8-C422-43AA-92F5-376DF4A6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FD62-16DA-42B3-8F6C-5C343437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633A-BBD3-4981-9E5C-54818805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B55C-A571-489C-80E9-A3976A05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4024-9BC5-47B0-8220-FAF57379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330B-7FC2-4C10-90A6-0A0C27D8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2F61-A1AB-4DEA-8CA6-D5101E27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6CC4-B78A-45A9-865A-04CEDA66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AC09-518D-4D26-888A-EDAC04A7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903F4-75A1-469A-927F-007B41A7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e7e7e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4142-8588-4E7D-9607-8219D102AA1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9.xml"/><Relationship Id="rId5" Type="http://schemas.openxmlformats.org/officeDocument/2006/relationships/slide" Target="slide23.xml"/><Relationship Id="rId6" Type="http://schemas.openxmlformats.org/officeDocument/2006/relationships/slide" Target="slide41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8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LCD Controller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CD_A Controller Operation (5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Bias Generation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910400" cy="471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FE7B4-2896-4769-A774-B83C05302E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CD_A Controller Operation (6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Bias Gen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rnal fractional LCD biasing voltages, V2 − V5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XT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rnal equally weighted resistor divider (100 k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     1 M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CDEXT = 0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voltage is sourced from the internal charge pump, with R33 providing a switched-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ut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wise (VLCDEXT = 1), R33 provides a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03EXT = 1: V5 is sourced external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5CBE-94B0-4F36-8966-4BD61A9F9B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CD_A Controller Operation (7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Bias Gen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bias genera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LCD2B = 1, supports 1/2 bias LC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LCD2B = 0, supports 1/3 bias LCDs in 2-mux, 3-mux, and 4-mux modes. In static mode, the internal divider network is disabl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LCD devices that share the LCDCAP, R33, and R23 functions, the charge pump cannot be used with an external resistor divider using 1/3 biasin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R03 is not available externally, V5 is always set to A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DD84-9610-4235-BB5A-7F71F6ED7C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 Modes (1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controller supports 4 types of LCD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i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MSP430 segment pin dr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LCD seg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common line driven by COM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city to drive 32 seg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-mux, 1/2 bias (or 1/3 bia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MSP430 segment pin dr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LCD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common lines driven by COM0 and COM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city to drive 64 seg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B60B-63DE-47D6-BA24-7D82B0D8BD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 Modes (2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controller supports 4 types of LCD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-mux, 1/3 bias (or 1/2 bia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MSP430 segment pin dr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95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LCD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common lines driven by COM0, COM1, and COM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city to drive 90 seg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-mux, 1/3 bias (or 1/2 bia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MSP430 segment pin dr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956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ur LCD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ur common lines driven by COM0, COM1, COM2, and COM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city to drive 120 seg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ABDE-30CE-46DD-803E-42196237AB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049" t="0" r="0" b="61802"/>
          <a:stretch/>
        </p:blipFill>
        <p:spPr>
          <a:xfrm>
            <a:off x="539640" y="3697200"/>
            <a:ext cx="4405320" cy="2673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 Modes (3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ic LC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pin for each seg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pin for the backpla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 contrast rati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rge number of pi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41201" r="0" b="0"/>
          <a:stretch/>
        </p:blipFill>
        <p:spPr>
          <a:xfrm>
            <a:off x="4648320" y="1371600"/>
            <a:ext cx="3848040" cy="30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B82A-AC21-45AD-AF36-6DEBAB2C27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28780" r="8462" b="7560"/>
          <a:stretch/>
        </p:blipFill>
        <p:spPr>
          <a:xfrm>
            <a:off x="4859280" y="1216080"/>
            <a:ext cx="4276800" cy="5021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 Modes (4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-mux LC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Reduced pin cou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LCD segments multiplex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atrix of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wo common pins (COM0 and COM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2-mu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26229" t="1151" r="16749" b="75601"/>
          <a:stretch/>
        </p:blipFill>
        <p:spPr>
          <a:xfrm>
            <a:off x="731880" y="3789360"/>
            <a:ext cx="355284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F923-645B-4F1E-9106-6637C18085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2600" t="31227" r="2514" b="0"/>
          <a:stretch/>
        </p:blipFill>
        <p:spPr>
          <a:xfrm>
            <a:off x="5029200" y="1066680"/>
            <a:ext cx="3649680" cy="4916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 Modes (5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-mux LC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 segment pin to dr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3 LCD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3 common lines (COM0 to COM2)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3-mux, 1/3 b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30202" t="0" r="9456" b="70803"/>
          <a:stretch/>
        </p:blipFill>
        <p:spPr>
          <a:xfrm>
            <a:off x="1116000" y="3429000"/>
            <a:ext cx="3456000" cy="27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F312-10B1-46AE-9B57-281A0FAC1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12600" t="28717" r="0" b="4536"/>
          <a:stretch/>
        </p:blipFill>
        <p:spPr>
          <a:xfrm>
            <a:off x="5029200" y="1143000"/>
            <a:ext cx="3757680" cy="4772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 Modes (6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-mux LC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 segment pin to dr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 LCD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 common lines (COM0 to COM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4-mux, 1/3 b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1815" t="756" r="9513" b="70652"/>
          <a:stretch/>
        </p:blipFill>
        <p:spPr>
          <a:xfrm>
            <a:off x="1116000" y="3656160"/>
            <a:ext cx="336060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3E40-2B79-4704-8459-5D4E1EFF8D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_A Controller Registers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ACTL, LCD_A Control Regist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3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96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53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920" y="2133720"/>
            <a:ext cx="9109080" cy="45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3B06-1792-4ADC-AB06-21AE07E564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LCD Controller Introdu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LCD_A Controller Oper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LCD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LCD_A Controller Registe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Laboratory 4: LCD Message Displa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E5E6-55CA-4B07-AEB2-6B84A6D9F1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_A Controller Registers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APCTL1, LCD_A Port Control Register 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APCTL0, LCD_A Port Control Register 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49544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013120"/>
            <a:ext cx="9144000" cy="1199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3656160"/>
            <a:ext cx="9144000" cy="92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0" y="4195800"/>
          <a:ext cx="9144000" cy="2185920"/>
        </p:xfrm>
        <a:graphic>
          <a:graphicData uri="http://schemas.openxmlformats.org/drawingml/2006/table">
            <a:tbl>
              <a:tblPr/>
              <a:tblGrid>
                <a:gridCol w="795240"/>
                <a:gridCol w="1311480"/>
                <a:gridCol w="70372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S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 Segment 28 to 31 En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S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 Segment 24 to 27 En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S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 Segment 20 to 23 En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S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 Segment 16 to 19 En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S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 Segment 12 to 15 En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S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 Segment 8 to 11 En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S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 Segment 4 to 7 En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 Segment 0 to 3 En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1990-7D88-43D3-89A3-E4151690DD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_A Controller Registers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AVCTL0, LCD_A Voltage Control Register 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92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08000" y="2060640"/>
            <a:ext cx="7524720" cy="47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9FC3-4551-444B-BD78-C2D7CE81D9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LCD_A Controller Registers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CDAVCTL1, LCD_A Voltage Control Register 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9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2276640"/>
          <a:ext cx="9143640" cy="4010040"/>
        </p:xfrm>
        <a:graphic>
          <a:graphicData uri="http://schemas.openxmlformats.org/drawingml/2006/table">
            <a:tbl>
              <a:tblPr/>
              <a:tblGrid>
                <a:gridCol w="794160"/>
                <a:gridCol w="1315080"/>
                <a:gridCol w="703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-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ge pump voltage selec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000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ab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000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2.60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001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2.66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001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2.72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010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2.78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010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2.84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011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2.90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011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2.96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100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3.02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100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3.08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101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3.14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101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3.20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110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3.26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110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3.32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111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3.38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CD3 VLCD2 VLCD1 VLCD0 = 111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C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3.44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71E0-408E-44AC-8DC7-E484DB0C7B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ummar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utilises the MSP430FG4618 LCD_A controller supplied with the Experimenter’s boa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application performs a demonstration of the LCD, activating the various LCD seg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CD display on the Experimenter’s board does not have its own LCD controll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operation is provided by MSP430FG461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terface between these two components is described in the Experimenter’s Board datashe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23A8-105D-411F-9BD0-7A9C3DA960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nections between the MSP430FG4618 and the Softbaugh LCD SBLCDA4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35280" y="2743200"/>
            <a:ext cx="5452920" cy="334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A177-BEED-4A79-A494-8E2AC4A587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3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ftbaugh LCD SBLCDA4 segments description.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2063880"/>
            <a:ext cx="3897360" cy="428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BC65-767D-4CE3-9B10-CD4B5294BF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4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ftbaugh LCD SBLCDA4 segments displ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2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79F5-B2CA-4F38-8F3D-47FC13B9D1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5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the LCD in 4-mux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harge pump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egments shared with the I/O function are not used by the LCD, being made by the connection to the S4 to S25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our lines COM1, COM2, and COM3 are shared by ports P5.2, P5.3 and, P5.4, respectively. The COM0 line is also u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ins R03, R13, R23 and LCDCAP/R33 are used to provide the V5, V4, V3, V2 and V1 (VLCD) voltages using an external resistors network and are available at Header H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089E-A382-45F1-AE79-09DF5DFE38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6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low power mode 3 (LPM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 together with the TACCR0 unit are used to generate an interrupt once per seco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ED1 and LED2 are switched at each Timer_A interrup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utton SW1 is used to change the value of voltage generated by the charge pu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utton SW2 is used to change the LCD frequenc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D0C1-7A25-493B-BE09-EDD3E70359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7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pplication starts by configuring the Ports P5.2, P5.3 and P5.4 to the special function COM1, COM2 and COM3, respective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unction COM0 is not shared with the digital I/O func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ns with multiplexed functions are selected to perform the control of the LCD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CD_A control register and the voltage configuration register are also configu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7890-2F98-4610-B4E8-299E88D0CF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oth the ’3xx and ’4xx families provide controllers for liquid crystal displays (LCDs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CD_A controller: MSP430x42x0 and MSP430FG461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CD controller: All MSP430x4x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of LCD_A controller: Experimenter’s boar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tomatic signal gene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able frame frequenc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inking capabil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 for 4 types of LC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-mux, 1/2 bias (or 1/3 bia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-mux, 1/3 bias (or 1/2 bia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-mux, 1/3 bias (or 1/2 bi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038A-B84B-4399-BBAB-141F17201C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8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ecute the LCD clear routin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LCD_all_off(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 TACCRO unit is configured to generate an interrupt once every seco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SR supplies the memory clock with msec, sec and min, and also connects/disconnects the remaining LCD symbol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ort pins P2.1 and P2.2 monitor the condition of LED2 and LED1, respective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se ports are configured as digital outpu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103A-DF6D-47B2-9B32-52104DAAFD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9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W1 and SW2 buttons are configured to generate an interrupt when a change of state occurs at ports P1.0 and P1.2 respective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SR modifies the LCD operation frequency or modifies the VLCD voltage, depending on the ISR sour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ly, all interrupts are activated and the system enters low power mode LPM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3727-FA6A-4A62-8375-741E99F3C3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0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interface for LCD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 the function COM1, COM2 and COM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is the value to be written to these regist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5DIR |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5SEL | =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CD segments are controlled by the S4 to S25 LCD memory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tivate these segments by writing the correct value to the regis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CDAPCTL0 = 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E414-52CE-454D-9AAE-163F4E5491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1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 operation frequenc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4-mux mode, the LCD is refreshed by a signal with a frequency between 30 Hz to 100 Hz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ollowing expression is used to determine the LCD operation frequency,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2  x  mux  x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oose the frequency that provides the best power savin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FF66-66D6-4205-B1FB-9EF71D6E32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2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CD_A module is activated with the refresh frequency just describ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value should be written to the regist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CDACTL = __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the charge pump to internally generate the voltages necessary for the operation of the LCD, using a 1/3 bias. What is the value to be written to the regist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CDAVCTL0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harge pump is required to generate a LCD voltage of 3.44 V. Configure the regis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CDAVCTL1 = 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31CE-DFA5-4D97-918F-25C91A4747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3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imer_A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imer_A generates an interrupt once every second. It uses the TACCR0 un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following regis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TL0 = __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R0 = ___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TL = ____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utput ports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ports connected to LED1 and LED2 in order that at system start up, one port is active and the other is ina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2DIR | = _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2OUT | = _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E353-1110-4EE4-A024-E6F52CD82A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4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put ports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uttons SW1 and SW2 generate an interrupt on a low-to-high transi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registers as requir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DIR |= _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IES = __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IE |= ___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F9DF-EC8C-4F4E-AA89-F872F4DC94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C589-31F3-4565-AC67-8CB218CB771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8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presentation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5/18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Operation analys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ompile the project, load it into microcontroller’s memory and execute the applic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For each value of the operating frequency and voltage generated by the charge pump, measure the electrical current consump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raw a graph of these results and draw conclusions concerning the energy consumption.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0BEB-02D5-48A4-82F6-CD7B756D68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BA4F-C465-45D3-8547-3C4504713E3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8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6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interface with the LCD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5DIR |= 0x1E;  // Ports P5.2, P5.3, P5.4 as out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5SEL |= 0x1E;  // Ports P5.2, P5.3 and P5.4 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special function (COM1, COM2, COM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CDAPCTL0 = LCDS24|LCDS20|LCDS16|LCDS12|LCDS8|LCDS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Enable S4 to S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1133640"/>
          <a:ext cx="9109080" cy="1095120"/>
        </p:xfrm>
        <a:graphic>
          <a:graphicData uri="http://schemas.openxmlformats.org/drawingml/2006/table">
            <a:tbl>
              <a:tblPr/>
              <a:tblGrid>
                <a:gridCol w="3092400"/>
                <a:gridCol w="601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SP-EXP430FG46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figure the LCD_A controller of the MSP430FG4618 device of the Experimenter’s board to display a message in the displa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2CAF-0620-42DD-8D95-8FDEB4BD1C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08F3-5EF2-4AA4-A65B-FEE91AFDFCD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8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7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 operation frequenc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CDACTL = LCDFREQ_192 | LCD4MUX; // (ACLK = 32768)/19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4-mux LC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CDACTL |= LCDSON | LCDON;     // LCD_A 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Segments 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CDAVCTL0 = LCDCPEN;           // Charge pump 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CDAVCTL1 = VLCD_3_44;         // VLCD = 3.44 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imer_A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TL0 = CCIE;     // TACCR0 interrupt enab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R0 = 3268;      // this count correspond to 1 ms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TL = TASSEL_1 + MC_1 + ID_0;  // ACLK, up 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C624-5B32-4A17-9A82-A60D941709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in differences between LCD and LCD_A controll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 controll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external circuitry (a resistor-divider network) to generate the 4 externally supplied voltage levels (R03, R13, R23 and R33) that supply the voltage gener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s the timing generator derived from Basic Timer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controll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milar features as LCD controller, but in addi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ulated charge pump and contrast control by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actional LCD biasing voltages (sourced internally or externall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s the ACLK to generate the timing for common and segment l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0419-2B5B-4335-9E61-5320CB8D8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6454-294A-4A4B-AE00-0450F77B2D9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8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4: LCD Message Display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8/1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utput ports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2DIR |= 0x06;    // P2.1 and P2.2 as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2OUT |= 0x04;    //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LED2 off and LED1 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put ports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DIR &amp;= ~0x03;   // P1.0 and P1.1 digital in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IES |= 0x03;    // low-to-high transition interru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IE |= 0x03;     // enable port interru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03C5-E361-4263-AED9-4584C6D5DAE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The fractional LCD biasing voltage V2, corresponds to which of the following fractions of full scale voltag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1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2/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1/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To blink the LCD, the following LCD_A control register bit must be se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LCD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LCDS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LCDCP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LCD2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8836-5716-4FEE-8B31-1E984A9F59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To source the fractional LCD biasing voltages externall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Reset OSCOFF and LCDON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et OSCOFF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Reset LCDON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Set OSCOFF and LCDON b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o configure a LCD refresh frequency to approximately once every 10 millisecond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LCDMXx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LCD2B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LCDFREQ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LCDFREQx = 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3EEA-0DE7-45FC-B712-52290003B05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An LCD with 3-mux, 1/3 bias configuration requires tha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LCDMXx = 2 and COM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LCD2B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the abo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the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An LCD with 3-mux, 1/2 bias is able to contro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90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160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140 segm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64 seg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8D75-259C-4E24-9310-01FC782769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2/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(b) LCDS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(a) Reset OSCOFF and LCDON 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(d) LCDFREQx = 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(c) All of the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(a) 90 seg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-324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58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BB1A-A545-4336-B9C6-B2DBADD20E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controller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1496880"/>
            <a:ext cx="6121440" cy="487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4E72-D933-4605-B186-0F9CCD8D98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CD_A Controller Operation (1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an be configured to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external circuitry to generate the 4 externally supplied voltage levels (R03, R13, R23 and R33), which supply the voltage gener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the internal LCD Bias Generator to generate the fractional LCD biasing voltages, V2 − V5 independent of the source for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3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V1: full-scale voltage (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2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V2: 2/3 of full sca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3: 1/2 of full sca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1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V4: 1/3 of full sca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0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V5: grou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62CA-2B4B-4A02-B654-97A4528AC9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CD_A Controller Operation (2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voltage and bias gen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th the peak output waveform voltage V1, as well as the fractional LCD biasing voltages V2 − V5 can be sourced external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COFF = 0: Oscillator sourcing ACLK of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CDON = 0: LCD_A module in inacti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use the internal voltage gen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SCOFF = 1: Oscillator sourcing ACLK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CDON = 1: LCD_A module acti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CD may be sourced internally from A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by an internal charge pum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05AA-4CB4-4741-9069-205FAF1401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CD_A Controller Operation (3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LCD voltage and biasing characteristics LCD_A controll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LCD_A controller uses the ACLK (32768 Hz) prescaler selected using the LCDFREQx bit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 frequency, f</a:t>
            </a:r>
            <a:r>
              <a:rPr b="1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depends 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aming frequency,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fr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ltiplex rate, mux (defined on the LCD specification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 frequency:  f</a:t>
            </a:r>
            <a:r>
              <a:rPr b="1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= 2 × mux × f</a:t>
            </a:r>
            <a:r>
              <a:rPr b="1" lang="en-GB" sz="2000" spc="-1" strike="noStrike" baseline="-15000">
                <a:solidFill>
                  <a:srgbClr val="000000"/>
                </a:solidFill>
                <a:latin typeface="Verdana"/>
              </a:rPr>
              <a:t>fra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496880"/>
            <a:ext cx="9144000" cy="26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2467-E0C4-49A2-98B3-42F1278EF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CD_A Controller Operation (4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CD_A voltage selec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LC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our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qui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CDEXT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CDx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REFx =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charge pump sourced from D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qui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CDEXT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CDPEN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LCDx &gt; 0 (software selectable LCD voltage from 2.60 V to 3.44 V (typical) independent of D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nect a 4.7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 capacitor between LCDCAP pin and grou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8668-AB0C-45C0-A178-68FED8EE0B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6T18:18:00Z</dcterms:modified>
  <cp:revision>69</cp:revision>
  <dc:subject/>
  <dc:title>Diapositivo 1</dc:title>
</cp:coreProperties>
</file>