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31.wmf" ContentType="image/x-wmf"/>
  <Override PartName="/ppt/media/image2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BEE-ED06-4D0E-856D-9BF252EAA57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24FF-9821-4369-A59D-48699D431FF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48DA-2360-4BBA-B6A0-559121D1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C2B6-BB03-489E-A45D-CB4B766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A2EC-924F-4CD1-A90C-BA285B74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95FC-0AD8-4B75-9153-E4876604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608D-24E7-47CF-B3E5-05DB74BC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E5EF-CA50-413F-84A2-DBB7AC6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D1C4-3321-4E82-8218-3EE9883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78E4-C45E-49C4-A8E5-B02DDE3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3201-ED76-4E11-BDCB-E6A6A761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A890-2FC0-4320-ACB7-B312A16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7877-92E1-42BA-99A4-F42DE83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ABCE-F428-4F02-8F51-E040CC6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AE62-0A9A-4333-A99A-7DC96016BFE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9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ata Acquisition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SD ADC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1C8-973A-402C-86E1-81928E6F609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8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 converters: widely used lowpass filter: Sinc³ or Sinc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2441520"/>
            <a:ext cx="914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2F6-36A4-46CC-962D-541DF58DAED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9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in advantage of Sinc filter: notch response. The notch position is directly related to the output data rate, allowing high frequency noise reduction and 60 Hz main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437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3D87-E3BC-4AC3-B0FB-3A468F0112C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10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output of the digital filter will be a data str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195640" y="1784520"/>
            <a:ext cx="48006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E76-8FA4-46B3-9AB7-29FD0BAD9B0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11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tion 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ecimation: Reduces the sampling rate down from the oversampling rate without losing information (eliminates redundant dat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sing the Nyquist theorem (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sampl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&gt; 2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)  and the oversampling at the delta modulator, the input signal can be reliably reconstructed without distor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68360" y="3351240"/>
            <a:ext cx="85327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DEB-1424-4B88-AA4A-3E2220F7C36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 SD16(A) – Sigma-Delta AD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_A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 ADC c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ogue input range and P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reference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ogue input pair se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ogue input characteristics and set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gital 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 dat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sion m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ed temperature sen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_A interru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vector generator (SD16I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D42C-AFC9-41C4-8893-C573F4670E8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1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pplications MSP430 devices with up to 7 SD ADC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ortable medical (F42xx and FG42x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nergy metering (FE42x(A), F47xx, F471x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eneric applications (F42x and F20x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D16_A: eZ430-F2013 hardware development too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D16_A sup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6-bit SD co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ference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ternal analogue inpu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ernal V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sen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egrated temperature sens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AA5-9E8B-4B87-8E68-F748C9D303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312" t="314" r="312" b="314"/>
          <a:stretch/>
        </p:blipFill>
        <p:spPr>
          <a:xfrm>
            <a:off x="3398760" y="1150920"/>
            <a:ext cx="5060880" cy="5027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2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_A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9852-A558-4FA6-853A-DFCE771EB28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SD16_A Featur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6-bit sigma-delta architectur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p to eight multiplexed differential analogue inputs per channe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ftware selectable on-chip reference voltage generation (1.2 V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ftware selectable internal or external referen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uilt-in temperature senso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p to 1.1 MHz modulator input frequenc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lectable low-power conversion mod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E1C9-5B34-469A-8D67-623C7002CCA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16 bit SD ADC co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nalogue-to-digital conversion is performed by a 1-bit second-order oversampling sigma-delta modulato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 single-bit comparator within the modulator quantizes the input signal with the modulator frequency,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pt-PT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resulting 1-bit data stream is averaged by the digital decimation filter (comb type filter with selectable oversampling) for the conversion resul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decimation filter has ratios of up to 1024. Additional filtering can be done in software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E1F4-4BB9-4884-A1C7-CAFE88E4ECA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nalogue Input Range and PG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full-scale (FS) input voltage range for each analogue input pair is dependent on the gain setting of the PGA (= 1, 2, 4, 8, 16 &amp; 32x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maximum FS range is ±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pt-PT" sz="2000" spc="-1" strike="noStrike" baseline="-15000">
                <a:solidFill>
                  <a:srgbClr val="000000"/>
                </a:solidFill>
                <a:latin typeface="Verdana"/>
              </a:rPr>
              <a:t>F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1763640" y="3068640"/>
                <a:ext cx="1800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  <m:r>
                          <m:t xml:space="preserve">2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A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GA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5764320" y="2060640"/>
            <a:ext cx="33796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281D-EE93-4CC1-BFD8-0C3704AAFE6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roduction to Sigma-Delta ADC 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lta mod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gital 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mation digital 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 SD16(A) – Sigma-Delta AD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5D: SD16 Signal Acquisi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5E37-5110-4126-AE6A-1A3320A9ABE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Voltage Reference Genera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Voltage reference op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ernal reference (1.2 V): SD16REFON=1, SD16VMIDO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ternal reference: SD16REFON=0, SD16VMIDO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ernal refeference, with reference with buffered output: SD16REFON=1, SD16VMIDON=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reduce noise it is recommended to connect an external 100-nF capacitor from V</a:t>
            </a:r>
            <a:r>
              <a:rPr b="1" lang="pt-PT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to AV</a:t>
            </a:r>
            <a:r>
              <a:rPr b="1" lang="pt-PT" sz="2000" spc="-1" strike="noStrike" baseline="-15000">
                <a:solidFill>
                  <a:srgbClr val="000000"/>
                </a:solidFill>
                <a:latin typeface="Verdana"/>
              </a:rPr>
              <a:t>S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0" y="3983040"/>
            <a:ext cx="9144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D1A-BBDA-4971-95BF-EC71505494F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nalogue Input Pair Selec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D16_A can convert up to 8 differential input pairs multiplexed into the PGA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vailable analogue input pairs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0-A4: External to the dev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5: Resistive divider to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upply voltage (A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1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6: Internal temperature sens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7: Offset shunt (used for calib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D16_A input PGA off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men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54760" y="2852640"/>
            <a:ext cx="30099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8EF5-FC67-46BD-A68D-2D272EDA803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69120" cy="3111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nalogue Input Characteristics and Setu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nalogue input equivalent circuit for the eZ430-F2013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ax. sampling frequency,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pt-PT" sz="2000" spc="-1" strike="noStrike" baseline="-15000">
                <a:solidFill>
                  <a:srgbClr val="000000"/>
                </a:solidFill>
                <a:latin typeface="Verdana"/>
              </a:rPr>
              <a:t>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611280" y="4437000"/>
                <a:ext cx="4602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ttlin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AIN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611280" y="5013360"/>
                <a:ext cx="1332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tlin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627120" y="5751360"/>
                <a:ext cx="4160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6072120" y="4357800"/>
          <a:ext cx="2928960" cy="1920600"/>
        </p:xfrm>
        <a:graphic>
          <a:graphicData uri="http://schemas.openxmlformats.org/drawingml/2006/table">
            <a:tbl>
              <a:tblPr/>
              <a:tblGrid>
                <a:gridCol w="1535040"/>
                <a:gridCol w="1393920"/>
              </a:tblGrid>
              <a:tr h="31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GA 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25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5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5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D4F-5CDE-4872-B558-6D2EBC363E8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nalogue Input Step Respon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2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nc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comb digital filter needs 3 data-word periods to settl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INTDLY = 00h, conversion interrupt requests do not begin until the 4th conversion after a start condit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1332000" y="244332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6ACF-A50E-4C0D-A8C0-3ACCA2F0705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Digital Filt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sses the 1-bit data stream from the modulator using a Sinc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comb digital filt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ake into consideration tha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rate is given by: OSR 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filter notch is at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OS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dify the notch frequency adjustment with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SSELx and SD16DIVx: Chang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OSRx and SD16XOSR bits: Change OS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umber of output bits depends on the OSR, DR and number format, ranging from 15 to 30 bit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82E-A4DE-45DB-AC00-F98316D315A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Output Data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lected with SD16DF and SD16UNI bi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wo’s compl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ffset bina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po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UNI = 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UNI = 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UNI =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DF = 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DF = 1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D16DF =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1A52-CE6A-40FC-A93F-FB6426F1E55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1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Conversion mod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ngle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hannel is converted once (SD16SNGL =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conversion completion: SD16SC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ing SD16SC before the conversion is complet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mediately stops conversion of the channe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wers down the channe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urns off the corresponding digital fil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value in SD16MEM0 can chang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2E0D-DE60-47DC-A261-8DBB0AD9ED2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2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Conversion mod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inuous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hannel is converted continuously (SD16SNGL = 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s when SD16SC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ps when SD16SC = 0 (cleared by softwar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ing SD16SC before the conversion is complete has the same effect as a single conver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1D15-F273-4AE1-BDAE-951F3327A38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Integrated temperature sens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d wh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ogue input pair SD16INCHx = 1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REFON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VMIDON = 1 (if is used an external reference for other analogue input pai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typical temperature sensor transfer func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ensor,ty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Senso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273 + T[ºC]) +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Offset, Senso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[mV]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41F-FEEA-44C2-85F7-67EA0A14020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SD16_A interrup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o interrupt sources for each ADC channe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 Interrupt Flag (SD16IFG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IFG = 1: SD16MEM0 memory register is written with a conversion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responding SD16IE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IE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 Overflow Interrupt Flag (SD16OVIFG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OVIFG = 1: conversion result is written to SD16MEM0 location before the previous conversion result was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C3B-92A1-487B-9E82-37E4A941CCD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1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gma-Delta (SD) converter determines the digital wor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y oversampling the input signal using sigma-delta modul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ying digital filter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ing data rate by collecting modulator output bits (decima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6" descr="SD block diagran"/>
          <p:cNvPicPr/>
          <p:nvPr/>
        </p:nvPicPr>
        <p:blipFill>
          <a:blip r:embed="rId1"/>
          <a:srcRect l="0" t="0" r="10619" b="47849"/>
          <a:stretch/>
        </p:blipFill>
        <p:spPr>
          <a:xfrm>
            <a:off x="1752480" y="3157560"/>
            <a:ext cx="5772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E89-784B-4BF3-8003-5386B7A851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Interrupt vector generator (SD16IV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ed to determine which enabled SD16_A interrupt source requested an interrup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sider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highest priority enabled interrupt generates a number in the SD16IV register (evaluated or added to the program counter to automatically call the appropriate rout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y access, read or write, of the SD16IV register has no effect on the SD16OVIFG or SD16IFG flag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IFG flags are reset by reading the SD16MEM0 register or by clearing the flags in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-301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OVIFG bits can only be reset by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479-E7FF-4A1F-BB5C-094D97282DD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1/5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CTL, SD16_A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1387440" y="2565360"/>
            <a:ext cx="66405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9FF-7D2A-48C1-8324-7E609CA56B1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2/5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CCTL0, SD16_A Control Register 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51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0" y="1989000"/>
            <a:ext cx="9144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780-6F5C-4201-871C-513F842DC6A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3/5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CCTL0, SD16_A Control Register 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63640" y="2492280"/>
            <a:ext cx="75247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7DCF-1E74-49C8-8E9B-287CCE05330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4/5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INCTL0, SD16_A Input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971640" y="2130480"/>
            <a:ext cx="6769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8B7-AD79-4D56-9ABC-5FB4AC9D646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D16(A) (5/5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D16MEM0, SD16_A Conversion Memory Regis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16-b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MEMx register stores the conversion results. Depending on the SD16LSBACC bit state, it holds the upper or lower 16 bits of the digital filter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AE, SD16_A Analogue Input Enable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bits SD16AE = 1 to enable the corresponding external analogue input (MSB: A7 to LSB: A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IV, SD16_A Interrupt Vector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bits 1 to 4 of the 16 bits SD16IV indicate the interrupt source. According to their prior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4840" indent="-298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IV = 002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MEMx overf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4840" indent="-298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IV = 004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_A Interru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4840" indent="-298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SD16IV = 000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interrupt pend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4840" indent="-29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m SD16IV = 006h to =010h (lowest) to interrupt source are reserved.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9A70-F030-4EB5-85BB-DCE431FEAB7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With the SD16_A ADC module included in the eZ430-F2013 hardware development tool, develop a temperature data log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etai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ike the previous exercise (Lab4), this laboratory is composed of several sub-task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laboratory has been developed for the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Code Composer Essentials version 3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software development tool onl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58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E5BE-CD55-427A-9E01-A21516F6EA5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9 &gt; Lab5 &gt; Lab5C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9 &gt; Lab5 &gt; Lab5C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implements a temperature data logger using the hardware kit’s integrated temperature sens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evice is configured to read the temperature once  each minute for one hou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temperature’s (ºC) value is transferred to flash info memory segment B and 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microcontroller is not performing any task, it enters into low power m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080C-42A2-4F59-A37D-CD645AE5D57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D16_A module uses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1.2 V as the reference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necessary to select channel 6 of the SD16_A to use the integrated temperature sensor as the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generates an interrupt once every second that starts conversion using SD16_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end of conversion, an interrupt is requested by the converter and the temperature value is written to flash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4ADB-70DA-4DED-8604-C3E18EEB1E0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oltage value is converted into temperature using the mathematical formula provided by the eZ430-F2013 data she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transferring the value to the flash memory, the system returns to low power mode LPM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urces used by the application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16_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s I/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power m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1403280" y="3198960"/>
            <a:ext cx="6972480" cy="3168360"/>
          </a:xfrm>
          <a:prstGeom prst="rect">
            <a:avLst/>
          </a:prstGeom>
          <a:ln w="0">
            <a:noFill/>
          </a:ln>
        </p:spPr>
      </p:pic>
      <p:sp>
        <p:nvSpPr>
          <p:cNvPr id="7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07E-28B6-4E03-BD6D-8A44570C48C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2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lta modula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ntizes the difference between the current analogue input signal and the average of the previous sam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1st order modulator (simplest for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Quantization (comparator): Output={1,0}  if  Input={+,-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emodulator (integrator - 1 bit DAC): Output={</a:t>
            </a:r>
            <a:r>
              <a:rPr b="0" lang="pt-PT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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t-PT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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} if Input={1,0}.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E08C-C5E2-4455-8F4F-4FDCD1FAE91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pplication starts by stopping the Watchdog 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stem tests for calibration constants in info memory segment A are made. The CPU execution will be trapped if it does not find this inform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gitally controller oscillator (DCO) is set to 1 MHz, providing a clock source for MCLK and SMCLK, while the Basic Clock System+ is configured to set ACLK to 1.5 kHz through the VLO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er’s flash timing is derived from MCLK divided by 3, to comply with the device specifi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13D4-D121-4129-B406-4813EFAFD45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 P1.0 is configured as output and will blink the LED once each seco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D16_A is configured to use the input channel corresponding to the on-chip temperature sensor (channel A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figuration includes activation of the internal reference voltage: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1.2 V and selection of SMCLK as the clock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verter is configured to perform a single conversion in bipolar mode and offset binary format. At the end of conversion, an interrupt is reques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263-49C3-4AE9-8844-620DBB48F9B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er_A is configured to generate an interrupt once every seco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LK/8 is selected as the clock signal using VLOCLK as the clock source and will count up until the TACCR0 value (up mode) is reach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ystem enters into low power mode, where it waits for an interru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 memory pointers and interrupt counters are initial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04F-DCA1-481A-8C03-4C87E9B9A12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er_A ISR increments the variable counter and when this variable reaches the value 60 (1 minute), the software start of conversion is reques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end of this ISR, the system returns to low power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SD16_A ends the conversion, an interrupt is request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il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less than 60, the temperature is written to flash memory. The memory pointer is increased by two (wor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60, the system stops ope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0B9-DDCD-4CEE-813F-BFCD19E10E1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CO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just the DCO frequency to 1 MHz by software using the calibrated DCOCTL and BCSCTL1 register settings stored in information memory segment 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CALBC1_1MHZ == _____ || CALDCO_1MHZ == _____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(1);       // If calibration constants eras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o not load, trap CPU!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COCTL = ___________________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7A5-DA8C-477C-8D5A-9A93C7EA7AC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ic Clock module+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MCLK and SMCLK to 1 MH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internal very low power VLOCLK source clock to ACLK/8 clock signal as the low frequency oscillator (12 kHz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CSCTL1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CSCTL3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D5F1-DBE5-458D-922B-E20AE139B7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D16_A’s input channel is the integrated temperature sensor (A6) and it uses the reference signal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1.2 V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D16_A clock source is SM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SD16_A to perform a single conversion and enable its interrupts. What are the values to write to the configuration regist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CTL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CCTL0 = 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INCTL0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018-E76B-45FD-B928-30EC8E9905A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imer_A register to enable an interrupt once every seco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ACLK clock signal as the clock sour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timer is configured in up mode in order to count until the TAR value reaches the TACCR0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TL0 = 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R0 = 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TL = 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15D-79D0-4C45-B778-8F3B2C22379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nitor the temperature variation for 1 ho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fter compiling the project and start the debug session, before run the application put a breakpoint on the line of code with the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_NOP()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o to breakpoint properties and set action to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Write data to fil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ame the file as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Temp.da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and define the data format as integ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3D14-EE8F-4B14-A743-EBCADA27A8D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nitor the temperature variation for 1 ho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ta starts at addres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0104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a length o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3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n the application and let the temperature data logger acquire the values for 1 hou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a heater or a fan to force temperature variations during the measuring perio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execution reaches the breakpoint, the file will be available in your file system. Construct a graph to plot the temperature variation with time obtained by the data log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FB2-8473-4CEB-83E6-4A0A5644910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3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lta modula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nsity of “1’s" at the modulator OUT is proportional to IN sig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ing IN, the comparator generates a greater number of “1’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reasing IN, the comparator generates a lesser number of “1’s"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y summing the error voltage, the integrator acts as 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pass filter for the input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pass filter for the quantization no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46F-FF1B-42C2-BAC6-6720D6C01BF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CO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CALBC1_1MHZ == 0xFF || CALDCO_1MHZ == 0xFF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(1);      // If calibration constants eras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o not load, trap CPU!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COCTL = CALDCO_1MHZ;  // Set DCO to 1 MH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052640"/>
          <a:ext cx="9144000" cy="1006200"/>
        </p:xfrm>
        <a:graphic>
          <a:graphicData uri="http://schemas.openxmlformats.org/drawingml/2006/table">
            <a:tbl>
              <a:tblPr/>
              <a:tblGrid>
                <a:gridCol w="2398680"/>
                <a:gridCol w="6745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d900"/>
                          </a:solidFill>
                          <a:latin typeface="Verdana"/>
                          <a:ea typeface="Times New Roman"/>
                        </a:rPr>
                        <a:t>eZ430-F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5868"/>
                      </a:solidFill>
                    </a:lnL>
                    <a:lnR w="5760">
                      <a:solidFill>
                        <a:srgbClr val="215868"/>
                      </a:solidFill>
                    </a:lnR>
                    <a:lnT w="5760">
                      <a:solidFill>
                        <a:srgbClr val="215868"/>
                      </a:solidFill>
                    </a:lnT>
                    <a:lnB w="5760">
                      <a:solidFill>
                        <a:srgbClr val="215868"/>
                      </a:solidFill>
                    </a:lnB>
                    <a:solidFill>
                      <a:srgbClr val="215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5868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215868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a temperature data logger through the integrated temperature sensor using the eZ430-F2013 Development Tool.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5868"/>
                      </a:solidFill>
                    </a:lnL>
                    <a:lnR w="5760">
                      <a:solidFill>
                        <a:srgbClr val="215868"/>
                      </a:solidFill>
                    </a:lnR>
                    <a:lnT w="5760">
                      <a:solidFill>
                        <a:srgbClr val="215868"/>
                      </a:solidFill>
                    </a:lnT>
                    <a:lnB w="5760">
                      <a:solidFill>
                        <a:srgbClr val="2158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A8D6-E8F6-4E76-B412-0860A471D3F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ic Clock module+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CSCTL1 = DIVA_3;       // ACLK = 1.5 kH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CSCTL3 = LFXT1S_2;     // Set VLOCLK (12 kHz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16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CTL = SD16REFON + SD16SSEL_1;  // 1.2V ref, SMCL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INCTL0 = SD16INCH_6;       // Temp. sensor: A6+/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D16CCTL0 = SD16SNGL + SD16IE;  // Single conversion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Enable interrup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A9CD-A096-429E-981F-E8442D23B09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C: SD Signal Acquisi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TL0 = CCIE;    // TACCR0 interrupt enabl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R0 = 1500;     // this count corresponds to 1 se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TL = TASSEL_1 | MC_1 | ID_0;  // ACLK/1, Up mode: // the timer counts up to TACCR0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E2EF-688C-4DDD-822D-24A08E31140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8. A Sigma-Delta ADC has the advantages of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High resolution and accuracy, low sample rate, low c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High resolution and stability, low power, low c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High resolution and stability, low power, moderate c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High bandwidth and accuracy, high sample rate, moderate c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9. The quantization noise of a Sigma-Delta AD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imits the dynamic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Is actually the “round-off” err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Is pushed into higher frequencies through oversampl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967-20F1-48F6-8E8B-4E48E6AC2D0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. The SD16_A digital output configured as unipolar provides an input volta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[–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 =  [0000h   FFFFh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[–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 =  [8000h   7FFFh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[–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 =  [0000h   8FFFh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1. The SD16_A control register bits that adjust the frequency of the digital notch filter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D16SSELx and SD16DIV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D16OSRx and SD16XOSR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699-BCDC-465B-A9E4-3C2F4FC0660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8. (c) High resolution and stability, low power, moderate c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9. 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. (a) [–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 =  [0000h   FFFFh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1. (c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4A8-7DD3-4138-B55E-733ACC129FB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4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lta modula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quantization noise is pushed into higher frequenci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changes noise distribution (but not total nois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ntization noise limits the dynamic range of the AD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ise is the “round-off” error of analogue signal quant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345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19B-2FF2-416A-954D-C521D90A02C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5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lta modula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s the OSR (Over-Sampling Ratio) increases, the noise decreases (SNR increas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s the order of the modulator increases, the noise decre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424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A4A-F2B6-4131-88FE-A9989D8E04F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6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verages the 1-bit data stre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mproves the analogue to digital conversion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moves quantization noise outside the band of intere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etermines signal bandwidth, settling time and stopband rejec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68360" y="3699000"/>
            <a:ext cx="8334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86F0-4D06-4ECC-BEAD-71B73E713C0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gma-Delta ADC Introduction (7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Fil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several types of digital fil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Finite Impulse Response (FIR) fil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utput is dependent only on past and present values of the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inc fil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Removes all frequency components above a given bandwidth, leaving the the low frequency components. It has linear ph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Infinite Impulse Response (IIR) fil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output is dependent on past and present values of both the input and the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veraging, Moving average fil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7:32:13Z</dcterms:modified>
  <cp:revision>105</cp:revision>
  <dc:subject/>
  <dc:title>Diapositivo 1</dc:title>
</cp:coreProperties>
</file>