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BC42-D8CC-4FEA-8F75-67F1DBE92E59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D29E-97D9-4EA3-9C3B-D7904F91BA3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26C54-0362-4C97-813C-4578D77F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040FC-631B-4C2D-BBFB-A453F969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018F11-C96F-4B8A-AB07-1450154D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7B8750-7262-4145-8154-E2A6EC6D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EFB9DC-EAFA-4D40-AF63-8C846D6E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ADFCEF-8356-4BB6-9B4B-8724F400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3E5D35-4EA8-4F9C-B773-7A7E9036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02950E-781B-4F0F-AC54-24EC7242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572F1E-E776-4ABA-8ADE-C6A02688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3F0723-CC79-41FE-974F-8DA2F814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DB0FE4-D746-4081-88C8-86498996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AEA032-D45F-4DB5-97B5-D9A30E4D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EBC0-1745-4C41-8FC1-5F189770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B1EF17-9061-4A22-B369-C77C8F7F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3BBC74-D186-4192-98A4-8E372864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A01D40-4D91-481F-AEF0-F5D921DE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3ABBF8-4338-45BF-A154-A30271EE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A6363B-90CE-4579-BEB5-62597592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8944A3-DB6D-480A-B67B-97ADA7C7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0E7EB0-8F26-4D2C-AC24-B5C13E17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1ADACD-321F-4A31-94FE-E7E598BB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B40156-C4AC-40E5-9CEA-18128D60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CC9293-9375-4BA4-B120-E149AB54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007C0-BAF6-42ED-B0F2-27077CD8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0D9514-28D9-49D7-B0CD-29F3E15C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43B2D0-49B1-49A8-8D1F-DCEFAAB2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F1578E-53CD-4911-9AEA-EB567208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CE3CDA-5A98-4879-A75A-2C6E81D2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475D10-2AA0-44FE-9B53-69634599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D895B4-6412-46B9-80B1-C5F28B82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FEBBEE-5265-4763-965D-70C65DA9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3E74D0-DF41-4121-BC90-3AB9B323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D86DFE-8D0D-42A1-9D08-54C19AD9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CB52C0-E19C-496A-9562-3A7E1177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D812A-0053-4B13-BDDB-00E70E39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EBED2A-9DE9-4FB9-B40C-C78ECDF0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E6FD83-47C2-44D0-AD6F-67B7C386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49A86A-940A-4F38-BC0E-4A290C8A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7F0E76-F64C-4101-95B1-CBA5C110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B562F9-6BFE-4F4C-918A-C97C8204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782278-2F90-41FB-BD28-74CC5402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03B566-BF57-48DB-A497-F043D3F0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5F8070-132E-4E1C-9A6E-429F81C3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EC81E0-0D19-4CBD-AF87-C7CC870A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30B709-6B13-419F-95DF-8A8DA26C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24FF4-35E4-4DBF-B56C-FA989E5C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3D7655-CFAB-4F53-BA55-AC5106CB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9B0E6F-B984-41A7-BFE7-0FABD0C0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8851B0-A02D-4064-B2E8-ED83541A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34C2E6-9651-4668-827B-C232B6A9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745C70-4C59-4825-8257-10871C12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9888E3-02C8-48E2-BBBB-2623A9D0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051A02-24FD-4E58-9AC6-B15CCE21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8EA165-D5E8-4F25-B056-531076D9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7E61DC-EE84-4FBD-BB02-0A1AF5B7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DECB3D-9C08-4C4F-8864-2C7F82F2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5BE95-65A7-4876-9DE4-448022DE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18A927-FCAF-4C80-BC1E-045C8E9C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22E3F0-C6E9-4267-89FB-47BEBE7D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8BCBAB-BF27-4BEF-8F77-E0D1977B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20EA4F-4482-4658-ABD0-2E61D264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82F836-DBE0-4168-9C54-76E00AFB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EAF2C3-356E-4745-963C-055AA3B5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53B2A2-F1F5-4074-A727-B1F3614B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88E7D8-30F4-481D-AE79-5BEEA8A6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47429B-52F5-481C-9231-43D88BDD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3E52B0-64EC-4E5C-AD1C-DCF1D0AF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49592-CFAD-4B6A-9A22-EBE6DF9D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4A9852-1B8B-435D-943C-55A74C5A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10111E-06A7-4B2C-A210-412F3587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C9C802-F271-4FD9-B79B-15C24AED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AC99E8-6E39-406D-BE23-C8D114C5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444441-62D9-4F15-AA24-236327AC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E4595E-EBFF-4629-952E-330AD960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D019A7-CA61-48E3-AC9F-EB42780C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C551F4-081A-44EB-8B95-57A04006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ABBB2A-15BC-423E-8863-5F054259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3E512-2C1F-40A1-B233-4C708D3A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5BA91-4FD4-4B24-8399-EA85E441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C321D-FB0C-4077-8B61-E34188EB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318E-2529-42CE-A138-F0252C45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4FA21-D159-4DD9-B34C-E19B6580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E5195-9514-4C92-AC0B-FEA0B95C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EF6AC-A281-4765-AC05-3DDAC919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E7F1B-224D-424C-AC6E-40E0C77D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78CD2-6F29-4FDD-B330-FA1CF620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C6CAA-A1FF-43C7-9255-B47979DD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F92E0-BDAC-4BF5-8C35-0321ACEC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A6748-B4BF-41EF-B06E-7375113C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FF5AB-17A9-4AFA-A8F4-02BCA4C5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ED9D4-B2CA-4E9F-B569-5FA7F63E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4B29D-0B1D-47C1-A865-2A57F34B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9EB36-456F-40DA-92C9-C7991E54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04F74-68FC-4274-AD60-2B76A73D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4AECC-2B7D-41D8-8055-FF2F66AC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1A2CD-786B-4A6D-80C9-667036CE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21914-85DD-4949-A9FC-A837DEA6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E9A81-2355-4801-80E9-BE36586D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06013-4E34-4BAE-9276-5D94DFA4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B5DB2E-075A-47A0-8F73-1E3FD353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688164-065D-44F9-BC14-7F4895F0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88A1BB-FE40-4D3F-B45C-DB9372B6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262DD-9DC3-48E7-8ECC-8AB18B69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11FD74-543B-4A8A-8B04-93C9436D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8207B4-C084-4AB2-B188-5615C222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08CF8-8975-4C7E-A2ED-E7824537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6755F8-46A6-4A04-AE03-04249A97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C51F7F-8282-46B4-913F-4731ABD8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26FE73-C037-4BE4-B777-9892F9EB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6BA311-19B5-452C-A78A-78E43FD6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87758-10CD-4552-8B42-5CD9485C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55422A-4AA3-444D-809E-EC26790A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490D3-A208-4222-B83B-2DE228CC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7DB66-70F2-4F50-8D0A-C903533E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832443-B054-4635-8093-049EC73F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3A948-B1AA-42B2-BAFC-AB344EB2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52F384-FEA1-4046-9B85-D8403F6F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A7AE38-5881-4DD5-A68C-8719BD07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D6ADC-44AF-400E-8752-EE8CC609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938EA3-1193-4513-ADCC-20FABADB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1765C-C08B-477F-86EC-2E012CE5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A9FC9D-3DD9-4093-92EF-6AD2CD49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96FC3D-E2AF-4C69-97C9-E213CECD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74E8E-28E3-4B15-8FE0-CBDB3E9D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39BE4-1431-4F3D-9A29-52CF4213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A57F88-D9E5-464C-BDC6-84C83E62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501AC6-9D1B-4AF3-B2BE-678920E1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BA5BB0-3FAF-43C6-B29E-98C42C59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2F7E6C-36EC-4E99-9E48-580F1525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A95AF0-99CC-4E53-9997-126B3760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7A721E-EF15-47D5-8635-FFC1388C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E0DD52-EA0F-43AE-91C2-32C35F77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828A66-63AF-4CE8-857F-BE59991B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DAFB40-D44B-417E-8757-A6F5CFC9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22ABAA-33A3-489F-9E9B-13833560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B4E1A-727E-42E7-9C92-ABA5AE86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21565-C5F3-4419-B3ED-9DE819CA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93F05-66A4-4A35-AF14-4648F5EE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8745A3-3C90-4D20-8754-77FA5C79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D0D09E-904E-463A-9086-78E25E2B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2CFF61-8A81-4135-AAEC-9EEA31DA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D270A2-E571-4934-BE5D-ED040AB7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9C74C2-91C2-43A0-8BD2-6BFBFA2F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EC6D04-D9B4-46EA-ACC1-3BB5CC17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452AA7-A4D0-497E-B3B5-D2468529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FC14CB-9FF7-41DB-B276-2F6B7A9C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19F47-BA31-4BD9-8E39-8B13306D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65CDC8-953C-4430-AC42-2AF711EE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43151D-FB3A-45BE-87AC-E2F38A3B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3E2856-F4C6-4B29-84C9-15574233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F503C4-0ABF-44DA-840F-DA563CC4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27F42C-E136-46C0-8B66-03A80683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CCE70E-AD7C-4F8A-B296-17D44744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9A7753-79FF-44F9-9A94-4F7D17A9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62E647-2FAA-4591-825B-B0822BDC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41B816-4ABC-40D3-93FC-921DC275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BAAA86-DE0F-4E76-A3D7-0664E94D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27281-649F-4C6F-8337-99C7AE99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9E8BC7-09D7-409F-A2E8-FF1C0CED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1DFA8C-40B7-4530-8E60-FAEA10DD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7A5E62-73E3-49D3-9C26-C31EF274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588BCC-3ADC-4F53-AED9-CE224373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36F1C0-6C6E-4B29-AA3D-1A14625B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D6192E-4347-4BBE-99F9-3389B9DE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D163D5-B94E-4B5F-81FB-2E586F14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9DE5D6-5D8E-49FE-8C54-EE8BF2DF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F943DB-59FE-4122-9F03-39358755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FF3947-7ADA-419C-87A8-5FAE8959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25C7-2A53-42A8-B4EB-3FF09300F30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8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9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7ED7-FEB2-4E06-8EEF-6BD3576A6B9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30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3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89D0-255D-4662-A872-2CE02FC10C5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ftr" idx="3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sldNum" idx="35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3F2A-EA82-4EAE-A86E-FF61D715CBC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ftr" idx="36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sldNum" idx="38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6820-7E7E-4AD2-A22E-0450D59E454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ftr" idx="39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41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4718-2D6E-49CE-B2FA-12609C92972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2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4DE0-2BA8-43D3-9613-2D6E09FCF45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6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762D-1060-4054-AADA-C9ACCC24615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FC18-FC09-46DA-987F-BA09E59DAD1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12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sldNum" idx="14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A161-D1DD-42DF-8825-7B0147A00C4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15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7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F559-AA2E-45D0-9D0B-BFFC5687707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8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0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6501-52BB-41C1-AA36-7999661F22E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1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3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1422-06DE-4C3D-A73F-B7F3A55F67F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4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26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6C97-F1D3-408D-9BCF-AD7900ED2C7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27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Chapter 9</a:t>
            </a:r>
            <a:br>
              <a:rPr sz="3000"/>
            </a:b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Data Acquisition</a:t>
            </a:r>
            <a:br>
              <a:rPr sz="3000"/>
            </a:b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Comparator-Based Slope ADC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0" y="-1000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900" spc="-1" strike="noStrike">
                <a:solidFill>
                  <a:srgbClr val="ffffff"/>
                </a:solidFill>
                <a:latin typeface="Verdana"/>
              </a:rPr>
              <a:t>MSP430 Teaching Material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6" descr="brasao a cores"/>
          <p:cNvPicPr/>
          <p:nvPr/>
        </p:nvPicPr>
        <p:blipFill>
          <a:blip r:embed="rId1"/>
          <a:stretch/>
        </p:blipFill>
        <p:spPr>
          <a:xfrm>
            <a:off x="860400" y="422100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8" descr=""/>
          <p:cNvPicPr/>
          <p:nvPr/>
        </p:nvPicPr>
        <p:blipFill>
          <a:blip r:embed="rId2"/>
          <a:stretch/>
        </p:blipFill>
        <p:spPr>
          <a:xfrm>
            <a:off x="7667640" y="4365720"/>
            <a:ext cx="752400" cy="72396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15640" y="4220640"/>
            <a:ext cx="676908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Texas Instruments Incorporat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University of Beira Interior (PT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Pedro Dinis Gaspar, António Espírito Santo, Bruno Ribeiro, Humberto Santo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University of Beira Interior, Electromechanical Engineering Departmen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msp430.ubi.p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Rectangle 14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1402-E659-4DF5-B47C-F81296AF7A8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11" descr=""/>
          <p:cNvPicPr/>
          <p:nvPr/>
        </p:nvPicPr>
        <p:blipFill>
          <a:blip r:embed="rId1"/>
          <a:stretch/>
        </p:blipFill>
        <p:spPr>
          <a:xfrm>
            <a:off x="4284720" y="3336840"/>
            <a:ext cx="4859280" cy="30290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Voltage Measurements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arator_A module’s application: Voltage measurement using single slope A/D conversio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lies on the charge/discharge of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pacitor charge: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&lt;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&lt;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ARE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pacitor discharge: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ARE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&lt;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 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me capture to crossing using Timer_A (TACCR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st: Compare to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ARE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nd: Compare to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BA5D-3F4E-48DB-B6EE-2B6D4147F89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Voltage Measurements (2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ltage conversion and timing depends 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 Measuremen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RE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must be stab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C tolerances influence measur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Measurements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ame approach for discharge meth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Object 5"/>
              <p:cNvSpPr txBox="1"/>
              <p:nvPr/>
            </p:nvSpPr>
            <p:spPr>
              <a:xfrm>
                <a:off x="3127320" y="1465200"/>
                <a:ext cx="190044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/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 </m:t>
                                </m:r>
                              </m:num>
                              <m:den>
                                <m:r>
                                  <m:t xml:space="preserve"> 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7"/>
              <p:cNvSpPr txBox="1"/>
              <p:nvPr/>
            </p:nvSpPr>
            <p:spPr>
              <a:xfrm>
                <a:off x="3238560" y="2708280"/>
                <a:ext cx="20905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 </m:t>
                                </m:r>
                              </m:num>
                              <m:den>
                                <m:r>
                                  <m:t xml:space="preserve"> 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Object 9"/>
              <p:cNvSpPr txBox="1"/>
              <p:nvPr/>
            </p:nvSpPr>
            <p:spPr>
              <a:xfrm>
                <a:off x="5770440" y="2701800"/>
                <a:ext cx="25020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 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 </m:t>
                                </m:r>
                              </m:den>
                            </m:f>
                            <m:r>
                              <m:t xml:space="preserve">t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CC</m:t>
                                </m:r>
                              </m:sub>
                            </m:sSub>
                          </m:e>
                        </m:d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21" name="Picture 10" descr=""/>
          <p:cNvPicPr/>
          <p:nvPr/>
        </p:nvPicPr>
        <p:blipFill>
          <a:blip r:embed="rId1"/>
          <a:stretch/>
        </p:blipFill>
        <p:spPr>
          <a:xfrm>
            <a:off x="1908000" y="3427560"/>
            <a:ext cx="52563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A0F2-64EF-4076-A107-9AEE58B5737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Voltage Measurements (3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ope voltage measurement considera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ARE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election should maximize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ran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curacy of result depends on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pacitor charge selection for minimum error time (7 time constant = 0.1% Error from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1F36-BC12-4AFC-9649-4A83319B198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arator-Based Slope ADC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ngle- and dual- slope AD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istive sensors measur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oltage measur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AE84-C10D-4D8D-8442-80EA67C8028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ingle and Dual Slope ADC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ingle Slope architectur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implest form of analogue-to-digital converter uses integr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tho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gration of unknown input volta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lue comparison with a known reference val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ime it takes for the two voltages to become equal is proportional to the unknown volt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ccuracy of this method is dependent on the tolerance of the passive elements (resistors and capacitors), which varies with the environment, resulting in low measurement repeatabil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267A-0D36-4453-B508-5AFEE5E1B3C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4" descr=""/>
          <p:cNvPicPr/>
          <p:nvPr/>
        </p:nvPicPr>
        <p:blipFill>
          <a:blip r:embed="rId1"/>
          <a:stretch/>
        </p:blipFill>
        <p:spPr>
          <a:xfrm>
            <a:off x="1835280" y="2849400"/>
            <a:ext cx="5832360" cy="353232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ingle and Dual Slope ADC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ual Slope architectur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Overcomes the difficulties of the single slope metho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Metho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Unknown </a:t>
            </a:r>
            <a:r>
              <a:rPr b="0" i="1" lang="pt-PT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pt-PT" sz="2000" spc="-1" strike="noStrike" baseline="-15000">
                <a:solidFill>
                  <a:srgbClr val="000000"/>
                </a:solidFill>
                <a:latin typeface="Verdana"/>
              </a:rPr>
              <a:t>input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integration, for a fixed time, </a:t>
            </a:r>
            <a:r>
              <a:rPr b="0" i="1" lang="pt-PT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pt-PT" sz="2000" spc="-1" strike="noStrike" baseline="-15000">
                <a:solidFill>
                  <a:srgbClr val="000000"/>
                </a:solidFill>
                <a:latin typeface="Verdana"/>
              </a:rPr>
              <a:t>int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Back-integration of known </a:t>
            </a:r>
            <a:r>
              <a:rPr b="0" i="1" lang="pt-PT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pt-PT" sz="2000" spc="-1" strike="noStrike" baseline="-15000">
                <a:solidFill>
                  <a:srgbClr val="000000"/>
                </a:solidFill>
                <a:latin typeface="Verdana"/>
              </a:rPr>
              <a:t>REF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for a variable time, </a:t>
            </a:r>
            <a:r>
              <a:rPr b="0" i="1" lang="pt-PT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pt-PT" sz="2000" spc="-1" strike="noStrike" baseline="-15000">
                <a:solidFill>
                  <a:srgbClr val="000000"/>
                </a:solidFill>
                <a:latin typeface="Verdana"/>
              </a:rPr>
              <a:t>back_int.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A291-0F18-42E8-84B2-9D54B2B4CEE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ingle and Dual Slope ADC (3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dual slope method requir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witch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o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arat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solution: depends on the clock frequency and ramp duratio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ome MSP430 devices have no true ADC, but they do have analogue comparator module (comparator_A) that can be used to implement a low power slope ADC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arator_A is present on the MSP430FG4618 (Experimenter’s board)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55D3-5EBF-4796-BA1B-EC8894FE929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esistive Sensors Measurements (1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arator_A can be used to measure resistive elements using single slope A/D conversio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rmistor: Resistor with R</a:t>
            </a:r>
            <a:r>
              <a:rPr b="1" lang="en-GB" sz="2000" spc="-1" strike="noStrike" baseline="-15000">
                <a:solidFill>
                  <a:srgbClr val="000000"/>
                </a:solidFill>
                <a:latin typeface="Verdana"/>
              </a:rPr>
              <a:t>M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varying according to T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chematic diagram of the measurement system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2" name="Picture 8" descr=""/>
          <p:cNvPicPr/>
          <p:nvPr/>
        </p:nvPicPr>
        <p:blipFill>
          <a:blip r:embed="rId1"/>
          <a:stretch/>
        </p:blipFill>
        <p:spPr>
          <a:xfrm>
            <a:off x="2627280" y="3284640"/>
            <a:ext cx="42274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B377-51E9-4791-9340-8DC2382B57B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esistive Sensors Measurements (2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SP430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digital I/O pins (Px.x; Px.y): Charge and discharge C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/O set to output high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to charge C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reset to dischar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/O switched to high-Z input with CAPDx set when not in u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 output charges and discharges the capacitor via R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RE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ther output discharges capacitor via R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+) terminal is connected to the + terminal of the capacit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–) terminal is connected to ref. level (ex. 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ARE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0.25x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utput filter should be used to minimize switching noi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OUT used to gate Timer_A CCI1B, capturing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M_discharg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0F0C-D1B3-4EC1-B328-96BD0981027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esistive Sensors Measurements (3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Ratiometric conversion principl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rge/Discharge timing for temperature measurement system: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4"/>
              <p:cNvSpPr txBox="1"/>
              <p:nvPr/>
            </p:nvSpPr>
            <p:spPr>
              <a:xfrm>
                <a:off x="971640" y="1935000"/>
                <a:ext cx="23320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02" name="Picture 6" descr=""/>
          <p:cNvPicPr/>
          <p:nvPr/>
        </p:nvPicPr>
        <p:blipFill>
          <a:blip r:embed="rId1"/>
          <a:stretch/>
        </p:blipFill>
        <p:spPr>
          <a:xfrm>
            <a:off x="0" y="2492280"/>
            <a:ext cx="7095960" cy="385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3" name="Object 7"/>
              <p:cNvSpPr txBox="1"/>
              <p:nvPr/>
            </p:nvSpPr>
            <p:spPr>
              <a:xfrm>
                <a:off x="5940360" y="1773360"/>
                <a:ext cx="3065400" cy="20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EF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C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EF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C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</m:den>
                        </m:f>
                      </m:e>
                      <m:e/>
                      <m:e>
                        <m:r>
                          <m:t xml:space="preserve">⇔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9"/>
              <p:cNvSpPr txBox="1"/>
              <p:nvPr/>
            </p:nvSpPr>
            <p:spPr>
              <a:xfrm>
                <a:off x="7236000" y="4221000"/>
                <a:ext cx="1680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E33A-CC0D-480A-B7E3-CFB825AC285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esistive Sensors Measurements (4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ope resistance measurement considera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asurement as accurate as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RE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ndepend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olution based on number of maximum cou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charge of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mpacts accuracy (although there are methods to avoid errors by precharge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lope measurement time duration a function of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R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17:19Z</dcterms:created>
  <dc:creator>Dinis</dc:creator>
  <dc:description/>
  <dc:language>en-US</dc:language>
  <cp:lastModifiedBy>Universidade Beira Interior</cp:lastModifiedBy>
  <dcterms:modified xsi:type="dcterms:W3CDTF">2009-02-17T11:40:42Z</dcterms:modified>
  <cp:revision>85</cp:revision>
  <dc:subject/>
  <dc:title>Diapositivo 1</dc:title>
</cp:coreProperties>
</file>