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724-FC80-4DA3-B79E-77E6BC670D2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004F-9C5A-443B-9F56-D82BD143D02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990C-558B-4682-9246-6F888445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9BEB-1332-4BBB-9FC8-FB6082B3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5545-CDFB-4EEE-9DE8-C209CF9C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54C8-6091-4CB5-973F-03825483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D817-6956-4D61-AAFB-611793A9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E776-9C1A-4122-8C5F-334E1593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A527-4E9D-4783-B94D-D389BCB3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562C-D123-4FE7-8C62-7692DF4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0F8D-B8F5-44D1-BAE9-D41DD500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F6D3-E69A-4600-9B74-2EC92F89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9998-E54C-4215-A608-BD9F1243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3AF6-9364-422C-92F2-C22FB20A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364,2,Agenda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4606-4AF7-4C0D-9A2E-088EB3B9F20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80,3,Analogue-to-Digital Conversion (1/2)" TargetMode="External"/><Relationship Id="rId2" Type="http://schemas.openxmlformats.org/officeDocument/2006/relationships/hyperlink" Target="279,5,ADC Specifications (1/3)" TargetMode="External"/><Relationship Id="rId3" Type="http://schemas.openxmlformats.org/officeDocument/2006/relationships/hyperlink" Target="399,8,ADC Specifications &#8211; DC performance (1/8)" TargetMode="External"/><Relationship Id="rId4" Type="http://schemas.openxmlformats.org/officeDocument/2006/relationships/hyperlink" Target="407,16,ADC Specifications &#8211; AC performance (1/6)" TargetMode="External"/><Relationship Id="rId5" Type="http://schemas.openxmlformats.org/officeDocument/2006/relationships/hyperlink" Target="414,22,ADC Architectures (1/4)" TargetMode="External"/><Relationship Id="rId6" Type="http://schemas.openxmlformats.org/officeDocument/2006/relationships/hyperlink" Target="417,26,QUIZ" TargetMode="Externa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9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Data Acquisition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A/D Conversion Introduc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C55-BC23-4191-9DC3-FDA133A3103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3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NL, INL and noise impact on the dynamic ran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L, DNL and Noise errors cover the entire ran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act on the Effective Number of Bits (ENO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easily calibrated or correc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fects accurac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INL e DNL impact dynamic range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148360" y="2679840"/>
            <a:ext cx="389556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95E9-6A8F-4758-9159-0F737F0EFB7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4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ffset err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 bipolar systems, the offset error shifts the transfer function but does not reduce the number of available cod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095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93C3-D6AB-4252-886B-653A1645297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5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ain err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ll-scale error minus the offset error, measured at the last ADC transition on the transfer-function curve and compared with the ideal ADC transfer fun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ay (or not) include errors in the voltage reference of the ADC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36385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EC5A-3A5B-45F2-8822-FCB2076B379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6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ffset and gain errors impact on the dynamic range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796000" y="4437000"/>
            <a:ext cx="431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Offset and gain errors dynamic range"/>
          <p:cNvPicPr/>
          <p:nvPr/>
        </p:nvPicPr>
        <p:blipFill>
          <a:blip r:embed="rId1"/>
          <a:srcRect l="0" t="0" r="27043" b="0"/>
          <a:stretch/>
        </p:blipFill>
        <p:spPr>
          <a:xfrm>
            <a:off x="2411280" y="1628640"/>
            <a:ext cx="4154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55FB-27C6-4AA5-A614-D0E6DFE7BEE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7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ffset (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) and gain (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) errors calib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polar system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ft the analogue input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digital output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y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xes of the transfer function so that the negative full-scale point aligns with the zero poi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+ (1+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 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ly zero volts to the ADC input and perform a conversion. The conversion result represents the bipolar zero offset error. Perform a gain adjust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0E6C-A55B-4AFF-9283-DE6C73B4E36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8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ffset (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) and gain (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) errors calib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nipolar syste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vious methodology is applicable if the offset is positi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ain error can be corrected by software considering a linear function in terms of the ideal transfer function slope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en-GB" sz="2000" spc="-1" strike="noStrike" baseline="-1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measured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en-GB" sz="2000" spc="-1" strike="noStrike" baseline="-1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en-GB" sz="2000" spc="-1" strike="noStrike" baseline="-1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en-GB" sz="2000" spc="-1" strike="noStrike" baseline="-1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 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oth offset and gain errors reduction techniques will imply partial loss of the ADC rang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9706-FB89-45A3-B2A5-A5642611000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9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-Edge Noise: Amount of noise that appears right at a code transition of the transfer func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ltage Reference (internal or external): Besides the settling time, the source of the reference voltage errors is related to the following specif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mperature drift: Affects the performance of an ADC converter based on re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tage noise: Specified as either an RMS value or a peak-to-peak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ad regulation: Current drawn by  other components will affect the voltage referen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emperature effects (offset drift and gain drift).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091B-ECE4-4FE4-830C-29014ACA9FD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AC performance (1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C parame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Harmonics occur at multiples of the input frequenc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908000" y="1689120"/>
            <a:ext cx="56833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23C1-757C-4FFA-A16A-25AB9DA8703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AC performance (2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gnal-to-noise ratio (SNR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gnal-to-noise ratio without distortion compon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rmines where the average noise floor of the converter is, setting an ADC performance limit for no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6" descr="SNR"/>
          <p:cNvPicPr/>
          <p:nvPr/>
        </p:nvPicPr>
        <p:blipFill>
          <a:blip r:embed="rId1"/>
          <a:stretch/>
        </p:blipFill>
        <p:spPr>
          <a:xfrm>
            <a:off x="1476360" y="2565360"/>
            <a:ext cx="6264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3EC8-E33F-4E19-952E-F8A5F637E87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AC performance (3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gnal-to-noise ratio (SNR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an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it ADC sine wave input is given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improved with oversampl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s the average noise floor of the AD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reads the noise over more frequencies (equalise total nois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1155600" y="1773360"/>
                <a:ext cx="35179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R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6" name="Picture 8" descr="Oversampling"/>
          <p:cNvPicPr/>
          <p:nvPr/>
        </p:nvPicPr>
        <p:blipFill>
          <a:blip r:embed="rId1"/>
          <a:stretch/>
        </p:blipFill>
        <p:spPr>
          <a:xfrm>
            <a:off x="2124000" y="3284640"/>
            <a:ext cx="532764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B1BD-5CDB-4D76-82FB-388AFC09D2E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Introduction to Analogue-to-Digital Convers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ADC Specifica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DC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AC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ADC Architectu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A5F-25C2-4E19-BAA6-52FD2813FFA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AC performance (4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gnal-to-noise ratio (SNR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sampling an ADC is a common principle to increase re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reduces the noise at any one frequency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2x oversampling reduces the noise floor by 3 dB, which corresponds to a ½ bit resolution incre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sampling by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imes provides a SNR given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442880" y="4729320"/>
                <a:ext cx="5969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R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12FC-C103-4F20-AD80-C2CE01AE3C1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AC performance (5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gnal-to-noise and distortion ratio (SINA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milar to SN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ludes the harmonic content [total harmonic distortion], from DC to the Nyquist frequenc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defined as the ratio of the RMS value of an input sine wave to the RMS value of the noise of the conver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ting the equation in terms of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provides the number of bits that are obtained as a function of the RMS noise (effective number of bits, ENOB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1619280" y="5234040"/>
                <a:ext cx="3384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AD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</m:d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EB1D-797B-4C21-87B9-DEF9CC1FA89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AC performance (6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tal harmonic distortion (TH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ts increasingly worse as the input frequency increas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mary reason for ENOB degradation with frequency is that SINAD decreases as the frequency increases toward the Nyquist limit, SINAD decre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urious-free dynamic range (SFDR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d as the ratio of the RMS value of an input sine wave to the RMS value of the largest trace observed in the frequency domain using a FFT plo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distortion component is much larger than the signal of interest, the ADC will not convert small input signals, thus limiting its dynamic r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5F5D-B439-4928-A891-541035B24E0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Architectures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many different ADC architectu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ccessive Approximation (SA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gma Delta (SD 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pe or Dual Slo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eli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ash...as in quick, not mem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rcRect l="0" t="0" r="0" b="2092"/>
          <a:stretch/>
        </p:blipFill>
        <p:spPr>
          <a:xfrm>
            <a:off x="1908000" y="3032280"/>
            <a:ext cx="518508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B759-389C-4C8B-BA66-52F342FAD50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Architectures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election of an MSP430 ADC will depend 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tage range to be measur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ximum frequency for A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mum resolution needed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s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alogue input vari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eed for differential inpu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tage reference ran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eed for multiple channels for different analogue inpu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665280" y="3467160"/>
            <a:ext cx="79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2132-D9F6-4C55-B4FA-0B97A5666F1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Architectures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C architectures included in the MSP430 devices populated in the hardware development too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0 Bit SAR: MSP430F2274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eZ430-RF25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Bit SAR: MSP430FG4618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Experimenter’s boa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6 Bit Sigma-Delta: MSP430F201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eZ430-F2013 and Experimenter’s boar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1835-82C6-42CB-A1FC-3C435F26715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Architectures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urther information concerning ADC fundamentals and applications can found on the TI websit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 to MSP430 ADCs &lt;slap115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standing Data Converters &lt;slaa013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Glossary of Analogue-to-Digital Specifications and Performance Characteristics &lt;sbaa147a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timized Digital Filtering for the MSP430 &lt;slap108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icient MSP430 Code Synthesis for an FIR Filter &lt;slaa357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ing with ADCs, OAs and the MSP430 &lt;slap123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s-On: Using MSP430 Embedded Op Amps &lt;slap118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sampling the ADC12 for Higher Resolution &lt;slaa323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s-on Realizing the MSP430 Signal Chain through ADPCM &lt;slap122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plifiers and Bits: An Introduction to Selecting Amplifiers for Data Converters &lt;sloa035b.pdf&gt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A49-84A5-429E-AA8D-DC6BDCC6C7F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iz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9. The performance of an ADC is expressed by which specif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peed, Accuracy, Signal-to-noise ratio (SNR) and distortion ratio (SINA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Offset and gain errors, and Signal-to-noise ratio (SN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Integral (INL) and Differential Non-Linearities (DNL) and Total harmonic distortion (TH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of the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0. Oversampling mea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n ADC performance parameter to limit noi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ampling at a rate much higher than the signal of intere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To increase the re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of the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BB6D-9EF2-4FB4-B3D9-717F32C539C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iz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1. A low cost, low power consuming application that requires a 12 bit resolution with a 100 Hz output data rate should use an ADC with the architectu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lo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igma-Del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S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Fla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EB11-220A-4894-B951-06CF85B1AAA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iz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9. (d) All of the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0. (d) All of the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1. (a) Slo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5064-9AE4-4FD1-8EE9-6D582402E5E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ogue-to-Digital Conversion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analogue world (the real one) interfaces with digital systems through ADC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ADC takes the voltage from the acquisition system (after signal conditioning) and converts it to an equivalent digital cod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ADC ideal transfer fun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or a 3 bit ADC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is given b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digital code can be displayed, processed, stored or transmitted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rcRect l="0" t="0" r="900" b="1142"/>
          <a:stretch/>
        </p:blipFill>
        <p:spPr>
          <a:xfrm>
            <a:off x="5143680" y="2544840"/>
            <a:ext cx="39639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6FE-1A8B-4899-A4BF-92EBA541960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ogue-to-Digital Conversion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sufficient analogue peripherals in a number of MSP430 family devices to realize a complete signal chai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alogue class of appl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more or less defined by bandwidth ran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 an established resolution r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0" t="0" r="625" b="1215"/>
          <a:stretch/>
        </p:blipFill>
        <p:spPr>
          <a:xfrm>
            <a:off x="1689120" y="3284640"/>
            <a:ext cx="60516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EE0A-5573-47C4-A620-B8B7915AA1C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solution,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mallest change to the analogue voltage that can be converted into a digital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east Significant Bit (LSB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solution only specifies the width of the digital output word, not the performan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MSP430 devices offer a high-precision AD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0, 12 or 14 Bit S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6 Bit Sigma-Del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5425920" y="2419200"/>
                <a:ext cx="8845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F1B6-233B-421C-AF0F-8C8E3810C78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ccurac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gree of conformity of a digital code representing the analogue voltage to its actual (true)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express as the “degree of truth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7" descr="Resolution vs Accuracy"/>
          <p:cNvPicPr/>
          <p:nvPr/>
        </p:nvPicPr>
        <p:blipFill>
          <a:blip r:embed="rId1"/>
          <a:srcRect l="0" t="10776" r="0" b="0"/>
          <a:stretch/>
        </p:blipFill>
        <p:spPr>
          <a:xfrm>
            <a:off x="1619280" y="2565360"/>
            <a:ext cx="61927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9C6B-BBDF-4977-9B61-D09FD9371D9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erformanc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pends on the following specific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pe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also depends on the circuitry typ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ial Non-Linearity (DN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l Non-Linearity (IN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fset error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ain error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gnal-to-noise ratio (SNR)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gnal-to-noise and distortion ratio (SINAD)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 harmonic distortion (THD)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purious-free dynamic range (SFDR)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2FD1-8565-4C82-B85E-28E238E42DD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1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fferential Non-Linearity (DN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rmines how far an output code is from a neighbouring output code. The distance is measured as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onverted to LSB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o DNL error requires th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s 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IN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is swept over 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ange, all output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ombinations will app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t the converter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NL error &lt; ± 1 LS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nsures no missing co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40323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181A-9814-4CE2-9188-BF8CCFBC3F1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C Specifications – DC performance (2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gral Non-Linearity (IN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integral of the DNL erro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s the difference between the measured converter result and the ideal transfer-function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INL e DNL errors"/>
          <p:cNvPicPr/>
          <p:nvPr/>
        </p:nvPicPr>
        <p:blipFill>
          <a:blip r:embed="rId1"/>
          <a:stretch/>
        </p:blipFill>
        <p:spPr>
          <a:xfrm>
            <a:off x="2467080" y="2492280"/>
            <a:ext cx="41925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7T10:56:58Z</dcterms:modified>
  <cp:revision>83</cp:revision>
  <dc:subject/>
  <dc:title>Diapositivo 1</dc:title>
</cp:coreProperties>
</file>