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E8FB-5A11-4686-ABE7-DD832E1C1665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E11F-F6D9-48C2-8018-E9CA3BD8376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C6E5-2417-4C9F-AC25-6D8329FA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713B-7997-4293-8872-B9B03F29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1C717-F8B1-4317-948C-5B10EBD9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A6F10C-4712-43BB-9A37-08E63EDB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B91EFF-F97F-4EBC-B902-BB255B09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7389B6-FA6E-4F1C-AF19-6036FBC4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D37BDA-2A5C-4357-A6B6-6797F003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467B9-C120-4DD5-B15A-FB80C98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D86D82-484A-49C9-9BB0-A0599437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A4C758-A7BB-4020-9CB9-C7D7CF8B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577640-837F-4EDB-B3F1-242F8084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067F2C-16A6-40BC-9E59-EE8EE51F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BDAE-C892-4F85-A702-D17B1D28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323A38-0A1E-4F68-B5C9-755FFA3B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BA8552-EFC8-46D3-8D29-D282F298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A29751-FBB7-434A-94CA-DE3432A3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629E17-223D-4AD6-947C-77BAFB67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7842CB-6AB6-46B1-A8CA-1696D9A8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8BD1A7-92EB-4AF2-99E6-5740CCB6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908EEC-98BF-40B6-B300-32C2EA85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101108-1E0C-4DC8-84FC-D27F5263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70FBF4-C5E3-40E0-8818-12710C23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0E6150-F040-46C7-AAA3-BED9A0C1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261B-D533-4310-BE01-C85FC08D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034B40-EE81-4FAB-99D2-227E9F54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4AFF43-3829-4B7F-97C2-D269B0FF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7277A6-A6EF-49BB-8F09-E95AFDD7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1A0D28-2A8A-4F3D-9DE9-FA148E19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04FAC9-0ED9-4B8B-97A4-8578955E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92C057-CCCB-41E7-8765-BCA1C292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6E89B9-7040-4B51-8EEF-8F68EF9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E3C28F-B293-4C76-A9AC-3A0CBC4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FFD267-C391-4A2C-A7C0-FCEB3C3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7C4B36-78F6-4D44-9550-C67E6A7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6B325-563A-42DF-BD15-C1AD3427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A23455-C374-4F1F-A310-129630E2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095ABF-5582-42A6-A060-4427AEA1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DE651A-6F9F-44DE-81BA-95EF2CA6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9BF4F6-A003-4109-91FC-A1B3BFBF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BB202B-DAD5-4150-A082-2F1B8888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110196-67DB-442B-A035-E19DC70C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8A6F7A-760A-4269-9BA3-D5834218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D7C55F-4F70-4F0A-AA89-032266C3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6C586B-7910-4439-A46A-02754AFD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BEBBF1-C77E-476C-BE45-BFAB6609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D9E68-FFAC-4FB6-87F8-765C7330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4BC883-D71E-476A-BDF8-0DECB983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8BDE41-BD70-410D-89A4-7286EC2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CCEB82-F106-45DA-B09B-14BB9F8A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66E4E5-1659-437E-BB38-907809A5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ECC8F1-9D3E-48BB-82E1-8182F033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54A64D-B553-4334-A49B-95131CDB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97A343-EC07-427E-8301-C6DBD384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72232F-CD73-434B-821E-A62F0F58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DCBD65-689B-4AC9-9AE4-8D1EE605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E2695B-6C7F-4948-B5DC-364A8639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0576D-71DC-4904-ACDD-716EFACF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513AAF-3FFF-47E2-A30D-AA7AF591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38C4E8-16CC-474B-B457-7FB6DF3F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26405E-289D-42A6-9590-6EC8E2CF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5E776B-C416-4061-8418-80116009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04DC86-243A-47F2-A183-4C0711C7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6FD9F4-F236-4F63-868B-C33D0168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40AB8D-A007-451B-8788-537A0A21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6B359-6E2A-4758-AA9F-B04F0B5B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5AD7A-68F5-40C6-BB85-D664CBA3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74A5C-A421-4105-8654-489246B0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42F6D-E9B5-498B-94A0-D4448430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828B-B61F-46DE-9CDA-FB644B49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E986A-73E6-453B-8EF1-9502C713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6258E-6F26-4041-B11D-C95B71E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DCCEA-258C-4013-BB64-2D254F23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01EFA-39B1-4226-889F-33518AE6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4B4F0-9379-4957-8573-67FA503E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9D690-A60D-4D7C-B343-AA6EADDB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F489C-142B-4D10-9B3D-217DB1C3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F7EFD-23B1-418C-975F-BD66FE4E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EDE09-6C73-46FC-8E56-6F530CF0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C87E0-9DFC-41C8-A270-A3CC5BFA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8C54-2A90-4E47-9A7E-EA717EFF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1E905-7948-4938-915A-2C348091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E57B5-E2A9-4AF1-A710-C89A88D1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60FD9-81C7-450B-8CB5-D1C70CAF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B7B29-6FA1-4E9E-B377-76B9FF1B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4EF3C-3B8F-4A21-885B-55E60176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8E29B-1416-439D-986A-1C3C769D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4B6D0-3E0A-4312-8494-F9DF7A56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8909E7-AB0C-43E6-834C-1DD002BA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5A17B-BC4F-4A1E-8034-7A26041B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73575-CCF7-40E4-8E85-93146C1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8AE5-B112-4CFD-AC32-807F3591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D8140-C830-4E2F-8D92-F8A5251C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54D59-801F-46D1-A336-B980B3AF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F3E1A-7490-4D70-A7DE-E3D7D6E6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E81CA-00C2-4AF1-9C16-CC4F4653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034D6-9307-4E66-B37A-A37949DE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B968C2-6344-4FD6-8126-BDC549E8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87BA3-A2E6-4ED1-86AD-9F730FAC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2A6F3-AA97-46ED-AD07-BF989919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80976-4F63-4B97-9AEF-87D58A67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5E125-5387-4BDE-A6DD-E0894C6E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98D4-4600-45D1-A15D-B0B46A6C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A48C9-6A12-4454-8EC8-F5B31D24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B78F3-4722-4BD8-9B7F-73B902B6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A6521-EE66-4A40-B37F-D3FA3F96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04743-0228-44C2-AD98-409EE36E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DA956-BD1C-494A-B573-813416ED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AD0AF-E0D3-446E-B905-61235007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E1601-24F7-43D7-97AA-786C99A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53170-1B90-42B9-B73D-BDCB92C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58F35-DC61-41C4-A4FC-3B144357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1B0BC-6F16-45F2-9209-2E838546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5C88-DD8F-4EAD-8E66-21EDC749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0B031-3483-44F7-B885-3CD00039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7D330-5A1E-497F-B0F6-1F026043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C6E4A-BB40-48EA-ABF2-FEBB3B8A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9206B-4BD4-43C2-BC64-7F2E3F5F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4339D-53A9-4E85-ACE1-4211C2BA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D9FA7-E60A-486C-8FB3-4FABCC64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CB042-7CDD-4523-89AE-ADA6A86A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FD07E-150D-45BF-9FFC-F848880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D9F69-2D6B-4B55-B8E4-9023ADC8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FF815-1F31-4CC5-B18F-68A55095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71EA-3D8E-437F-96C0-6B7ACFEF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012DB-870D-4DEC-A314-D2C5C4FD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E5FA1-C7E9-4EAF-9D9A-A04976B0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DDF23-15A7-4161-937A-17D6EDF0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1ED612-1F07-4349-9DA3-0381389F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5E7A0-695E-4BA3-AF2E-B34F02D5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7F9578-A4D3-4F70-95F6-05124689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229E6-7978-4471-BCF8-F27742E9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F8A71-CFD6-4D32-9026-796DAE52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B7007-C9D1-4EA5-92E2-F66F1CD2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5415A1-6E77-4076-A662-F0D07C90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C7476-CBEB-451B-96C0-9D4F7E33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00439-4747-4D05-BE2A-933BD9A4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44931-4FCD-4C3C-AB90-0DAB311E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D5EF0-789E-4349-AE4E-DE405596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7BF97-66D3-4682-943C-0A5C05B5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789CF-FFA3-44F0-AC9E-92C12B3E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8B5D7D-913B-4A38-B686-9C6E658E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EE44D0-F791-4F35-93C4-3A33AF2B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F5C91-7CFC-4DC5-BA49-BED0FA7A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4B4F1-B1AB-48E0-A36A-090E7C87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E3932D-1B24-4962-844C-D2872836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FD8A-4F25-4EC1-AF00-C7FAE409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30879-2C79-40B3-8F49-B36E9E75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4B5C3F-2217-4A41-85B8-12BF4AFE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177F20-3141-46B9-9474-30A6C37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0F03E7-6D8D-4319-A845-E2E41C0C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B60EEC-E5CC-401B-B131-FF9817E0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74A499-7411-4A5E-9D19-1DD8767F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83BC5E-C805-4222-AA10-7E001FB5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F3E554-5CA4-4BD7-B5E6-A8E76760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7B4DE-CA2E-457D-9FA2-F63FF692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63F362-E095-4381-A90A-3A1A0333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1BAA-9B1C-4A1C-9036-13F1457B062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9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E2A3-3775-449D-990E-32F925E5B27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30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B3CF-0748-44DA-A9B6-AD38FBEB921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ftr" idx="3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35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9284-B467-4482-BA29-11283542A90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ftr" idx="36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38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5DC5-666B-43E2-A6BD-88AF1AE6183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ftr" idx="39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13BD-056A-422F-A34F-8C98EF2748A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3CB7-8F90-42F9-99E7-CC0DFD5DE3A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B19A-B0BD-4A51-91F9-3C75316BE52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2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4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1569-B0AB-4E9C-8478-72789ACF65B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5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D7A8-4F6C-4441-BF8D-4F8D31984BB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4C80-07E3-45A9-BAF3-CE71D398665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7A2C-D1B2-4CE6-9976-D6555214426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6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E047-3347-4194-B9ED-B9AB34D27AE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7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9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Data Acquisition</a:t>
            </a:r>
            <a:br>
              <a:rPr sz="3000"/>
            </a:b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Comparator_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brasao a cores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8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Rectangle 14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A2B9-2895-429C-9089-789C7505CF4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D: Voltage signal comparis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bjectiv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With the Comparator_A module included in the MSP430FG4618 of the Experimenter´s board hardware development tool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form a comparison of an external voltage signal with the internal referenc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Detail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Like the previous exercise (Lab4), this one is composed of several sub-task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is laboratory has been developed for the </a:t>
            </a:r>
            <a:r>
              <a:rPr b="0" i="1" lang="pt-PT" sz="2000" spc="-1" strike="noStrike">
                <a:solidFill>
                  <a:srgbClr val="000000"/>
                </a:solidFill>
                <a:latin typeface="Verdana"/>
              </a:rPr>
              <a:t>Code Composer Essentials version 3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software development tool onl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C7A8-E9E8-416F-98BB-F147B10EB1E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D: Voltage signal comparis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ject fi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source files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9 &gt; Lab5 &gt; Lab5D_student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ution file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9 &gt; Lab5 &gt; Lab5D_solution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verview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laboratory analyses the operation of Comparator_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voltage is applied to one of the comparator inputs, generated either by the DAC12 or by another external sour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ever the external voltage value is higher than the compare value internally generated, an interrupt is generated that switches the LED st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8D7D-69A3-4404-97B4-A7EF43BD8AD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D: Voltage signal comparis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esources used by the application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C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rator_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gital I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r_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560C-BA91-4DAF-9677-A58E3E0955B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D: Voltage signal comparis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pplication starts by stopping the Watchdog T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r_A is configured to generate an interrupt once every 1 msec, with the output of the DAC12 updated in order to provide a ramp sign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mparator_A’s output is configured to be accessible at pin P6.6, which is available at the Header 4 pin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ignal applied to CA0 input is compared with 0.5x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ternal reference volt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very time that a compare match occurs, an interrupt is requested and switches the state of LED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CF1A-DDB8-4ECF-8979-EE07FC669C3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D: Voltage signal comparis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_A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registers in order to receive the external signal at the CA0 input and compare it with the internal reference 0.5x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 the comparator with an interrupt triggered in a low-to-high transition of the comparator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ACTL1 = 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ACTL2 = 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7A93-4AE3-472D-9ACB-A572E4A1FB4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D: Voltage signal comparis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erification of this laboratory experiment can be accomplished by connecting the output of the DAC12, available on Header 8 pin 7, to the Comparator_A’s input CA0, available on Header 4 pin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itor the signals wave form at the input of the Comparator_A input and output using an oscilloscop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D1 switches state whenever the input voltage value is lower than the compare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C91E-780A-4ECD-82B1-474BD7663DA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5D: Voltage signal comparis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_A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ACTL1 = CAON + CAREF_2 + CARSEL;    // Enable comp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ref = 0.5*Vc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ACTL2 = P2CA0;                      // Pin to CA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0" y="1052640"/>
          <a:ext cx="9144000" cy="1006200"/>
        </p:xfrm>
        <a:graphic>
          <a:graphicData uri="http://schemas.openxmlformats.org/drawingml/2006/table">
            <a:tbl>
              <a:tblPr/>
              <a:tblGrid>
                <a:gridCol w="4694400"/>
                <a:gridCol w="4449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Courier New"/>
                        </a:rPr>
                        <a:t>MSP-EXP430FG46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Courier New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Courier New"/>
                        </a:rPr>
                        <a:t>Using the MSP-EXP430FG4618 Development Tool and the MSP430FG4618 device,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 a voltage signal comparison with an internal reference.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A4FF-9C4B-4860-9D2C-2CB73D57A03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1/3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2. Using the Comparator_A to measure resistive elements, its accuracy is limited b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Precision of resistors, number of counts, capacitor prechar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Precision of resistors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C stability, capacitor prechar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RC tolerance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C stability, VREF stabilit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3. To use the Comparator_A with internal low pass filtering, the control register bi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CAON must be re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CAF must be 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CARSEL must be re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CAEX must be 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7BF6-A617-46D5-951F-558308BF8A8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2/3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4. To use the Comparator_A with an internal diode reference voltage at the positive terminal, configure the control register bi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CAREFx = 2; CARSEL = 0; CAEX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CAREFx = 1; CARSEL = 1; CAEX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CAREFx = 3; CARSEL = 1; CAEX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CAREFx = 0; CARSEL = 0; CAEX =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0B5D-2EF5-45A6-B7CE-B5241F2B2B1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3/3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sw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2. (a) Precision of resistors, number of counts, capacitor prechar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3. (b) CAF must be 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4. (c) CAREFx = 3; CARSEL = 1; CAEX =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60A8-7AE6-42CE-ABD7-3A00D689EB3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roduction to Comparator_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ltage reference generat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_A interrup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_A registe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5D: Signal Acquisi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Qu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B913-4ED9-43E9-9809-0AC0D808D7F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troduction to Comparator_A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_A module is primary designed to suppor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 cost precision slope A/D convers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istance measure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oltage measure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urrent measure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acitance measurements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few external compon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ttery-voltage supervis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itoring of external analogue sign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 is used on the FG4618 device (Experimenter’s board)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DB06-91F0-4120-A8FA-AEB9FAC0CB2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troduction to Comparator_A 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_A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6" name="Picture 6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59058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8BEE-F2D8-40CC-B416-54067F6BBF9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mparator_A Featur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_A featur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ltiplexed inverting and non-inverting inpu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ftware selectable low-pass filter (RC) for the out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r_A capture in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 (one interrupt vector with enable): CAIF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rnal: GP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ftware control of the port input buff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able references, external or internal (reference voltage generato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A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0.25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A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0.5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A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~0.55 V (diod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rator and reference generator can be powered d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10BC-826E-4B17-9AE8-867A3D9C296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mparator_A compon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rato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res the analogue voltages at the (+) and (–) input terminals (CA0 and CA1 for a non-inverting topolog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mparator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22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OUT = 1: CA0 &gt; CA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22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OUT = 0: CA0 &lt; CA1 and CAON = 0 (switched off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2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alogue input switches (selected with P2CAx bits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ividually connect or disconnect the two comparator input terminals to associated port pi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utput filter (CAF bit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the internal low pass filter to reduce errors (in accuracy and resolution) associated with comparator oscill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E473-7221-421B-B491-8ECB110134B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mparator_A interrup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ne interrupt flag, CAIFG, and one interrupt vector are associated with Comparator_A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dition for an interrup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IFG = 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sing or falling edge at comparator output (CAIES bit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 request when CAIE = 1 and GIE =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IFG = 0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 request servic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Reset by software.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4B1D-F009-4EEA-ADEF-FBE73B8DF2F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mparator_A (1/2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Register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ACTL1, Comparator_A Control Register 1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9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92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4" name=""/>
          <p:cNvGraphicFramePr/>
          <p:nvPr/>
        </p:nvGraphicFramePr>
        <p:xfrm>
          <a:off x="0" y="2146320"/>
          <a:ext cx="9144000" cy="4192560"/>
        </p:xfrm>
        <a:graphic>
          <a:graphicData uri="http://schemas.openxmlformats.org/drawingml/2006/table">
            <a:tbl>
              <a:tblPr/>
              <a:tblGrid>
                <a:gridCol w="795240"/>
                <a:gridCol w="1036800"/>
                <a:gridCol w="7311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arator_A exchang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EX = 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changes the comparator inputs and inverts the comparator outpu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103480"/>
                          <a:tab algn="ctr" pos="3703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arator_A referen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103480"/>
                          <a:tab algn="ctr" pos="3703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EX = 0: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EX = 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103480"/>
                          <a:tab algn="ctr" pos="3703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SEL = 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+ terminal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- term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103480"/>
                          <a:tab algn="ctr" pos="3703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SEL = 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- terminal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+ term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arator_A voltage referen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1 CAREF0 = 0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ternal (Internal reference of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1 CAREF0 = 0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0.25 V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1 CAREF0 = 1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0.5 V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1 CAREF0 = 1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EF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0.55 V (Diode refere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arator_A on when CAON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arator_A interrupt edg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IES = 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ising 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IES = 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ling 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arator_A interrupt enable when CAIE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Comparator_A interrupt flag, CAIFG = 1 when an interrupt is p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37EE-1F43-4025-B263-C93048C8079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mparator_A (2/2)</a:t>
            </a:r>
            <a:br>
              <a:rPr sz="2400"/>
            </a:b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Register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ACTL2, Comparator_A Control Register 2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APD, Comparator_A Port Disable Regis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8-bit CAPD register allows individual enable or disable of each P1.x pin buffer, when the corresponding CAPDx = 0 or CAPDx = 1 values respectively are configur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9" name="Picture 6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9255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7T11:43:36Z</dcterms:modified>
  <cp:revision>93</cp:revision>
  <dc:subject/>
  <dc:title>Diapositivo 1</dc:title>
</cp:coreProperties>
</file>